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25C-0577-43B9-9B1C-2A146F3E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DC2-FF8D-4EBC-9ECE-3768CE4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741-6CDD-4DE5-81A3-0F50A2CB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05C-FE86-4592-9927-D89CC29A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C19-32B3-467A-B65C-CDD5BED3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69F-3598-4704-93A5-6F471CE2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0D2-4D8F-4BFD-A187-037F10CB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086-993B-4FB0-A4D1-BCAC48A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C46-E004-4214-A9E2-828229A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0A8-0811-4DE0-B6CB-8A2FBCFE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B5F-9325-4C98-994B-E27431A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4E4-01E9-46D9-806A-9046E975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A4E-1ACF-4506-A18D-EAE9D09F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wmpaud2.wav" TargetMode="External"/><Relationship Id="rId4" Type="http://schemas.microsoft.com/office/2007/relationships/media" Target="file:///tmp/home/.config/libreoffice/4/user/gallery/wmpaud2.wav" TargetMode="External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chimes.wav" TargetMode="External"/><Relationship Id="rId7" Type="http://schemas.microsoft.com/office/2007/relationships/media" Target="file:///tmp/home/.config/libreoffice/4/user/gallery/chimes.wav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898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0099"/>
                </a:solidFill>
                <a:uFillTx/>
                <a:latin typeface="Haettenschweiler"/>
              </a:rPr>
              <a:t>Тема</a:t>
            </a:r>
            <a:r>
              <a:rPr b="0" lang="en-US" sz="6000" spc="-1" strike="noStrike" u="sng">
                <a:solidFill>
                  <a:srgbClr val="66ff66"/>
                </a:solidFill>
                <a:uFillTx/>
                <a:latin typeface="Haettenschweiler"/>
              </a:rPr>
              <a:t> </a:t>
            </a:r>
            <a:r>
              <a:rPr b="0" lang="en-US" sz="6000" spc="-1" strike="noStrike" u="sng">
                <a:solidFill>
                  <a:srgbClr val="cc3399"/>
                </a:solidFill>
                <a:uFillTx/>
                <a:latin typeface="Haettenschweiler"/>
              </a:rPr>
              <a:t>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34100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ial"/>
              </a:rPr>
              <a:t>Чтобы путь был</a:t>
            </a:r>
            <a:r>
              <a:rPr b="0" lang="en-US" sz="4000" spc="-1" strike="noStrike">
                <a:solidFill>
                  <a:srgbClr val="ff3399"/>
                </a:solidFill>
                <a:latin typeface="Brial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ial"/>
              </a:rPr>
              <a:t>счастлив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489800" cy="367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7574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  <p:seq>
              <p:cTn id="3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537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  <p:seq>
              <p:cTn id="3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85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3399"/>
                </a:solidFill>
                <a:uFillTx/>
                <a:latin typeface="Arial Black"/>
              </a:rPr>
              <a:t>Цель уро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Научить выполнять правила безопасного поведения на улицах и дор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Учить работать с книгой, рецензировать ответы товарищ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cc"/>
                </a:solidFill>
                <a:uFillTx/>
                <a:latin typeface="Haettenschweiler"/>
              </a:rPr>
              <a:t>Отгадай загад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Встало с краю у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В длинном сап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Чучело трёхглаз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На одной н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Где машины движу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Где сошлись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Помогает улиц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Людям перейт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0099"/>
                </a:solidFill>
                <a:uFillTx/>
                <a:latin typeface="Times New Roman"/>
              </a:rPr>
              <a:t>Светоф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3920" y="2438280"/>
            <a:ext cx="279360" cy="27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10364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537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0099"/>
                </a:solidFill>
                <a:uFillTx/>
                <a:latin typeface="Brial"/>
              </a:rPr>
              <a:t>Исправь ошибки</a:t>
            </a:r>
            <a:r>
              <a:rPr b="0" lang="en-US" sz="6000" spc="-1" strike="noStrike">
                <a:solidFill>
                  <a:srgbClr val="cc0099"/>
                </a:solidFill>
                <a:latin typeface="B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Ходить разрешается по проезжей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Переходить улицу только там где, полож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Можно кататься там где, ездят автомоб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Переходить только на жёлтый сигнал светофора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85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936360" cy="66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936720" cy="66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 rot="19277400">
            <a:off x="3492360" y="5300280"/>
            <a:ext cx="45720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 rot="1179600">
            <a:off x="3924000" y="5300640"/>
            <a:ext cx="45720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530200">
            <a:off x="6443640" y="3428640"/>
            <a:ext cx="762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0099"/>
                </a:solidFill>
                <a:uFillTx/>
                <a:latin typeface="Arial Black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.Какой стороны придерживаются пешеходы и машины на дорог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С) 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З) пра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.Если человек находится внутри транспорта, путеше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Н) пассаж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М) 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.Место, отведённое для  ходьбы пешеходов н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А) троту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О) шо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4.Знак пешеходный переход выгля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Т) синий квадрат, внутри белый треугольник с изображением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) красный треугольник с изображением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.Переходя улицу, надо сначала посмотре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А) напра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О) нал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6.С какого возраста разрешается езда на велосипеде по улицам г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Г) с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К) с 14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68360" y="5572080"/>
            <a:ext cx="57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59280" y="5572080"/>
            <a:ext cx="574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95640" y="5445000"/>
            <a:ext cx="647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3640" y="5516640"/>
            <a:ext cx="57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12000" y="5572080"/>
            <a:ext cx="50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20000" y="5572080"/>
            <a:ext cx="79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620640"/>
            <a:ext cx="540072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627280" y="5551560"/>
            <a:ext cx="31431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9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еремена!!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3:25:50Z</dcterms:created>
  <dc:creator>User</dc:creator>
  <dc:description/>
  <dc:language>en-US</dc:language>
  <cp:lastModifiedBy>User10</cp:lastModifiedBy>
  <dcterms:modified xsi:type="dcterms:W3CDTF">2007-02-01T05:26:39Z</dcterms:modified>
  <cp:revision>10</cp:revision>
  <dc:subject/>
  <dc:title>Слайд 1</dc:title>
</cp:coreProperties>
</file>