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ECB-86CD-4274-9839-85116CB5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EE3-8FAE-43E9-A1CA-1638C20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A8B-9102-40A5-8CA6-F03FB79E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38E-AA73-449B-88D2-8A91937D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5035-0D59-4573-9D19-574D1F7C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0F2-EE6B-41FE-9CD7-425121F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ECBB-8118-4A11-9686-8FF6EEBE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6341-7CB0-4CE6-9960-4A56146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649-C9E2-4E74-8C93-71A67D6B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F98-42F2-4C3E-B981-588CBDF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C19-2BD6-4F55-BC1B-4F2640E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311-1B79-49B9-8728-01A8B4C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2F7-B755-420B-8F7C-90BFB98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F20E-0C13-47AB-9C9C-4438C8D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76F-1E57-4728-BA1C-D899526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2A13-9B67-4545-8704-0B596372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5B27-ABAC-4328-99D8-231D4C18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258F-CCDD-4484-AC3F-F85DB1C3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76ED-5C3F-440E-AEDF-0B321C44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1EAC-AC23-4C72-9DC0-7DEC40D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D5F4-38B5-4E61-BA53-9080ECF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B6FB-70DC-4B5A-A3E3-4F49A3B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1CE-7D46-4383-9FF7-46757E8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BADE-399E-42E1-BEB6-11978A6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79C0-4655-4C05-9AF0-338D6EB2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AECC-AB11-41EA-B209-CFF7D0A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00F6-A3DD-47E6-BA7F-1DEE080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99D9-B8C0-4CE5-AF6D-4C07E53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CE82-96B9-4F7A-97D9-35F9E438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53A6-DAB6-46E2-9EB4-6F7502B8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D5B4-2965-480F-9B1B-EAA8E43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799E-1558-4ADA-932B-80581C8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9CB8-077D-4D52-85BE-D3C3E72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F7B-DACD-4DFD-BC2E-71CA2282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222A-E7E1-44B5-A583-F2C8935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BCAB5-8B71-415D-8B32-4C531A48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1BCA-7561-4F0B-9628-0FFFBEC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0049-D693-4CCB-AC12-6A44E14F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6342-32D1-4B38-90F2-3B77B3D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A509-8A5C-460B-B139-6A354EB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887C-AB4A-477E-9C81-E5C85CF7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7C82-80CE-4714-A0C0-034B352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330A-EFC1-488B-9F01-F06B3FFE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B5C4-4816-4592-9E2E-54A1D427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353-3F6B-422C-BCB4-AAA548C1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92F0-49AB-4723-AAF4-D1360CE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255F-DF90-4A34-9EF0-D82F10C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1E79F-6CF0-4C9F-A24D-52D0FD6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3478-B589-492E-BC17-868370F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CE72-B07E-424F-B820-136F2F7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53EA7-A00B-4FA4-B84A-0B9CC91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19C1-08AB-4566-B23F-1628B38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CCE6-4687-4F39-81B6-0A2612F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BFC8-87FE-44FC-BD9A-878F683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01FC-DC9F-4298-8D53-3A87E2AA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F41-AAC2-432F-BF2D-EA358A3C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9F5C-DAB2-4070-9606-99270837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6AA-C0CF-499F-ADA6-4AA1F07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F39-EA1C-4760-BF64-F70CD09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AF1-B5B5-448E-8C7D-8CBA1AA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0760-7123-4C6C-9DBC-BB0836A9DCD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88D-4CAE-4A57-80BD-4BEEFA33E02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D93E-BFB6-494D-8A99-96FB06EF2DA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E1B-F863-4967-B3A1-5152E5C2DEA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9A4-ED42-4154-88CA-8A213A6DFD0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08360" y="4076280"/>
            <a:ext cx="5114880" cy="248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Презентация созда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учителем-логопе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МБОУ Лучановской СОШ Пыжик Татьяной Егоровно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2891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3490920"/>
            <a:ext cx="3816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6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56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903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900108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7564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837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20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04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203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9012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3756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7888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8356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91216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5568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4872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13f9a"/>
                </a:solidFill>
                <a:latin typeface="Arial"/>
              </a:rPr>
              <a:t>СПАСИБО ЗА ВНИМАНИЕ!!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357720"/>
            <a:ext cx="98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Презентация создана по материал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книги Н.Ю.Костыле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c66bb"/>
                </a:solidFill>
                <a:latin typeface="Arial"/>
              </a:rPr>
              <a:t>«Покажи и расскажи» М.: ТЦ:Сфера, 2007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155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9336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6168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756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7724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61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011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2-04T07:52:35Z</dcterms:modified>
  <cp:revision>19</cp:revision>
  <dc:subject/>
  <dc:title>Слайд 1</dc:title>
</cp:coreProperties>
</file>