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98C-F74F-4827-BF9C-F8962B61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6AE-610A-442F-883B-1A64D29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1C1-FF6A-4EEA-A4FC-B4157C58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5E6-F962-4A07-A637-C76C812E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C30-5AFE-4B7E-909D-6FE1B24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406-7861-40FF-BDD4-2483A8A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EBEC-4AC4-4EA2-A0C8-73988DCF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6F55-F12F-47FB-B2AB-822358C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4565-2A21-4162-A546-931B59D1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39F3-E8A9-4814-AF68-7414DABC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8DB7-00AC-4CF3-8D73-3E23833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A64-85BD-4605-A24A-3895D77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C7D-CA2F-4931-A1C7-10CB385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02D-C074-4D2D-ADC4-44CE753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B48-24EF-4B7A-A0CC-698D3CE9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8099-387C-4D4F-80E0-9C1FFF2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1F2-061F-4689-8A17-3C5231A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5921-E446-4E9B-AC91-12CFAD10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DECF-376A-4226-A65F-7F2090A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BE66-8968-49D0-B7F8-8A910A2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F75A-9466-477D-AC85-6A947642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E694-43D3-4CDA-B414-9BF1B0FC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D86-4562-48D7-BD8D-8399EB6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C8D6-BC5E-4BD3-A7E3-CF119161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50C8-78D4-4EFF-88D8-1F9DBAB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779B-DCD5-454E-A759-00A5A44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3997-A5E1-4A17-A31C-C10FDFA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247D-7DC4-4CB9-8933-3088F417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C2D3-499A-42DC-A91D-F798BAC2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7EF8-5773-47B3-8121-083AD831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F5B2-F84B-4162-91B2-4CDD54D8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3946-6513-4F38-9B9E-B247362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4948-3430-4FBA-9CD0-C11E537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D8B-D5EC-4E32-AD08-9236FCA7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7D94-0D39-4668-881C-03EC826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C2CC-A836-4EC9-9174-96FE07B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6531-0B16-437B-B181-2F8EF6C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5C1D-6891-4175-870B-BEBCCF5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B095-0C36-4AA3-B0FA-27BE0B4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AE2C-4A46-4A04-93D3-4E3B204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935F-206A-49EE-A3F1-00A18690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F2C7-CBAA-4E67-BC57-4832B805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D8C8-1965-46C9-ABAC-55E5346A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ACD5-4FBD-41B5-956C-BBCC5B8B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C6F-7475-4F4E-A229-B50B39E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143E-EF5A-48BB-9972-3B2FDEDD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304D-F4DC-4D9D-97D8-2C5410DD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5364-9295-436F-A73D-E48E911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23503-6CD8-4E1B-A2EC-2ABD9A6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1C46-C751-4BD3-B7D7-8D848F89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4415-820E-4394-9921-D1DD939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F026-D468-401A-B129-1FC741B5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A9E5-4C73-4A59-A608-4F55464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C925-8A83-4CEE-8F48-4C642A6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2766-5944-47CE-9D75-7D4D2629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EDC-8AB2-4CB7-86C3-ED82161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BBE8-7CA5-4F3F-AEDE-38C11614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303-0900-4172-A0BE-3730ABA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3C1-0523-4AE9-9864-771EDB6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310-7C46-44EF-860B-8E8B33D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3E2-C3E3-4F6D-B029-0BFB183D515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BF16-C7F4-445D-BD24-AC7464AD170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FF69-7E9E-483B-9DB9-80FF1368E9F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9793-559C-497D-B405-030A46E1E3F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4A1-D21B-460D-A7FF-9032DB33FB2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08360" y="4076280"/>
            <a:ext cx="5114880" cy="248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Презентация созда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учителем-логопе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МБОУ Лучановской СОШ Пыжик Татьяной Егоровно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2891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3490920"/>
            <a:ext cx="3816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505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9154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106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95680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49492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83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92934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394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250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5489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963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4088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5980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2036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757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179280" y="0"/>
            <a:ext cx="87138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04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4872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13f9a"/>
                </a:solidFill>
                <a:latin typeface="Arial"/>
              </a:rPr>
              <a:t>СПАСИБО ЗА ВНИМАНИЕ!!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3357720"/>
            <a:ext cx="98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Презентация создана по материал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книги Н.Ю.Костыле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«Покажи и расскажи» М.: ТЦ:Сфера, 2007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945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138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4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9661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439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3612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804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2-04T07:55:38Z</dcterms:modified>
  <cp:revision>19</cp:revision>
  <dc:subject/>
  <dc:title>Слайд 1</dc:title>
</cp:coreProperties>
</file>