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8F0-E235-4042-B961-55271A58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061-5D3A-4DC0-AD21-AFA7515A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BB1-6C42-4D6F-A12A-7540A322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4DC-8CC7-4663-B785-314E47B1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AF3D-5090-4C83-BCEE-6F946DE4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951C-604D-49F0-A006-903B08D6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04D5-A87A-407F-8EB7-76D730A9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F065-2C26-43D8-86C3-7BCF838C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7D17-3E3E-4FAF-A2D6-77FA0030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4C43-03CD-480D-AD55-2B739B72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9732-A7A0-4D88-ABEA-FDFCE8F3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31F-4A41-4A90-AF94-F4060C8A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5F4C-733E-4418-B121-D4391680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9935-80EB-4625-B0C8-E6AE7F7F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3F65-32F7-4DFC-9F52-295DA440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31AE-C8EF-4463-8E79-EC7C4591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2834-7DF3-4BB9-8AF5-87A2C01B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103-D694-4E16-9F55-2672B14C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332-8316-4E5F-8CD6-143BD626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210-AEA3-4CFA-8C69-8F4936C6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7DC-7C7F-48C6-BD92-432193B4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2F2-59AC-4ED1-9CF6-0FFDA11C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35B-3763-4291-81C6-3C4EA0E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A17-17C8-479E-961D-FE78235D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1E96-549A-4F4F-94CB-87FE63F631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BB33-5B65-4021-AA7D-CA351EE283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Играем с пальчикам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мелкой мото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создана учителем-логопедом МБОУ Лучановской СОШ Пыжик Татьяной Егор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5000" y="358920"/>
            <a:ext cx="5191200" cy="981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174680" y="1868400"/>
            <a:ext cx="3697200" cy="3598920"/>
            <a:chOff x="1174680" y="1868400"/>
            <a:chExt cx="3697200" cy="359892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1174680" y="1868400"/>
              <a:ext cx="3697200" cy="35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1174680" y="1868400"/>
              <a:ext cx="3697200" cy="35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ьми толстый карандаш. Положи его на стол. «Прогладь» карандаш сначала одной ладонью, потом другой. Покатай карандаш по столу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Карандаш я покачу</a:t>
            </a: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Вправо-влево — как хоч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19400" y="358920"/>
            <a:ext cx="5162400" cy="981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914400" y="1600200"/>
            <a:ext cx="3814920" cy="4530600"/>
            <a:chOff x="914400" y="1600200"/>
            <a:chExt cx="3814920" cy="453060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914400" y="1600200"/>
              <a:ext cx="381492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914400" y="1600200"/>
              <a:ext cx="381492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жи карандаш на одну ладошку, прикрой его другой. Прокатывай карандаш между ладонями сначала медленно, а потом быстрее, от кончиков пальцев к запястьям. А теперь попробуй сделать это сразу с двумя карандашами. Получилось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09680" y="372960"/>
            <a:ext cx="518184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жимай карандаш, который лежит на столе, кончиком каждого пальца. Прижимай сильнее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164040" y="353880"/>
            <a:ext cx="3273120" cy="99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ьми короткий карандашик и сожми его в кулачке, спрячь. А теперь спрячь в другой руке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Карандашик я сжимаю</a:t>
            </a: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И ладошку поменя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27320" y="358920"/>
            <a:ext cx="5146560" cy="98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ащай карандаш на столе двумя пальцами сначала одной руки, а потом другой. Попробуй сделать то же большим и средним пальцами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По столу круги катаю, </a:t>
            </a: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Карандаш не выпуск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57640" y="306360"/>
            <a:ext cx="3085920" cy="108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и карандаш на тыльную сторону кисти. Наклони руку вниз. Придерживай карандаш другой рукой. Пусть он скатится вниз с твоей руки, как с гор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14720" y="344520"/>
            <a:ext cx="5171760" cy="100944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914400" y="1600200"/>
            <a:ext cx="3814920" cy="4530600"/>
            <a:chOff x="914400" y="1600200"/>
            <a:chExt cx="3814920" cy="45306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914400" y="1600200"/>
              <a:ext cx="381492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 txBox="1"/>
            <p:nvPr/>
          </p:nvSpPr>
          <p:spPr>
            <a:xfrm>
              <a:off x="914400" y="1600200"/>
              <a:ext cx="381492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и карандаш на край стола. Попробуй поднять его, подцепив снизу одним пальцем. А теперь выполни это упражнение другими пальчиками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Карандашик поднимаю, </a:t>
            </a: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Крепко пальцем прижимаю.</a:t>
            </a: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14400" y="277920"/>
            <a:ext cx="777240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ьми тонкий длинный карандаш тремя пальцами. Покрути его. Пусть он вращается быстро-быстро, как винт вертолёта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Отправляется в полёт</a:t>
            </a: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Наш красавец-вертол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2-02-04T08:25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