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619-BD72-4373-951B-745BC7F3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981-D34A-4682-BA7B-564659AB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719-D3D8-4B9C-BB53-6749C609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FAE-ECC6-42AF-8D8A-871F0E6E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769C-6954-4389-A867-D3AECBE0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9F27-70E1-4DB2-81B7-E9A2A500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5988-6E47-4E57-BFBF-C62BC163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70E1-A1B8-404B-8B48-0EF27A61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FDBB-D8DF-47A8-842D-C11E7BB8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05F1-7ACA-49A9-97ED-F8F0A649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34D1-D25B-4DC6-8D63-177B3F63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016-8E98-4C6F-9F88-DD767AFD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E75A-9F4D-43A9-9905-19B3F1D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628E-4B84-40E8-A07F-CFDEEF66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14DC-AD5D-432B-A790-14CC69C7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37AD-ECCC-4A71-862E-408D1DF2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F38A-1343-4047-902F-73ECDDCF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A21-AACF-4935-ACE0-A01903E9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A71-E921-484B-83CA-343201FA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0D8-BF56-4847-B006-84EBED49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133-485B-48FC-B041-842DA15B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AC1-2716-4031-A324-3749724E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4A7-AE02-430F-B0F7-AE243324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248-2161-481B-B08E-E3CD3E6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a157a"/>
              </a:gs>
              <a:gs pos="100000">
                <a:srgbClr val="ce126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4e5b6f"/>
                </a:gs>
                <a:gs pos="100000">
                  <a:srgbClr val="ea15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5136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5136f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e31476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c1473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61267"/>
                  </a:gs>
                  <a:gs pos="100000">
                    <a:srgbClr val="ea15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c1473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e126b"/>
                  </a:gs>
                  <a:gs pos="100000">
                    <a:srgbClr val="ea15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5136f"/>
                  </a:gs>
                  <a:gs pos="100000">
                    <a:srgbClr val="ea15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e126b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c1473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e126b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5136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5136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5136f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612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5136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011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b2382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c1473"/>
                  </a:gs>
                  <a:gs pos="100000">
                    <a:srgbClr val="ea15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c1473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e31476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4e5b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4e5b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4e5b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4e5b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4e5b6f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4e5b6f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4e5b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e5b6f"/>
                    </a:gs>
                    <a:gs pos="100000">
                      <a:srgbClr val="ea15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157a"/>
                    </a:gs>
                    <a:gs pos="100000">
                      <a:srgbClr val="4e5b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e5b6f"/>
                    </a:gs>
                    <a:gs pos="100000">
                      <a:srgbClr val="ea15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157a"/>
                    </a:gs>
                    <a:gs pos="100000">
                      <a:srgbClr val="4e5b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779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8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6DFB-4958-4BDA-BEA0-C0F18A6A5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4e5b6f"/>
                </a:gs>
                <a:gs pos="100000">
                  <a:srgbClr val="ea15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5136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5136f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e31476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c1473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61267"/>
                  </a:gs>
                  <a:gs pos="100000">
                    <a:srgbClr val="ea15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c1473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e126b"/>
                  </a:gs>
                  <a:gs pos="100000">
                    <a:srgbClr val="ea15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5136f"/>
                  </a:gs>
                  <a:gs pos="100000">
                    <a:srgbClr val="ea15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e126b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c1473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e126b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5136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5136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5136f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612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5136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011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ce12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b2382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c1473"/>
                  </a:gs>
                  <a:gs pos="100000">
                    <a:srgbClr val="ea15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b1c7e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c1473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dc14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e31476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4e5b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4e5b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4e5b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4e5b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4e5b6f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4e5b6f"/>
                  </a:gs>
                  <a:gs pos="100000">
                    <a:srgbClr val="ea15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a157a"/>
                  </a:gs>
                  <a:gs pos="100000">
                    <a:srgbClr val="4e5b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e5b6f"/>
                    </a:gs>
                    <a:gs pos="100000">
                      <a:srgbClr val="ea15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157a"/>
                    </a:gs>
                    <a:gs pos="100000">
                      <a:srgbClr val="4e5b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e5b6f"/>
                    </a:gs>
                    <a:gs pos="100000">
                      <a:srgbClr val="ea15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157a"/>
                    </a:gs>
                    <a:gs pos="100000">
                      <a:srgbClr val="4e5b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779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8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6DDF-426F-4DCB-BF92-3804BB49A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2;&#1084;,_&#1044;&#1078;&#1086;&#1088;&#1076;&#1078;_(&#1080;&#1079;&#1086;&#1073;&#1088;&#1077;&#1090;&#1072;&#1090;&#1077;&#1083;&#1100;_&#1095;&#1080;&#1087;&#1089;&#1086;&#1074;)" TargetMode="External"/><Relationship Id="rId2" Type="http://schemas.openxmlformats.org/officeDocument/2006/relationships/hyperlink" Target="http://ru.wikipedia.org/wiki/24_&#1072;&#1074;&#1075;&#1091;&#1089;&#1090;&#1072;" TargetMode="External"/><Relationship Id="rId3" Type="http://schemas.openxmlformats.org/officeDocument/2006/relationships/hyperlink" Target="http://ru.wikipedia.org/wiki/1853_&#1075;&#1086;&#1076;" TargetMode="External"/><Relationship Id="rId4" Type="http://schemas.openxmlformats.org/officeDocument/2006/relationships/hyperlink" Target="http://ru.wikipedia.org/wiki/&#1056;&#1077;&#1089;&#1090;&#1086;&#1088;&#1072;&#1085;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e8d6"/>
                </a:solidFill>
                <a:latin typeface="Arial"/>
              </a:rPr>
              <a:t>ТЕМА: Чипсы Вред или Польза ? </a:t>
            </a:r>
            <a:endParaRPr b="0" lang="en-US" sz="5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19112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9966"/>
                </a:solidFill>
                <a:latin typeface="Times New Roman"/>
              </a:rPr>
              <a:t>Выполнила: уче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9966"/>
                </a:solidFill>
                <a:latin typeface="Times New Roman"/>
              </a:rPr>
              <a:t>4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Times New Roman"/>
              </a:rPr>
              <a:t>Гурьянова Дар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Times New Roman"/>
              </a:rPr>
              <a:t>Руководитель рабо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Times New Roman"/>
              </a:rPr>
              <a:t>Авдеева Наталия Вале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8" descr="C:\Documents and Settings\Admin\Рабочий стол\P4051071.JPG"/>
          <p:cNvPicPr/>
          <p:nvPr/>
        </p:nvPicPr>
        <p:blipFill>
          <a:blip r:embed="rId1"/>
          <a:stretch/>
        </p:blipFill>
        <p:spPr>
          <a:xfrm>
            <a:off x="714240" y="2965320"/>
            <a:ext cx="2786040" cy="3714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ред чипсов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285920" y="1857240"/>
            <a:ext cx="700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ые выяснили , что картофельные чипсы, картофель фри, гамбургеры содержат большое количество канцерогенов, любители их пожевать обречены на онкологически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ь идет о канцероген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крилами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«Доза» акриламида в одном пакетике чипсов превышает допустимую норму в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00 ра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0" y="609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держание акриламида в некоторых продуктах п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42"/>
          <p:cNvGrpSpPr/>
          <p:nvPr/>
        </p:nvGrpSpPr>
        <p:grpSpPr>
          <a:xfrm>
            <a:off x="1403280" y="2205000"/>
            <a:ext cx="6400440" cy="3809520"/>
            <a:chOff x="1403280" y="2205000"/>
            <a:chExt cx="6400440" cy="3809520"/>
          </a:xfrm>
        </p:grpSpPr>
        <p:grpSp>
          <p:nvGrpSpPr>
            <p:cNvPr id="240" name="Group 40"/>
            <p:cNvGrpSpPr/>
            <p:nvPr/>
          </p:nvGrpSpPr>
          <p:grpSpPr>
            <a:xfrm>
              <a:off x="1407960" y="2211480"/>
              <a:ext cx="6390360" cy="3795480"/>
              <a:chOff x="1407960" y="2211480"/>
              <a:chExt cx="6390360" cy="3795480"/>
            </a:xfrm>
          </p:grpSpPr>
          <p:grpSp>
            <p:nvGrpSpPr>
              <p:cNvPr id="241" name="Group 21"/>
              <p:cNvGrpSpPr/>
              <p:nvPr/>
            </p:nvGrpSpPr>
            <p:grpSpPr>
              <a:xfrm>
                <a:off x="1407960" y="2211480"/>
                <a:ext cx="3194640" cy="758520"/>
                <a:chOff x="1407960" y="2211480"/>
                <a:chExt cx="3194640" cy="758520"/>
              </a:xfrm>
            </p:grpSpPr>
            <p:sp>
              <p:nvSpPr>
                <p:cNvPr id="242" name="Rectangle 10"/>
                <p:cNvSpPr/>
                <p:nvPr/>
              </p:nvSpPr>
              <p:spPr>
                <a:xfrm>
                  <a:off x="1476720" y="2211480"/>
                  <a:ext cx="3057480" cy="75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Наименование продукта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20"/>
                <p:cNvSpPr/>
                <p:nvPr/>
              </p:nvSpPr>
              <p:spPr>
                <a:xfrm>
                  <a:off x="1407960" y="2211480"/>
                  <a:ext cx="3194640" cy="75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23"/>
              <p:cNvGrpSpPr/>
              <p:nvPr/>
            </p:nvGrpSpPr>
            <p:grpSpPr>
              <a:xfrm>
                <a:off x="4602960" y="2211480"/>
                <a:ext cx="3195360" cy="758520"/>
                <a:chOff x="4602960" y="2211480"/>
                <a:chExt cx="3195360" cy="758520"/>
              </a:xfrm>
            </p:grpSpPr>
            <p:sp>
              <p:nvSpPr>
                <p:cNvPr id="245" name="Rectangle 11"/>
                <p:cNvSpPr/>
                <p:nvPr/>
              </p:nvSpPr>
              <p:spPr>
                <a:xfrm>
                  <a:off x="4671720" y="2211480"/>
                  <a:ext cx="3057840" cy="75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Содержание акриламида (мг/кг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4602960" y="2211480"/>
                  <a:ext cx="3195360" cy="75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25"/>
              <p:cNvGrpSpPr/>
              <p:nvPr/>
            </p:nvGrpSpPr>
            <p:grpSpPr>
              <a:xfrm>
                <a:off x="1407960" y="2970360"/>
                <a:ext cx="3194640" cy="758880"/>
                <a:chOff x="1407960" y="2970360"/>
                <a:chExt cx="3194640" cy="758880"/>
              </a:xfrm>
            </p:grpSpPr>
            <p:sp>
              <p:nvSpPr>
                <p:cNvPr id="248" name="Rectangle 12"/>
                <p:cNvSpPr/>
                <p:nvPr/>
              </p:nvSpPr>
              <p:spPr>
                <a:xfrm>
                  <a:off x="1476720" y="2970360"/>
                  <a:ext cx="3057480" cy="75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Чипсы картофельные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4"/>
                <p:cNvSpPr/>
                <p:nvPr/>
              </p:nvSpPr>
              <p:spPr>
                <a:xfrm>
                  <a:off x="1407960" y="2970360"/>
                  <a:ext cx="3194640" cy="75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27"/>
              <p:cNvGrpSpPr/>
              <p:nvPr/>
            </p:nvGrpSpPr>
            <p:grpSpPr>
              <a:xfrm>
                <a:off x="4602960" y="2970360"/>
                <a:ext cx="3195360" cy="758880"/>
                <a:chOff x="4602960" y="2970360"/>
                <a:chExt cx="3195360" cy="758880"/>
              </a:xfrm>
            </p:grpSpPr>
            <p:sp>
              <p:nvSpPr>
                <p:cNvPr id="251" name="Rectangle 13"/>
                <p:cNvSpPr/>
                <p:nvPr/>
              </p:nvSpPr>
              <p:spPr>
                <a:xfrm>
                  <a:off x="4671720" y="2970360"/>
                  <a:ext cx="3057840" cy="75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66"/>
                      </a:solidFill>
                      <a:latin typeface="Arial"/>
                      <a:ea typeface="Times New Roman"/>
                    </a:rPr>
                    <a:t>13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26"/>
                <p:cNvSpPr/>
                <p:nvPr/>
              </p:nvSpPr>
              <p:spPr>
                <a:xfrm>
                  <a:off x="4602960" y="2970360"/>
                  <a:ext cx="3195360" cy="75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29"/>
              <p:cNvGrpSpPr/>
              <p:nvPr/>
            </p:nvGrpSpPr>
            <p:grpSpPr>
              <a:xfrm>
                <a:off x="1407960" y="3729960"/>
                <a:ext cx="3194640" cy="758520"/>
                <a:chOff x="1407960" y="3729960"/>
                <a:chExt cx="3194640" cy="758520"/>
              </a:xfrm>
            </p:grpSpPr>
            <p:sp>
              <p:nvSpPr>
                <p:cNvPr id="254" name="Rectangle 14"/>
                <p:cNvSpPr/>
                <p:nvPr/>
              </p:nvSpPr>
              <p:spPr>
                <a:xfrm>
                  <a:off x="1476720" y="3729960"/>
                  <a:ext cx="3057480" cy="75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8"/>
                <p:cNvSpPr/>
                <p:nvPr/>
              </p:nvSpPr>
              <p:spPr>
                <a:xfrm>
                  <a:off x="1407960" y="3729960"/>
                  <a:ext cx="3194640" cy="75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31"/>
              <p:cNvGrpSpPr/>
              <p:nvPr/>
            </p:nvGrpSpPr>
            <p:grpSpPr>
              <a:xfrm>
                <a:off x="4602960" y="3729960"/>
                <a:ext cx="3195360" cy="758520"/>
                <a:chOff x="4602960" y="3729960"/>
                <a:chExt cx="3195360" cy="758520"/>
              </a:xfrm>
            </p:grpSpPr>
            <p:sp>
              <p:nvSpPr>
                <p:cNvPr id="257" name="Rectangle 15"/>
                <p:cNvSpPr/>
                <p:nvPr/>
              </p:nvSpPr>
              <p:spPr>
                <a:xfrm>
                  <a:off x="4671720" y="3729960"/>
                  <a:ext cx="3057840" cy="75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30"/>
                <p:cNvSpPr/>
                <p:nvPr/>
              </p:nvSpPr>
              <p:spPr>
                <a:xfrm>
                  <a:off x="4602960" y="3729960"/>
                  <a:ext cx="3195360" cy="75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33"/>
              <p:cNvGrpSpPr/>
              <p:nvPr/>
            </p:nvGrpSpPr>
            <p:grpSpPr>
              <a:xfrm>
                <a:off x="1407960" y="4488840"/>
                <a:ext cx="3194640" cy="758880"/>
                <a:chOff x="1407960" y="4488840"/>
                <a:chExt cx="3194640" cy="758880"/>
              </a:xfrm>
            </p:grpSpPr>
            <p:sp>
              <p:nvSpPr>
                <p:cNvPr id="260" name="Rectangle 16"/>
                <p:cNvSpPr/>
                <p:nvPr/>
              </p:nvSpPr>
              <p:spPr>
                <a:xfrm>
                  <a:off x="1476720" y="4488840"/>
                  <a:ext cx="3057480" cy="75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32"/>
                <p:cNvSpPr/>
                <p:nvPr/>
              </p:nvSpPr>
              <p:spPr>
                <a:xfrm>
                  <a:off x="1407960" y="4488840"/>
                  <a:ext cx="3194640" cy="75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35"/>
              <p:cNvGrpSpPr/>
              <p:nvPr/>
            </p:nvGrpSpPr>
            <p:grpSpPr>
              <a:xfrm>
                <a:off x="4602960" y="4488840"/>
                <a:ext cx="3195360" cy="758880"/>
                <a:chOff x="4602960" y="4488840"/>
                <a:chExt cx="3195360" cy="758880"/>
              </a:xfrm>
            </p:grpSpPr>
            <p:sp>
              <p:nvSpPr>
                <p:cNvPr id="263" name="Rectangle 17"/>
                <p:cNvSpPr/>
                <p:nvPr/>
              </p:nvSpPr>
              <p:spPr>
                <a:xfrm>
                  <a:off x="4671720" y="4488840"/>
                  <a:ext cx="3057840" cy="75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34"/>
                <p:cNvSpPr/>
                <p:nvPr/>
              </p:nvSpPr>
              <p:spPr>
                <a:xfrm>
                  <a:off x="4602960" y="4488840"/>
                  <a:ext cx="3195360" cy="75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37"/>
              <p:cNvGrpSpPr/>
              <p:nvPr/>
            </p:nvGrpSpPr>
            <p:grpSpPr>
              <a:xfrm>
                <a:off x="1407960" y="5248440"/>
                <a:ext cx="3194640" cy="758520"/>
                <a:chOff x="1407960" y="5248440"/>
                <a:chExt cx="3194640" cy="758520"/>
              </a:xfrm>
            </p:grpSpPr>
            <p:sp>
              <p:nvSpPr>
                <p:cNvPr id="266" name="Rectangle 18"/>
                <p:cNvSpPr/>
                <p:nvPr/>
              </p:nvSpPr>
              <p:spPr>
                <a:xfrm>
                  <a:off x="1476720" y="5248440"/>
                  <a:ext cx="3057480" cy="75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66"/>
                      </a:solidFill>
                      <a:latin typeface="Arial"/>
                      <a:ea typeface="Times New Roman"/>
                    </a:rPr>
                    <a:t>Кукурузные</a:t>
                  </a:r>
                  <a:r>
                    <a:rPr b="0" lang="ru-RU" sz="2000" spc="-1" strike="noStrike">
                      <a:solidFill>
                        <a:srgbClr val="ffff66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ffff66"/>
                      </a:solidFill>
                      <a:latin typeface="Arial"/>
                      <a:ea typeface="Times New Roman"/>
                    </a:rPr>
                    <a:t>хлопья (разных марок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36"/>
                <p:cNvSpPr/>
                <p:nvPr/>
              </p:nvSpPr>
              <p:spPr>
                <a:xfrm>
                  <a:off x="1407960" y="5248440"/>
                  <a:ext cx="3194640" cy="75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39"/>
              <p:cNvGrpSpPr/>
              <p:nvPr/>
            </p:nvGrpSpPr>
            <p:grpSpPr>
              <a:xfrm>
                <a:off x="4602960" y="5248440"/>
                <a:ext cx="3195360" cy="758520"/>
                <a:chOff x="4602960" y="5248440"/>
                <a:chExt cx="3195360" cy="758520"/>
              </a:xfrm>
            </p:grpSpPr>
            <p:sp>
              <p:nvSpPr>
                <p:cNvPr id="269" name="Rectangle 19"/>
                <p:cNvSpPr/>
                <p:nvPr/>
              </p:nvSpPr>
              <p:spPr>
                <a:xfrm>
                  <a:off x="4671720" y="5248440"/>
                  <a:ext cx="3057840" cy="75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66"/>
                      </a:solidFill>
                      <a:latin typeface="Arial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38"/>
                <p:cNvSpPr/>
                <p:nvPr/>
              </p:nvSpPr>
              <p:spPr>
                <a:xfrm>
                  <a:off x="4602960" y="5248440"/>
                  <a:ext cx="3195360" cy="75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Rectangle 41"/>
            <p:cNvSpPr/>
            <p:nvPr/>
          </p:nvSpPr>
          <p:spPr>
            <a:xfrm>
              <a:off x="1403280" y="2205000"/>
              <a:ext cx="6400440" cy="380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TextBox 38"/>
          <p:cNvSpPr/>
          <p:nvPr/>
        </p:nvSpPr>
        <p:spPr>
          <a:xfrm>
            <a:off x="1721880" y="400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Печенье, бискв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5005440" y="40719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1643040" y="4857840"/>
            <a:ext cx="29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Картофель варе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41"/>
          <p:cNvSpPr/>
          <p:nvPr/>
        </p:nvSpPr>
        <p:spPr>
          <a:xfrm>
            <a:off x="5181480" y="47991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сследовательская часть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Анализ картофельных чипсов 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b6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анализ чипсов на наличие   растительного масла , крахмала и калорий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3" descr="C:\Documents and Settings\Admin\Рабочий стол\P4051072.JPG"/>
          <p:cNvPicPr/>
          <p:nvPr/>
        </p:nvPicPr>
        <p:blipFill>
          <a:blip r:embed="rId1"/>
          <a:stretch/>
        </p:blipFill>
        <p:spPr>
          <a:xfrm>
            <a:off x="3857760" y="3643200"/>
            <a:ext cx="42145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ыт № 1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нализ на содержание масла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280" name="Picture 2" descr="C:\Documents and Settings\Admin\Рабочий стол\P4051065.JPG"/>
          <p:cNvPicPr/>
          <p:nvPr/>
        </p:nvPicPr>
        <p:blipFill>
          <a:blip r:embed="rId1"/>
          <a:stretch/>
        </p:blipFill>
        <p:spPr>
          <a:xfrm>
            <a:off x="214200" y="1600200"/>
            <a:ext cx="4071960" cy="3257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Documents and Settings\Admin\Рабочий стол\P4051066.JPG"/>
          <p:cNvPicPr/>
          <p:nvPr/>
        </p:nvPicPr>
        <p:blipFill>
          <a:blip r:embed="rId2"/>
          <a:stretch/>
        </p:blipFill>
        <p:spPr>
          <a:xfrm>
            <a:off x="4500720" y="2857680"/>
            <a:ext cx="428616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ыт № 2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нализ на содержание крахмала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283" name="Содержимое 3" descr="C:\Documents and Settings\Admin\Рабочий стол\P4051067.JPG"/>
          <p:cNvPicPr/>
          <p:nvPr/>
        </p:nvPicPr>
        <p:blipFill>
          <a:blip r:embed="rId1"/>
          <a:stretch/>
        </p:blipFill>
        <p:spPr>
          <a:xfrm>
            <a:off x="3214800" y="32148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4" descr="C:\Documents and Settings\Admin\Рабочий стол\P4051069.JPG"/>
          <p:cNvPicPr/>
          <p:nvPr/>
        </p:nvPicPr>
        <p:blipFill>
          <a:blip r:embed="rId2"/>
          <a:stretch/>
        </p:blipFill>
        <p:spPr>
          <a:xfrm>
            <a:off x="285840" y="2071800"/>
            <a:ext cx="2786040" cy="2643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Admin\Рабочий стол\P4051068.JPG"/>
          <p:cNvPicPr/>
          <p:nvPr/>
        </p:nvPicPr>
        <p:blipFill>
          <a:blip r:embed="rId3"/>
          <a:stretch/>
        </p:blipFill>
        <p:spPr>
          <a:xfrm>
            <a:off x="6215040" y="3857760"/>
            <a:ext cx="27529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остав и калорийность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чип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Лейс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о чипс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Эстрелл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Русская картош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аличие мас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метр пятна (больше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метр пятна (больше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метр пятна (средне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метр пятна (меньше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крахм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но-синее окраши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но-синее окраши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ло- синее окраши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но-синее окраши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о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 ккал/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ккал/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ккал/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ккал/10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остав чипсов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289" name="Рисунок 2" descr="C:\Documents and Settings\Admin\Рабочий стол\P4051063.JPG"/>
          <p:cNvPicPr/>
          <p:nvPr/>
        </p:nvPicPr>
        <p:blipFill>
          <a:blip r:embed="rId1"/>
          <a:stretch/>
        </p:blipFill>
        <p:spPr>
          <a:xfrm>
            <a:off x="571680" y="1785960"/>
            <a:ext cx="3786120" cy="3500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"/>
          <p:cNvSpPr/>
          <p:nvPr/>
        </p:nvSpPr>
        <p:spPr>
          <a:xfrm>
            <a:off x="4786200" y="1981440"/>
            <a:ext cx="364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состав всех чипсов входят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66ff"/>
                </a:solidFill>
                <a:latin typeface="Calibri"/>
                <a:ea typeface="Times New Roman"/>
              </a:rPr>
              <a:t>картофель,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  <a:ea typeface="Times New Roman"/>
              </a:rPr>
              <a:t>растительное масло, </a:t>
            </a:r>
            <a:r>
              <a:rPr b="0" lang="ru-RU" sz="2400" spc="-1" strike="noStrike">
                <a:solidFill>
                  <a:srgbClr val="51daff"/>
                </a:solidFill>
                <a:latin typeface="Calibri"/>
                <a:ea typeface="Times New Roman"/>
              </a:rPr>
              <a:t>лактоз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усилители вкуса (глутамат натрия, нитрит натрия и др.), </a:t>
            </a:r>
            <a:r>
              <a:rPr b="0" lang="ru-RU" sz="2400" spc="-1" strike="noStrike">
                <a:solidFill>
                  <a:srgbClr val="92d050"/>
                </a:solidFill>
                <a:latin typeface="Calibri"/>
                <a:ea typeface="Times New Roman"/>
              </a:rPr>
              <a:t>различные вкусовые добавки, красите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Что это за вещества?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714240" y="1772280"/>
            <a:ext cx="807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Calibri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9966"/>
                </a:solidFill>
                <a:latin typeface="Calibri"/>
                <a:ea typeface="Times New Roman"/>
              </a:rPr>
              <a:t>Лактоза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– это молочный сахар. Лактоза способствует усвоению кальция в организме. Но у многих людей это вещество вызывает аллергию. Если после употребления чипсов у человека наблюдается тошнота, вздутие живота, спазмы, то причиной этого может быть лакто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Calibri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9966"/>
                </a:solidFill>
                <a:latin typeface="Calibri"/>
                <a:ea typeface="Times New Roman"/>
              </a:rPr>
              <a:t>Усилитель вкуса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– он тоже может вызвать аллергию. При передозировке возникает головная боль, учащенное   серцебиение, тошнота, боль в груди, сонлив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9966"/>
                </a:solidFill>
                <a:latin typeface="Calibri"/>
                <a:ea typeface="Times New Roman"/>
              </a:rPr>
              <a:t>Вкусовые добавк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- это различные химические вещества. От их употребления</a:t>
            </a:r>
            <a:r>
              <a:rPr b="0" lang="ru-RU" sz="2400" spc="-1" strike="noStrike">
                <a:solidFill>
                  <a:srgbClr val="515151"/>
                </a:solidFill>
                <a:latin typeface="Trebuchet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i="1" lang="ru-RU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возможны непрогнозируемые скачки артериального давления»</a:t>
            </a:r>
            <a:r>
              <a:rPr b="0" lang="ru-RU" sz="2400" spc="-1" strike="noStrike">
                <a:solidFill>
                  <a:srgbClr val="515151"/>
                </a:solidFill>
                <a:latin typeface="Trebuchet MS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8"/>
          <p:cNvSpPr/>
          <p:nvPr/>
        </p:nvSpPr>
        <p:spPr>
          <a:xfrm>
            <a:off x="714240" y="185724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ccedb1"/>
                </a:solidFill>
                <a:latin typeface="Arial"/>
                <a:ea typeface="Times New Roman"/>
              </a:rPr>
              <a:t>Употребление чипсов в пищу не безопа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db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db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db1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ccedb1"/>
                </a:solidFill>
                <a:latin typeface="Arial"/>
                <a:ea typeface="Times New Roman"/>
              </a:rPr>
              <a:t>Потребители должны знать, что содержащиеся в них добавки опасны для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db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db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db1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ccedb1"/>
                </a:solidFill>
                <a:latin typeface="Arial"/>
                <a:ea typeface="Times New Roman"/>
              </a:rPr>
              <a:t>Я считаю , что изготовители должны  предупреждать о вреде чипсов на упаков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db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edb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db1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ccedb1"/>
                </a:solidFill>
                <a:latin typeface="Arial"/>
                <a:ea typeface="Times New Roman"/>
              </a:rPr>
              <a:t>Чипсы можно употреблять в пищу только в очень редких случа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1" descr="j0233258"/>
          <p:cNvPicPr/>
          <p:nvPr/>
        </p:nvPicPr>
        <p:blipFill>
          <a:blip r:embed="rId1"/>
          <a:stretch/>
        </p:blipFill>
        <p:spPr>
          <a:xfrm>
            <a:off x="5651640" y="4076640"/>
            <a:ext cx="256536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d6ecff"/>
                </a:solidFill>
                <a:latin typeface="Arial"/>
              </a:rPr>
              <a:t> Определить состав чипсов. Сделать вывод о пользе и вреде чипсов.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395280" y="387036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306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09480" y="76176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eb880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историю создания чип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eb880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ь состав различных марок чип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eb880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елать анализ на наличие в чипсах масла, крахмала, калорий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eb880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 воздействие на организм пищевых добав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eb880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елать вы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отребляешь ли ты чипс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– 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–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часто ты их употребляешь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 – 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ко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гда – 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ая марка тебе больше нравится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ейс» – 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ос» – 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– 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– 35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аешь ли ты внимание на состав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– 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52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d6ecff"/>
                </a:solidFill>
                <a:latin typeface="Arial"/>
              </a:rPr>
              <a:t>Слово «чипс» в переводе с английского обозначает ломтик, кусочек. Считается, что чипсы случайно придумал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Джордж Крам</a:t>
            </a:r>
            <a:r>
              <a:rPr b="1" lang="ru-RU" sz="2400" spc="-1" strike="noStrike">
                <a:solidFill>
                  <a:srgbClr val="d6ec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d6ecff"/>
                </a:solidFill>
                <a:latin typeface="Arial"/>
              </a:rPr>
              <a:t> индеец по происхождению 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24 августа</a:t>
            </a:r>
            <a:r>
              <a:rPr b="1" lang="ru-RU" sz="2400" spc="-1" strike="noStrike">
                <a:solidFill>
                  <a:srgbClr val="d6ec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1853 года</a:t>
            </a:r>
            <a:r>
              <a:rPr b="0" lang="ru-RU" sz="2400" spc="-1" strike="noStrike">
                <a:solidFill>
                  <a:srgbClr val="d6ecff"/>
                </a:solidFill>
                <a:latin typeface="Arial"/>
              </a:rPr>
              <a:t> в СШАна курорте Саратога , работая шеф-поваром в ресторане гостиницы. По легенде, одним из фирменных рецептов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4"/>
              </a:rPr>
              <a:t>ресторана</a:t>
            </a:r>
            <a:r>
              <a:rPr b="0" lang="ru-RU" sz="2400" spc="-1" strike="noStrike">
                <a:solidFill>
                  <a:srgbClr val="d6ecff"/>
                </a:solidFill>
                <a:latin typeface="Arial"/>
              </a:rPr>
              <a:t> был «</a:t>
            </a:r>
            <a:r>
              <a:rPr b="0" lang="ru-RU" sz="2400" spc="-1" strike="noStrike" u="sng">
                <a:solidFill>
                  <a:srgbClr val="d6ecff"/>
                </a:solidFill>
                <a:uFillTx/>
                <a:latin typeface="Arial"/>
              </a:rPr>
              <a:t>картофель фри</a:t>
            </a:r>
            <a:r>
              <a:rPr b="0" lang="ru-RU" sz="2400" spc="-1" strike="noStrike">
                <a:solidFill>
                  <a:srgbClr val="d6ecff"/>
                </a:solidFill>
                <a:latin typeface="Arial"/>
              </a:rPr>
              <a:t>». Однажды на ужине железнодорожный магнат </a:t>
            </a:r>
            <a:r>
              <a:rPr b="1" lang="ru-RU" sz="2400" spc="-1" strike="noStrike" u="sng">
                <a:solidFill>
                  <a:srgbClr val="d6ecff"/>
                </a:solidFill>
                <a:uFillTx/>
                <a:latin typeface="Arial"/>
              </a:rPr>
              <a:t>Вандербильт</a:t>
            </a:r>
            <a:r>
              <a:rPr b="0" lang="ru-RU" sz="2400" spc="-1" strike="noStrike">
                <a:solidFill>
                  <a:srgbClr val="d6ecff"/>
                </a:solidFill>
                <a:latin typeface="Arial"/>
              </a:rPr>
              <a:t> вернул жареный картофель на кухню, пожаловавшись на то, что он «слишком толстый». Шеф-повар, Крам, решил подшутить над магнатом, нарезал картофель буквально бумажной толщины и обжарил. Впрочем, блюдо понравилось магнату и его друзьям.</a:t>
            </a:r>
            <a:br>
              <a:rPr sz="2400"/>
            </a:br>
            <a:endParaRPr b="0" lang="en-US" sz="2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285920" y="35712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рия появления картофельных чип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http://upload.wikimedia.org/wikipedia/commons/thumb/0/0f/Saratoga_chips.jpg/220px-Saratoga_chips.jpg"/>
          <p:cNvPicPr/>
          <p:nvPr/>
        </p:nvPicPr>
        <p:blipFill>
          <a:blip r:embed="rId1"/>
          <a:stretch/>
        </p:blipFill>
        <p:spPr>
          <a:xfrm>
            <a:off x="1285920" y="857160"/>
            <a:ext cx="3357360" cy="30718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2"/>
          <p:cNvSpPr/>
          <p:nvPr/>
        </p:nvSpPr>
        <p:spPr>
          <a:xfrm>
            <a:off x="4857840" y="1000080"/>
            <a:ext cx="37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цепт прозвали 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ипсы Сарато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. Через некоторое время чипсы стали самым популярным фирменным блюдом рестор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929120" y="282888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860 го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рам открывает собственный ресторан, на каждом столике которого стояла корзина с чип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571680" y="40719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89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ильям Тэппенд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инает «мелкосерийное» производство чипсов, сначала на собственной кухне, позднее строит фабри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642960" y="522936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932 го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ерман Лэ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здает марку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Lay's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торая стала первым национальным брендом чипсов, дожившим до наших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http://upload.wikimedia.org/wikipedia/commons/thumb/9/9c/Chips12.jpg/220px-Chips12.jpg"/>
          <p:cNvPicPr/>
          <p:nvPr/>
        </p:nvPicPr>
        <p:blipFill>
          <a:blip r:embed="rId1"/>
          <a:stretch/>
        </p:blipFill>
        <p:spPr>
          <a:xfrm>
            <a:off x="500040" y="1643040"/>
            <a:ext cx="3500640" cy="32148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4500720" y="2214720"/>
            <a:ext cx="442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псы «Хрустящий картоф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сковский в ломт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уск этих чипсов был налаж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ветском Союзе (Росси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965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2577600" y="285840"/>
            <a:ext cx="31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Чипсы в 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3218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3643200" y="1357200"/>
            <a:ext cx="5286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йчас в России продается довольно много марок чипсов, в том числе и отечественных. Линии для приготовления этого продукта устанавливаются как на крупных предприятиях по переработке картофеля, так и становятся основой небольших производ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C:\Documents and Settings\Admin\Рабочий стол\чипсы\i.jpeg"/>
          <p:cNvPicPr/>
          <p:nvPr/>
        </p:nvPicPr>
        <p:blipFill>
          <a:blip r:embed="rId1"/>
          <a:stretch/>
        </p:blipFill>
        <p:spPr>
          <a:xfrm>
            <a:off x="357120" y="428760"/>
            <a:ext cx="2500560" cy="3317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" descr="C:\Documents and Settings\Admin\Рабочий стол\чипсы\4i.jpeg"/>
          <p:cNvPicPr/>
          <p:nvPr/>
        </p:nvPicPr>
        <p:blipFill>
          <a:blip r:embed="rId2"/>
          <a:stretch/>
        </p:blipFill>
        <p:spPr>
          <a:xfrm>
            <a:off x="785880" y="3929040"/>
            <a:ext cx="17143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ехнология приготовления</a:t>
            </a:r>
            <a:endParaRPr b="0" lang="en-US" sz="44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1000080" y="1571760"/>
            <a:ext cx="671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ческий: картофель режется тонкими ломтиками и обжаривается в масле (около 8 минут). Имея подходящую шинковальную доску, этот рецепт легко повторить на обычной кух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9:19:51Z</dcterms:created>
  <dc:creator>Intel</dc:creator>
  <dc:description/>
  <dc:language>en-US</dc:language>
  <cp:lastModifiedBy>1</cp:lastModifiedBy>
  <dcterms:modified xsi:type="dcterms:W3CDTF">2011-05-27T05:56:08Z</dcterms:modified>
  <cp:revision>44</cp:revision>
  <dc:subject/>
  <dc:title>Слайд 1</dc:title>
</cp:coreProperties>
</file>