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D11-037F-41ED-89F6-C9A71D40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41F-0A5A-4F1A-B535-3021CC0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5C6-1147-48A8-A2E2-4D71D2B0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7E8-DFEE-43BF-A8AF-8A500C6D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E20-02FC-4ABA-AB43-898F797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42A-DB5C-4A51-8810-D0B4016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40F-5930-4368-B981-3C47F63B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C3F2-D267-4639-9F5F-C12D57A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5A9C-665F-47A9-AF37-5F7A5EBB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AD01-434D-4433-91C6-27F67EF2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98EB-60B5-45A1-926A-C88FCB2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4B8-90E3-4955-B139-F2D8E0D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4C2-E96B-45E0-AF6C-66E06E0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0EF-2F5A-4211-B52A-1BF5BA1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0A26-964C-4450-95F4-E2B0F09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8106-3D47-4BA5-9F48-A524C3D7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5B2-DA9F-4034-8F97-3C1E4AF6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670-0224-4C71-8A63-CDB12429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87E-0C03-4C15-A3F9-CE84D0F6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E7E-434B-4319-8A84-E60BDE5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C41-43AA-451C-B241-CDFEF36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824-1AAF-41B4-8C6F-119FAB4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B3A-0472-42BB-A9B1-DACF2B0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09B-1A45-488F-9359-22CB626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1BB-6D8C-444C-9588-FE6B26D1C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B0B-5D86-4BE3-9ED9-638A0C5BE4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7120" y="2214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Конструкция </a:t>
            </a:r>
            <a:br>
              <a:rPr sz="8000"/>
            </a:br>
            <a:r>
              <a:rPr b="0" lang="en-US" sz="8000" spc="-1" strike="noStrike">
                <a:solidFill>
                  <a:srgbClr val="ccecff"/>
                </a:solidFill>
                <a:latin typeface="comic"/>
              </a:rPr>
              <a:t>There is/ar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Рисунок 5" descr="001.gif"/>
          <p:cNvPicPr/>
          <p:nvPr/>
        </p:nvPicPr>
        <p:blipFill>
          <a:blip r:embed="rId1"/>
          <a:stretch/>
        </p:blipFill>
        <p:spPr>
          <a:xfrm>
            <a:off x="500040" y="214200"/>
            <a:ext cx="2428920" cy="201312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2428920" y="478620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Выполнила учитель английского язы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МОУ СОШ с.Калинин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Шилова А.В. 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 катег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re is / ar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4032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ere 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427640" y="112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86880" y="1069920"/>
            <a:ext cx="13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2708280"/>
            <a:ext cx="34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There i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4642920" y="1773360"/>
            <a:ext cx="71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627280" y="270828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0033"/>
                </a:solidFill>
                <a:latin typeface="Arial"/>
              </a:rPr>
              <a:t>a chai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6804000" y="1700280"/>
            <a:ext cx="4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932360" y="2708280"/>
            <a:ext cx="421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cc00"/>
                </a:solidFill>
                <a:latin typeface="Arial"/>
              </a:rPr>
              <a:t>in the room .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2556000" y="3573360"/>
            <a:ext cx="4248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190440" y="494172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В комнат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4140360" y="3500280"/>
            <a:ext cx="502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4140360" y="494172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сту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2556000" y="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для ед.ч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00000" y="277920"/>
            <a:ext cx="3384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ля мн.ч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79280" y="141300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re 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843280" y="1413000"/>
            <a:ext cx="273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chair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076720" y="1341360"/>
            <a:ext cx="478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in the room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2916360" y="1989000"/>
            <a:ext cx="3527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 flipV="1" rot="10800000">
            <a:off x="331560" y="3549600"/>
            <a:ext cx="331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В комнате есть стуль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067280" y="2133720"/>
            <a:ext cx="865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851280" y="429264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Arial"/>
              </a:rPr>
              <a:t>стуль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re is / ar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3105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ere 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427640" y="112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86880" y="1069920"/>
            <a:ext cx="13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2708280"/>
            <a:ext cx="285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There i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>
            <a:off x="4642920" y="1773360"/>
            <a:ext cx="71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643200" y="2708280"/>
            <a:ext cx="25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5200" spc="-1" strike="noStrike">
                <a:solidFill>
                  <a:srgbClr val="660033"/>
                </a:solidFill>
                <a:latin typeface="Arial"/>
              </a:rPr>
              <a:t>chai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6804000" y="1700280"/>
            <a:ext cx="4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6429240" y="2708280"/>
            <a:ext cx="2428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cc00"/>
                </a:solidFill>
                <a:latin typeface="Arial"/>
              </a:rPr>
              <a:t>in the room                  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2556000" y="3573360"/>
            <a:ext cx="4248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181800" y="4941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В комна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140360" y="3500280"/>
            <a:ext cx="1503360" cy="171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5214960" y="49417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стул</a:t>
            </a: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2556000" y="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для ед.ч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TextBox 15" descr=""/>
          <p:cNvPicPr/>
          <p:nvPr/>
        </p:nvPicPr>
        <p:blipFill>
          <a:blip r:embed="rId1"/>
          <a:stretch/>
        </p:blipFill>
        <p:spPr>
          <a:xfrm>
            <a:off x="3029040" y="755640"/>
            <a:ext cx="1682640" cy="1103400"/>
          </a:xfrm>
          <a:prstGeom prst="rect">
            <a:avLst/>
          </a:prstGeom>
          <a:ln w="0">
            <a:noFill/>
          </a:ln>
        </p:spPr>
      </p:pic>
      <p:cxnSp>
        <p:nvCxnSpPr>
          <p:cNvPr id="251" name="Прямая со стрелкой 17"/>
          <p:cNvCxnSpPr/>
          <p:nvPr/>
        </p:nvCxnSpPr>
        <p:spPr>
          <a:xfrm flipH="1">
            <a:off x="3214080" y="1856880"/>
            <a:ext cx="143640" cy="1001160"/>
          </a:xfrm>
          <a:prstGeom prst="straightConnector1">
            <a:avLst/>
          </a:prstGeom>
          <a:ln w="9360">
            <a:solidFill>
              <a:srgbClr val="001d2e"/>
            </a:solidFill>
            <a:miter/>
            <a:tailEnd len="med" type="arrow" w="med"/>
          </a:ln>
        </p:spPr>
      </p:cxnSp>
      <p:cxnSp>
        <p:nvCxnSpPr>
          <p:cNvPr id="252" name="Прямая со стрелкой 19"/>
          <p:cNvCxnSpPr>
            <a:stCxn id="253" idx="2"/>
          </p:cNvCxnSpPr>
          <p:nvPr/>
        </p:nvCxnSpPr>
        <p:spPr>
          <a:xfrm>
            <a:off x="3159000" y="3638160"/>
            <a:ext cx="984960" cy="1505880"/>
          </a:xfrm>
          <a:prstGeom prst="straightConnector1">
            <a:avLst/>
          </a:prstGeom>
          <a:ln w="93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3" name="TextBox 22"/>
          <p:cNvSpPr/>
          <p:nvPr/>
        </p:nvSpPr>
        <p:spPr>
          <a:xfrm>
            <a:off x="2648880" y="271476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3861360" y="4929120"/>
            <a:ext cx="13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27"/>
          <p:cNvSpPr/>
          <p:nvPr/>
        </p:nvSpPr>
        <p:spPr>
          <a:xfrm>
            <a:off x="0" y="0"/>
            <a:ext cx="1071720" cy="10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457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00000" y="277920"/>
            <a:ext cx="3384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ля мн.ч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79280" y="141300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re 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00680" y="714240"/>
            <a:ext cx="2071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chair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3760" y="1341360"/>
            <a:ext cx="271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in the room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H="1">
            <a:off x="2916000" y="2786040"/>
            <a:ext cx="3227400" cy="165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 flipV="1" rot="10800000">
            <a:off x="-360" y="4291920"/>
            <a:ext cx="364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В комнат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4857840" y="2214720"/>
            <a:ext cx="1000080" cy="221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5072040" y="429264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Arial"/>
              </a:rPr>
              <a:t>стулье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3071880" y="1285920"/>
            <a:ext cx="10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500280" y="428616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6" name="Прямая со стрелкой 12"/>
          <p:cNvCxnSpPr>
            <a:stCxn id="264" idx="2"/>
          </p:cNvCxnSpPr>
          <p:nvPr/>
        </p:nvCxnSpPr>
        <p:spPr>
          <a:xfrm>
            <a:off x="3586680" y="2209680"/>
            <a:ext cx="413640" cy="2291760"/>
          </a:xfrm>
          <a:prstGeom prst="straightConnector1">
            <a:avLst/>
          </a:prstGeom>
          <a:ln w="9360">
            <a:solidFill>
              <a:srgbClr val="001d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re is / ar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99720" y="1052640"/>
            <a:ext cx="2357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er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427640" y="112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086880" y="1069920"/>
            <a:ext cx="13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571760" y="2708280"/>
            <a:ext cx="214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there 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4642920" y="1773360"/>
            <a:ext cx="71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3786120" y="2708280"/>
            <a:ext cx="235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0033"/>
                </a:solidFill>
                <a:latin typeface="Arial"/>
              </a:rPr>
              <a:t>a chai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6804000" y="1700280"/>
            <a:ext cx="432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357960" y="2708280"/>
            <a:ext cx="2786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cc00"/>
                </a:solidFill>
                <a:latin typeface="Arial"/>
              </a:rPr>
              <a:t>in the room </a:t>
            </a:r>
            <a:r>
              <a:rPr b="1" lang="ru-RU" sz="5200" spc="-1" strike="noStrike">
                <a:solidFill>
                  <a:srgbClr val="00cc00"/>
                </a:solidFill>
                <a:latin typeface="Arial"/>
              </a:rPr>
              <a:t>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 flipH="1">
            <a:off x="2556000" y="3573360"/>
            <a:ext cx="4248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181800" y="4941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В комна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4140360" y="3500280"/>
            <a:ext cx="502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4140360" y="4941720"/>
            <a:ext cx="30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сту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2556000" y="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,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3286080" y="100008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571680" y="2714760"/>
            <a:ext cx="96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17"/>
          <p:cNvSpPr/>
          <p:nvPr/>
        </p:nvSpPr>
        <p:spPr>
          <a:xfrm>
            <a:off x="214200" y="214200"/>
            <a:ext cx="13575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3636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686E-007 L -0.31875 -0.00716 E">
                                      <p:cBhvr>
                                        <p:cTn id="374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00000" y="277920"/>
            <a:ext cx="3384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ля мн.ч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285920" y="1413000"/>
            <a:ext cx="1928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2843280" y="1413000"/>
            <a:ext cx="273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chair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076720" y="1341360"/>
            <a:ext cx="40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in the room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 flipH="1">
            <a:off x="2916360" y="1989000"/>
            <a:ext cx="3527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 flipV="1" rot="10800000">
            <a:off x="331560" y="391860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В комнате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ест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4067280" y="2133720"/>
            <a:ext cx="865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851280" y="429264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Arial"/>
              </a:rPr>
              <a:t>стуль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428760" y="1285920"/>
            <a:ext cx="78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полни 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93560" y="1494000"/>
            <a:ext cx="8017200" cy="50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59:19Z</dcterms:created>
  <dc:creator>mvg</dc:creator>
  <dc:description/>
  <dc:language>en-US</dc:language>
  <cp:lastModifiedBy>Ванек</cp:lastModifiedBy>
  <dcterms:modified xsi:type="dcterms:W3CDTF">2012-02-04T11:17:55Z</dcterms:modified>
  <cp:revision>19</cp:revision>
  <dc:subject/>
  <dc:title>There is / are</dc:title>
</cp:coreProperties>
</file>