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9.jpeg" ContentType="image/jpeg"/>
  <Override PartName="/ppt/media/image23.png" ContentType="image/png"/>
  <Override PartName="/ppt/media/image18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28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33.jpeg" ContentType="image/jpeg"/>
  <Override PartName="/ppt/media/image24.jpeg" ContentType="image/jpeg"/>
  <Override PartName="/ppt/media/image30.jpeg" ContentType="image/jpeg"/>
  <Override PartName="/ppt/media/image12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36.png" ContentType="image/png"/>
  <Override PartName="/ppt/media/image5.jpeg" ContentType="image/jpeg"/>
  <Override PartName="/ppt/media/image15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822-E280-4E79-89C7-A4D01634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C0B-30D6-4293-BBAC-5C1069AC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8F3-1FEE-43EA-B8AE-4FDC2333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DD5-4477-4491-A306-CAD09DEA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0271-9364-4E3C-BD35-5DCEF60A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C9F5-B8E8-42B7-9FAC-524BCD39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EB4E-EEC0-4CF0-A5DF-A1ACB967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579-2C53-4554-AE08-175BB57A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410D-8EB4-488D-8FA5-DE339F57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CA6A-6EA9-4656-81DA-2AC4DBAC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6CC-A358-4A89-A369-AE4191D5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14D-6D67-4102-A60F-AADA47DD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0B1F-74CF-477C-943D-73DBFCC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4219-2BEF-4558-94B3-37E81AC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232B-2A0D-4C2F-A6D2-59F2F035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0AB6-192C-4F90-B33E-8D3496F8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6FA5-751D-4430-824E-A8956848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ECA2-E800-4D1C-971F-DD1F6B59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339D-45D0-480B-8F3C-B3880BDD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5D7B-ADDD-4210-8541-B0BB48FA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4333-1418-4D89-B940-241DF6E5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AF27-3C97-409E-8F23-F3D3524E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72B-B3BE-462D-B431-ED470A55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B679-2102-46E6-8EF1-5E077482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DC46-B4BD-40F3-B269-7C6BB91D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C801-A9EF-4677-A263-BBC854D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2423-6A56-45F2-BA6E-6E12A1D2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F19C-2D40-4651-9821-94835235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58D5-5108-4FC7-A779-B6AF97C7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0B94-F4A7-42EA-BAC1-B036D760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E7E9-763C-488D-99E8-7B117118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94FE-1FB1-4C6B-A107-171C13BC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05B7-21A2-4E51-A56E-1F98F1E7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FC3-E9A2-404F-9D12-F5DD5B48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4041-D5DC-493F-9CC4-F06D0162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11CA-DBCB-482A-B382-0476B9C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638F-CBB2-43C6-B43C-9B67C947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79535-372E-4073-BD64-DAEFF5A6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2324-EEBD-499D-A1D8-899B645E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B9E1-78A8-4FE6-B5B9-3116C63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8CE2-3262-4E6A-B3AF-3BABCEFA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5453-F48A-4BFF-824C-266FEAB5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1ADD2-2B5C-485E-A896-591481EC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FFB7-F29F-4842-B82C-E99D67BF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74A-7A1B-4259-B2D1-0FFD4C4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2BC5-27E4-4434-BCF5-DCF2775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8B72F-63B8-40BD-99F6-247EFF1B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B8350-FA92-4DEC-B25E-8D37334E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33C7D-CBE4-491C-B3B9-C6AE3DA4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2D82-68F1-4DB4-A240-57E286FB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411FB-0394-45A1-BE46-117D9B43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B0028-BBF5-40F7-B148-E9C600D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2856C-159A-4F81-AE1B-B56AA59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D4C1-6434-41ED-87E7-02ACB2F3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8093-6BBD-452D-A467-5E6B64E1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963-7DB6-4D43-B536-672A3ACF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6F3E1-2FD4-4DB8-9B09-5E45DB43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57D48-92CF-47BF-B298-2E31230E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C81C5-C389-49A1-B5C4-6FEC0EBA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43A5C-C167-4F8E-BE47-4565424C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F16F-5567-4315-9D77-5DA83487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06332-F9B4-4303-8D82-FCF474B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6BB90-D1B4-4A34-91A8-374636D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B7FA6-E16A-4D00-AE81-47A92FF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E703D-F968-49E3-A7B6-FC9E559B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3CE7-B2B1-41E9-A777-BEF67AF2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D63-750C-4B7F-A9BC-86EE5DD0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69082-F942-473F-AD13-09D8412F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1239-9F12-475C-96F7-14406A85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B6C2A-A417-427B-BF6D-5074C5D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D84B1-CC56-4014-A9E8-834EB805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CFBB0-1E73-4357-8D06-0FB11F7B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BBAA-F5F6-48AA-8D86-E1826AE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B485-0340-437C-B7B4-DDDB9628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E56C-2997-4EFA-A3E8-4DCCA1A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99AC8-AFA3-4A33-A663-150356BC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1BE07-846F-4CA5-B4EB-941F27C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CA4-E4E1-4D18-921A-0B1EF367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796DE-730B-4EE3-BAD6-5BDC76E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AAAAC-EFB1-4EE6-B2F7-92AC923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841D-DC1A-4866-8067-FD82D4A8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0308D-0F96-49E4-83F6-8DD4766E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78E7-CD62-4B15-AA52-34DA554C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D378C-65DA-4285-843E-37E8DBDD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45E3-7972-4BBE-AEB9-6C27A929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7C141-A96B-464A-9B34-65C07803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6128F-4599-4370-A008-34FCC06B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E384-CC7E-46D6-B2E4-B93006E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E78-6391-4248-B9A1-B1100D02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546F-97FE-4C56-A178-696FEBC3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BA632-99F1-45BC-9872-1FE3D6D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13DDA-2E01-46B0-BE88-6A0B2339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5523E-8B2D-4975-BDE6-E1C0D27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B5CD8-B10B-4AD7-A099-CB629758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3C5F3-4AFA-4D9B-BFCA-281F753F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F24B-3D40-4CCC-B4C8-4EDF7D63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8152-44E6-4789-A8EA-60B3B37F1DA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308-AC82-4F9A-B90C-0C48BE97BE4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E4CB-4FA0-4B27-85D8-5D5F20C7D8E0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AE4C-62C1-4806-AE64-80F3C96A5FB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FB50-EF98-4D93-A273-823BB5E93F5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4C4-DE82-4B05-966F-2CEB75D1BF1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3C3B-C067-4765-B40F-530AE15D7059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805-3E37-4AC8-A5BE-E2FCCB81E63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Текст 8" descr=""/>
          <p:cNvPicPr/>
          <p:nvPr/>
        </p:nvPicPr>
        <p:blipFill>
          <a:blip r:embed="rId1"/>
          <a:stretch/>
        </p:blipFill>
        <p:spPr>
          <a:xfrm>
            <a:off x="1292400" y="4187880"/>
            <a:ext cx="6791040" cy="126216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оугольник 9" descr=""/>
          <p:cNvPicPr/>
          <p:nvPr/>
        </p:nvPicPr>
        <p:blipFill>
          <a:blip r:embed="rId2"/>
          <a:stretch/>
        </p:blipFill>
        <p:spPr>
          <a:xfrm>
            <a:off x="1066680" y="2577960"/>
            <a:ext cx="7467840" cy="1603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Documents and Settings\Наталья\Мои документы\Мои рисунки\sd10.gif"/>
          <p:cNvPicPr/>
          <p:nvPr/>
        </p:nvPicPr>
        <p:blipFill>
          <a:blip r:embed="rId3"/>
          <a:stretch/>
        </p:blipFill>
        <p:spPr>
          <a:xfrm>
            <a:off x="0" y="357120"/>
            <a:ext cx="235260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4143240" y="1199160"/>
            <a:ext cx="478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имя и гражданство при рождении, а также право знать своих родителей и рассчитывать на их з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7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pic>
        <p:nvPicPr>
          <p:cNvPr id="391" name="Picture 3" descr="C:\Documents and Settings\школа\Мои документы\Загрузки\семья.jpg"/>
          <p:cNvPicPr/>
          <p:nvPr/>
        </p:nvPicPr>
        <p:blipFill>
          <a:blip r:embed="rId1"/>
          <a:stretch/>
        </p:blipFill>
        <p:spPr>
          <a:xfrm>
            <a:off x="428760" y="1428840"/>
            <a:ext cx="3508200" cy="4708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4143240" y="1728360"/>
            <a:ext cx="471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уважать право ребенка на свободу мысли, совести и религии. Родители или опекуны ребенка должны разъяснить ему это пра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5, 16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4500720" y="1442520"/>
            <a:ext cx="464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меют право встречаться и объединяться в группы, если только это не нарушает общественную безопасность и порядо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C:\Documents and Settings\школа\Рабочий стол\Новая папка\e8dfd0978469.jpg"/>
          <p:cNvPicPr/>
          <p:nvPr/>
        </p:nvPicPr>
        <p:blipFill>
          <a:blip r:embed="rId1"/>
          <a:stretch/>
        </p:blipFill>
        <p:spPr>
          <a:xfrm>
            <a:off x="357120" y="1357200"/>
            <a:ext cx="4071960" cy="3454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285840" y="486468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 ребенок имеет право на личную жизнь,  на защиту от незаконного посягательства на его честь и репут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7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3929040" y="1357200"/>
            <a:ext cx="50007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доступ к информации и материалам, способствующим духовному и моральному благополучию, здоровому физическому и психическому развитию ребе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" descr="C:\Documents and Settings\школа\Рабочий стол\Новая папка\5486bdef0a0b559d73daf16f3c3d3c98.jpg"/>
          <p:cNvPicPr/>
          <p:nvPr/>
        </p:nvPicPr>
        <p:blipFill>
          <a:blip r:embed="rId1"/>
          <a:srcRect l="5580" t="0" r="5083" b="0"/>
          <a:stretch/>
        </p:blipFill>
        <p:spPr>
          <a:xfrm>
            <a:off x="500040" y="171468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9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4071960" y="1349280"/>
            <a:ext cx="4786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защищать ребенка от всех видов насилия, отсутствия заботы и плохого обращения со стороны родителей или других лиц, а также помогать ребенку, подвергшемуся жестокому обращению со стороны взросл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http://basik.ru/images/2691/short.jpg"/>
          <p:cNvPicPr/>
          <p:nvPr/>
        </p:nvPicPr>
        <p:blipFill>
          <a:blip r:embed="rId1"/>
          <a:stretch/>
        </p:blipFill>
        <p:spPr>
          <a:xfrm>
            <a:off x="500040" y="1500120"/>
            <a:ext cx="3500640" cy="3489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9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4714920" y="1357200"/>
            <a:ext cx="42148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лишается своей семьи, то он вправе рассчитывать на особую защиту и помощь со стороны государства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http://ugorsk.ru/razdel/social_sf/opeka/priemnaj%20semaj%20%20Cippo.jpg"/>
          <p:cNvPicPr/>
          <p:nvPr/>
        </p:nvPicPr>
        <p:blipFill>
          <a:blip r:embed="rId1"/>
          <a:srcRect l="3125" t="0" r="3125" b="0"/>
          <a:stretch/>
        </p:blipFill>
        <p:spPr>
          <a:xfrm>
            <a:off x="357120" y="1357200"/>
            <a:ext cx="4286160" cy="31482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7"/>
          <p:cNvSpPr/>
          <p:nvPr/>
        </p:nvSpPr>
        <p:spPr>
          <a:xfrm>
            <a:off x="285840" y="4857840"/>
            <a:ext cx="8572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может передать ребенка на воспитание тем людям, которые уважают его родные язык, религию и культур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4572000" y="1643040"/>
            <a:ext cx="4357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храну своего здоровья: на получение медицинской помощи, чистой питьевой воды и полноценного 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aif.ru/application/public/article/272/934a053b2f4005184b3e3dfdd967b585_big.jpg"/>
          <p:cNvPicPr/>
          <p:nvPr/>
        </p:nvPicPr>
        <p:blipFill>
          <a:blip r:embed="rId1"/>
          <a:srcRect l="16504" t="18449" r="24961" b="24182"/>
          <a:stretch/>
        </p:blipFill>
        <p:spPr>
          <a:xfrm>
            <a:off x="500040" y="1643040"/>
            <a:ext cx="3882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8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3" name="Прямоугольник 5"/>
          <p:cNvSpPr/>
          <p:nvPr/>
        </p:nvSpPr>
        <p:spPr>
          <a:xfrm>
            <a:off x="4143240" y="1285920"/>
            <a:ext cx="48578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бразование. Начальное образование должно быть обязательным и бесплатным, среднее и высшее - доступным для всех детей. В школах должны соблюдаться права ребенка и проявляться уважение к его человеческому достоинств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http://image.websib.ru/06/img/kid_with_book.jpg"/>
          <p:cNvPicPr/>
          <p:nvPr/>
        </p:nvPicPr>
        <p:blipFill>
          <a:blip r:embed="rId1"/>
          <a:stretch/>
        </p:blipFill>
        <p:spPr>
          <a:xfrm>
            <a:off x="357120" y="1428840"/>
            <a:ext cx="3743280" cy="38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0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4286160" y="1006560"/>
            <a:ext cx="4714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принадлежит к этническому, религиозному или языковому меньшинству, он имеет право говорить на родном языке и соблюдать родные обычаи, исповедовать свою религ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http://dob.1september.ru/2002/20/3.jpg"/>
          <p:cNvPicPr/>
          <p:nvPr/>
        </p:nvPicPr>
        <p:blipFill>
          <a:blip r:embed="rId1"/>
          <a:stretch/>
        </p:blipFill>
        <p:spPr>
          <a:xfrm>
            <a:off x="428760" y="19288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1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4929120" y="1199160"/>
            <a:ext cx="378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тдых и игры, а также на участие в культурной и творческ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http://www.mddm.org/decor/arch/black06/009.jpg"/>
          <p:cNvPicPr/>
          <p:nvPr/>
        </p:nvPicPr>
        <p:blipFill>
          <a:blip r:embed="rId1"/>
          <a:srcRect l="7238" t="0" r="1619" b="0"/>
          <a:stretch/>
        </p:blipFill>
        <p:spPr>
          <a:xfrm>
            <a:off x="357120" y="150012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3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C:\Documents and Settings\Наталья\Мои документы\Мои рисунки\2009_04_10_16_41_163466668.jpg"/>
          <p:cNvPicPr/>
          <p:nvPr/>
        </p:nvPicPr>
        <p:blipFill>
          <a:blip r:embed="rId2"/>
          <a:stretch/>
        </p:blipFill>
        <p:spPr>
          <a:xfrm>
            <a:off x="4889520" y="1214280"/>
            <a:ext cx="4254480" cy="5121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C:\Documents and Settings\Наталья\Мои документы\Мои рисунки\babies.jpg"/>
          <p:cNvPicPr/>
          <p:nvPr/>
        </p:nvPicPr>
        <p:blipFill>
          <a:blip r:embed="rId3"/>
          <a:stretch/>
        </p:blipFill>
        <p:spPr>
          <a:xfrm>
            <a:off x="0" y="1214280"/>
            <a:ext cx="5072040" cy="50724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7"/>
          <p:cNvSpPr/>
          <p:nvPr/>
        </p:nvSpPr>
        <p:spPr>
          <a:xfrm>
            <a:off x="0" y="114300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3 году неправительственной организацией "Международный союз спасения детей" была разработана первая Декларация о правах ребенка, содержащая основные условия, которым должно следовать общество, чтобы обеспечить соответствующую защиту детей и заботу о них. Декларация была одобрена в 1924 году Ассамблеей Лиги Наций и получила название Женевской. "Быть объектом особой заботы и помощи со стороны общества и государства», - такое отношение к детям провозгласила «Всеобщая декларация прав человека", принятая ООН 10 декабря 1948 года. В 1959 году Генеральная Ассамблея ООН принимает новую Декларацию прав ребенка, содержащую 10 принципов обеспечения защиты и благосостоян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ноября 1989 года Конвенция о правах ребенка единогласно принимается Генеральной Ассамблеей ООН. Государства, подписавшие Конвенцию, приняли на себя правовую ответственность за действия в отношении детей, обязались пересмотреть свое национальное законодательство в соответствии с положениями этого международного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нашей страны Конвенция о правах ребенка вступила в законную силу 15 сентября 199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2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4572000" y="1593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защищать ребенка от опасной, вредной и непосильно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е должна мешать образованию и духовно-физическому развитию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http://www.childjustice.org/assets/images/Child-Labour05b.jpg"/>
          <p:cNvPicPr/>
          <p:nvPr/>
        </p:nvPicPr>
        <p:blipFill>
          <a:blip r:embed="rId1"/>
          <a:stretch/>
        </p:blipFill>
        <p:spPr>
          <a:xfrm>
            <a:off x="857160" y="1571760"/>
            <a:ext cx="2762280" cy="38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3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4429080" y="1661400"/>
            <a:ext cx="442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сделать все возможное, чтобы уберечь детей от незаконного употребления наркотиков и психотропных веществ, не допустить использования детей в производстве и торговле наркоти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http://gazeta.aif.ru/data/mags/health/351-352/pics/06_04_00.jpg"/>
          <p:cNvPicPr/>
          <p:nvPr/>
        </p:nvPicPr>
        <p:blipFill>
          <a:blip r:embed="rId1"/>
          <a:stretch/>
        </p:blipFill>
        <p:spPr>
          <a:xfrm>
            <a:off x="642960" y="1714680"/>
            <a:ext cx="300024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4572000" y="1299960"/>
            <a:ext cx="43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обеспечивает, чтобы ни один ребенок не подвергался пыткам, жестокому обращению, незаконному аресту и лишению свободы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http://schelkovo-blagochin.orthodoxy.ru/press/svetilnik/2008_102/images/ystic_1.jpg"/>
          <p:cNvPicPr/>
          <p:nvPr/>
        </p:nvPicPr>
        <p:blipFill>
          <a:blip r:embed="rId1"/>
          <a:stretch/>
        </p:blipFill>
        <p:spPr>
          <a:xfrm>
            <a:off x="571680" y="1643040"/>
            <a:ext cx="3786120" cy="268776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7"/>
          <p:cNvSpPr/>
          <p:nvPr/>
        </p:nvSpPr>
        <p:spPr>
          <a:xfrm>
            <a:off x="571680" y="485784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лишенный свободы ребенок имеет право поддерживать контакты со своей семьей, получать правовую помощь и искать защиту в су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://minjust.tatar.ru/rus/file/news/news_33971.jpg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8" descr=""/>
          <p:cNvPicPr/>
          <p:nvPr/>
        </p:nvPicPr>
        <p:blipFill>
          <a:blip r:embed="rId2"/>
          <a:stretch/>
        </p:blipFill>
        <p:spPr>
          <a:xfrm>
            <a:off x="1011240" y="609480"/>
            <a:ext cx="8327880" cy="2170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http://blago.katren.ru/assets/images/99_1.jpg"/>
          <p:cNvPicPr/>
          <p:nvPr/>
        </p:nvPicPr>
        <p:blipFill>
          <a:blip r:embed="rId3"/>
          <a:stretch/>
        </p:blipFill>
        <p:spPr>
          <a:xfrm>
            <a:off x="2143080" y="2786040"/>
            <a:ext cx="476244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C:\Documents and Settings\Наталья\Мои документы\Мои рисунки\ef45a1b3ee50.jpg"/>
          <p:cNvPicPr/>
          <p:nvPr/>
        </p:nvPicPr>
        <p:blipFill>
          <a:blip r:embed="rId2"/>
          <a:stretch/>
        </p:blipFill>
        <p:spPr>
          <a:xfrm>
            <a:off x="428760" y="1285920"/>
            <a:ext cx="3714480" cy="326376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4286160" y="12859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олее уязвимы, чем взрослые, к условия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олее подвержены влиянию действий или бездействия прави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собенно уязвимы к эксплуатации и дурному обращ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е голосуют, не имеют политического и экономического влияния. Слишком часто их голоса не слыш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428760" y="50007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это служило основанием для разработки документа, направленного на обеспечение прав детей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64" name="Схема 5" descr=""/>
          <p:cNvPicPr/>
          <p:nvPr/>
        </p:nvPicPr>
        <p:blipFill>
          <a:blip r:embed="rId2"/>
          <a:stretch/>
        </p:blipFill>
        <p:spPr>
          <a:xfrm>
            <a:off x="231840" y="1365120"/>
            <a:ext cx="8778960" cy="4102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Недискриминация (статья 2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6" name="Picture 2" descr="C:\Documents and Settings\Наталья\Мои документы\Мои рисунки\99_1.jpg"/>
          <p:cNvPicPr/>
          <p:nvPr/>
        </p:nvPicPr>
        <p:blipFill>
          <a:blip r:embed="rId1"/>
          <a:stretch/>
        </p:blipFill>
        <p:spPr>
          <a:xfrm>
            <a:off x="1928880" y="2928960"/>
            <a:ext cx="5143320" cy="36828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"/>
          <p:cNvSpPr/>
          <p:nvPr/>
        </p:nvSpPr>
        <p:spPr>
          <a:xfrm>
            <a:off x="500040" y="92664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не должны подвергаться какой-либо дискриминации по признаку 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Calibri"/>
              </a:rPr>
              <a:t>"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расы, цвета кожи, пола, языка, религии, политических или иных убеждений, национального, этнического или социального происхождения, имущественного положения, состояния здоровь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обстоятельств рождения ребенка, его родителей или законных опекунов или каких-либо иных обстоятельств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H:\МАМА\АНИМАШКИ\7de2f52d7e092eb3600c2b41a224e24b.gif"/>
          <p:cNvPicPr/>
          <p:nvPr/>
        </p:nvPicPr>
        <p:blipFill>
          <a:blip r:embed="rId2"/>
          <a:stretch/>
        </p:blipFill>
        <p:spPr>
          <a:xfrm>
            <a:off x="357120" y="3429000"/>
            <a:ext cx="1071720" cy="2679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H:\МАМА\АНИМАШКИ\6236051.gif"/>
          <p:cNvPicPr/>
          <p:nvPr/>
        </p:nvPicPr>
        <p:blipFill>
          <a:blip r:embed="rId3"/>
          <a:stretch/>
        </p:blipFill>
        <p:spPr>
          <a:xfrm>
            <a:off x="7429680" y="3143160"/>
            <a:ext cx="105084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Наилучшее обеспечение интересов ребенка (статья 3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357120" y="122112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Во всех решениях или действиях, которые затрагивают ребенка или детей как группу, в первую очередь необходимо учитывать наилучшие интересы ребенка. Это остается справедливым, независимо от того, принимаются ли решения правительственными, административными или судебными властями, либо сем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:\Documents and Settings\Наталья\Мои документы\Мои рисунки\3578.jpg"/>
          <p:cNvPicPr/>
          <p:nvPr/>
        </p:nvPicPr>
        <p:blipFill>
          <a:blip r:embed="rId1"/>
          <a:stretch/>
        </p:blipFill>
        <p:spPr>
          <a:xfrm>
            <a:off x="1928880" y="2857680"/>
            <a:ext cx="5238720" cy="3485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H:\МАМА\Для сайта\gif_animated\002131.gif"/>
          <p:cNvPicPr/>
          <p:nvPr/>
        </p:nvPicPr>
        <p:blipFill>
          <a:blip r:embed="rId2"/>
          <a:stretch/>
        </p:blipFill>
        <p:spPr>
          <a:xfrm>
            <a:off x="0" y="407196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:\МАМА\Для сайта\gif_animated\002131.gif"/>
          <p:cNvPicPr/>
          <p:nvPr/>
        </p:nvPicPr>
        <p:blipFill>
          <a:blip r:embed="rId3"/>
          <a:stretch/>
        </p:blipFill>
        <p:spPr>
          <a:xfrm>
            <a:off x="857160" y="5000760"/>
            <a:ext cx="905040" cy="90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:\МАМА\Для сайта\gif_animated\002131.gif"/>
          <p:cNvPicPr/>
          <p:nvPr/>
        </p:nvPicPr>
        <p:blipFill>
          <a:blip r:embed="rId4"/>
          <a:stretch/>
        </p:blipFill>
        <p:spPr>
          <a:xfrm>
            <a:off x="428760" y="328608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:\МАМА\Для сайта\gif_animated\002131.gif"/>
          <p:cNvPicPr/>
          <p:nvPr/>
        </p:nvPicPr>
        <p:blipFill>
          <a:blip r:embed="rId5"/>
          <a:stretch/>
        </p:blipFill>
        <p:spPr>
          <a:xfrm>
            <a:off x="7572240" y="328608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:\МАМА\Для сайта\gif_animated\002131.gif"/>
          <p:cNvPicPr/>
          <p:nvPr/>
        </p:nvPicPr>
        <p:blipFill>
          <a:blip r:embed="rId6"/>
          <a:stretch/>
        </p:blipFill>
        <p:spPr>
          <a:xfrm>
            <a:off x="7929720" y="414324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:\МАМА\Для сайта\gif_animated\002131.gif"/>
          <p:cNvPicPr/>
          <p:nvPr/>
        </p:nvPicPr>
        <p:blipFill>
          <a:blip r:embed="rId7"/>
          <a:stretch/>
        </p:blipFill>
        <p:spPr>
          <a:xfrm>
            <a:off x="7286760" y="5214960"/>
            <a:ext cx="904680" cy="904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Право на жизнь, выживание и развитие (статья 6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285840" y="143244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имеют право на выживание и всестороннее развитие, включая физическое, эмоциональное, психосоциальное, познавательное социальное и культур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C:\Documents and Settings\Наталья\Мои документы\Мои рисунки\pic01.jpg"/>
          <p:cNvPicPr/>
          <p:nvPr/>
        </p:nvPicPr>
        <p:blipFill>
          <a:blip r:embed="rId1"/>
          <a:stretch/>
        </p:blipFill>
        <p:spPr>
          <a:xfrm>
            <a:off x="2500200" y="2286000"/>
            <a:ext cx="3000600" cy="3997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H:\МАМА\АНИМАШКИ\6f95c142022010aff6af7f0ca5166009.gif"/>
          <p:cNvPicPr/>
          <p:nvPr/>
        </p:nvPicPr>
        <p:blipFill>
          <a:blip r:embed="rId2"/>
          <a:stretch/>
        </p:blipFill>
        <p:spPr>
          <a:xfrm>
            <a:off x="571680" y="4357800"/>
            <a:ext cx="1928520" cy="2011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:\МАМА\Презентации\Сашина презентация\359504974.gif"/>
          <p:cNvPicPr/>
          <p:nvPr/>
        </p:nvPicPr>
        <p:blipFill>
          <a:blip r:embed="rId3"/>
          <a:stretch/>
        </p:blipFill>
        <p:spPr>
          <a:xfrm>
            <a:off x="5286240" y="1857240"/>
            <a:ext cx="3357720" cy="2748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Взгляды ребёнка (статья 12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285840" y="136404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ям необходимо давать возможность участвовать в решении всех вопросов, касающихся их жизни, и обеспечивать свободу выражения их мнений. Они имеют право на то, чтобы к их мнению прислушивались и самым серьезным образом принимали его во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C:\Documents and Settings\Наталья\Мои документы\Мои рисунки\centerimg_index.jpg"/>
          <p:cNvPicPr/>
          <p:nvPr/>
        </p:nvPicPr>
        <p:blipFill>
          <a:blip r:embed="rId1"/>
          <a:stretch/>
        </p:blipFill>
        <p:spPr>
          <a:xfrm>
            <a:off x="1143000" y="2928960"/>
            <a:ext cx="69627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4" descr=""/>
          <p:cNvPicPr/>
          <p:nvPr/>
        </p:nvPicPr>
        <p:blipFill>
          <a:blip r:embed="rId1"/>
          <a:stretch/>
        </p:blipFill>
        <p:spPr>
          <a:xfrm>
            <a:off x="274680" y="2700360"/>
            <a:ext cx="8594640" cy="1384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D:\Права ребенка\44baf1b9d1bc76008382292dfaf65e18.jpg"/>
          <p:cNvPicPr/>
          <p:nvPr/>
        </p:nvPicPr>
        <p:blipFill>
          <a:blip r:embed="rId2"/>
          <a:stretch/>
        </p:blipFill>
        <p:spPr>
          <a:xfrm>
            <a:off x="285840" y="214200"/>
            <a:ext cx="2000160" cy="241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28:57Z</dcterms:created>
  <dc:creator>школа</dc:creator>
  <dc:description/>
  <dc:language>en-US</dc:language>
  <cp:lastModifiedBy>Admin</cp:lastModifiedBy>
  <dcterms:modified xsi:type="dcterms:W3CDTF">2011-12-23T10:32:48Z</dcterms:modified>
  <cp:revision>68</cp:revision>
  <dc:subject/>
  <dc:title>Слайд 1</dc:title>
</cp:coreProperties>
</file>