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6EE9-1E67-4995-84AD-7D0A8D7C14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EEFB-1789-4E5A-AC5B-9623EA18665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C38-09E4-4C3D-BCAC-D3964271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83B-3113-43E1-B219-9D8FAE5C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881FB-E2FF-426C-ADDA-9938766A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B1B48-D9ED-49D7-9DD3-8BDE3EFE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2B839-DF6C-4C43-9C51-F1DD03DB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17BD0-783F-4EBC-8D4D-C809E3AE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68EEA-8A8F-44F6-8C47-57C6A3F1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FB60D-D37B-4B31-B15C-DD3A42FF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E9520-8EB2-478C-911C-C5248523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D4D35-941F-4FD8-A0E5-2BE1B1C1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66207-9C2E-4CCA-97D4-C0803A83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4F2C-FEA0-49E1-9E0F-1375F4ED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C60-E603-4D11-A5F5-7106CAF1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E5F5-B4EE-4239-BD1B-EC86AB5A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9420-4A1C-451F-806E-6A96E23D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01C5-E512-48B8-BEEC-B931D043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648C-7742-4BA6-8F85-F63B0B12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E3C2-2A73-4D33-B4EA-5785EC51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F25C-761E-45D3-BAF4-5FF9E90B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5A02-D80F-4204-87A9-A1A37E9A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09B-8F7B-4DFF-9D12-A396B5F0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BFFE-1AD7-452C-AAEB-B5DAB6DD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8C68-E439-4F06-A24F-7DC73815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897F-E4D1-49B3-8030-0E05BA71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129F-23B4-4444-983D-56D16B67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B286-7419-4A73-A64D-F3947A69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F2D2A-09C3-4E93-A2A3-14DC41F6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D391D-DC3D-48BB-88E8-DD0AB2BB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3A258-8200-416E-A26B-6FEF647E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42F8B-4793-4C54-9D18-547BE403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59734-1009-4B8E-A6CE-65BB584A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1CA-7ECC-46F1-84C1-A2DA3BEF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560D-4671-4BAC-B8EC-E69E3AD1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C6F10-1DEF-4761-98DC-92078821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9305C-5DAB-4C57-B4B4-55EB3563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D6897-AF87-4424-8921-849D825F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59F61-E772-45AB-9AC5-46F5885F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2D964-70C8-4A9B-AAB6-B8CA5570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2D4B3-E9F7-4A50-9AD9-87B78984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4CDC8-ABF3-4DD3-955A-5985C6FD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4117C-2B1F-4F7D-A934-54AA690B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41C59-7379-421A-8AC6-8FA82DC0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5AAB-B206-486A-8251-A4BD7090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63800-342F-48CF-86DF-D1E01BB8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5FA9A-6035-4EB8-B24E-02C0BD25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09DD2-303D-43B4-B0A1-F009831F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9435C-3AED-4AD6-A811-E967CFDE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66FCF-11A2-4341-8231-80B9971A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CCBF2-49D2-4600-86D2-25964D3A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7BAA6-A6F6-43D0-9943-87C0E503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DACD2-F736-4160-AD93-2808F3CE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DC49C-A560-4AC2-BF21-60258B14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B728B-64BD-493A-9BC8-2C6F4A5A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84D-85C7-455C-893B-B6CD0BD3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CA57D-3F82-4A21-B4AF-1D8D5081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3CB78-9885-45B2-B64E-1E8437F5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4200F-562D-4506-B2F0-F9D6AE2A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AEE6F-2962-4087-AD62-1237E355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B1D49-A1F0-4A11-989C-52F43129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EB6FE-68F0-4ECF-B9EE-A343BFA3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B3033-7116-4AA5-A548-457334A8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1F28C-5E4C-46CB-AAD0-E20F24B2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252D8-BB9D-4DF1-8108-1BD539D7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6A53C-E476-4C63-BF49-84825F8B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690-094F-4A7D-BF66-70050F4A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CAEC7-A743-453B-A01A-8E921CA2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B52CF-D075-46A3-AC3F-E09C6A74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3E94A-5C0D-401A-AC73-4420876B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EB696-A90B-4513-973E-05578635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87365-8CA8-4DB3-ABC5-C99AC7F2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746A0-7527-4686-B7B5-87C2DDE8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36B08-7872-4066-9CF6-F625FF50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BDF29-7D62-4AF6-9A03-BF94E93A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0BE6B-18F1-4D12-BD9A-4054694D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9958D-5551-49A9-8E46-6A942206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60F-0EBC-43B3-984F-BA18354E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231CF-1686-4CDD-8F90-D5DB889F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BE72E-1134-427B-AF33-0F633C43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9C4C0-32DD-4175-9C86-341F0146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C55E8-4ED5-4C8E-A923-0E3D16F8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FCCE6-98C5-482D-A1EC-ABBC4F76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027A5-4F9C-422E-A747-D4269B37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DB960-8FBB-4790-A64D-5F6034BC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1886E-EA24-431A-83B2-47103CCA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E526E-1BDC-4497-B8AB-F00CFA87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80AC2-7DC3-4092-B7EB-0983C026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F8E-997A-4C1C-ACEF-6B57F969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DE0CD-C705-4BE0-83F0-F96F06D6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7459E-A169-4E7E-AB2A-759D1C7A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25747-C58F-46A3-B0EF-4728DC27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C7330-B0F7-4DFE-A509-06EBF6CC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79178-369D-4B27-A879-AA445DC6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7FB57-AF5C-4660-8D96-72CA361C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4CC37-00BE-4D7E-81B7-BF0A39AB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2CC66-34EF-4FF9-8761-8395313F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D5E07-E40D-4EA8-A21E-F51287DF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09F28-46D9-46FB-8BA4-D68731D2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82B-EB76-4563-877E-DFFC47FA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7B514-0406-4EBE-A958-764F219F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9ECDA-0A70-4038-B510-CB714DDF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A70BC-B528-4079-B9B7-CA5E85A9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CB8FF-E17E-4FEE-843E-C7BF1DB6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74445-1B5C-4587-82F3-403B8CD8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7B007-A606-48DA-9842-9BBF9021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131D3-CC98-41AD-98D8-25C4264F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7A6D1-9507-4AF5-8C90-68373313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E08A5-157D-4879-89D0-BDBA8FC7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746FF-4B98-425C-903B-9813A2E3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120C-17F5-406B-83DF-AE2ABB6AE8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BCEF-F192-4A36-A00C-2371951EF9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367E-24F8-4C95-B347-272ADE042B8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6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3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9227-C9B2-40C9-9D3C-8DF06854C92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F0BB-8312-47C7-9D91-32A3C4AD6B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74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1F90-9C27-4630-BF9E-C8C549ADCC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22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24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28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07C4-C20B-4B53-ADA0-5AB878C627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73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7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2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83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6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87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D6D3-4D74-41B0-8D6F-BCD7BCF6301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3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3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8726-DF51-4557-92D7-21FAFDD9067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2BD7-A38E-4343-A892-2A94048C41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Устный  счет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491" name="Picture 7" descr=""/>
          <p:cNvPicPr/>
          <p:nvPr/>
        </p:nvPicPr>
        <p:blipFill>
          <a:blip r:embed="rId1"/>
          <a:stretch/>
        </p:blipFill>
        <p:spPr>
          <a:xfrm>
            <a:off x="3851280" y="2421000"/>
            <a:ext cx="23050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AC05-E296-46ED-A25E-210930938B8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н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334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роить незамкнутую самопересекающуюся ломаную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C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роить замкнутую самопересекающуюся ломаную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FKLM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64" name="Picture 7" descr="сканирование0007"/>
          <p:cNvPicPr/>
          <p:nvPr/>
        </p:nvPicPr>
        <p:blipFill>
          <a:blip r:embed="rId1"/>
          <a:stretch/>
        </p:blipFill>
        <p:spPr>
          <a:xfrm>
            <a:off x="7380360" y="260280"/>
            <a:ext cx="1014480" cy="161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C8D2-B37E-40B1-BD88-074D3A62AB2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лина ломаной – это сумма длин всех звеньев ломаной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4790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           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           C               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                                    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spcBef>
                <a:spcPts val="700"/>
              </a:spcBef>
              <a:buClr>
                <a:srgbClr val="f70f1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йти длину ломаной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C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ес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В = 3 см, ВС = 4 см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= 2 с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spcBef>
                <a:spcPts val="700"/>
              </a:spcBef>
              <a:buClr>
                <a:srgbClr val="f70f1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йти длину ломаной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ес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= 5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= 1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 = 3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Line 4"/>
          <p:cNvSpPr/>
          <p:nvPr/>
        </p:nvSpPr>
        <p:spPr>
          <a:xfrm flipV="1">
            <a:off x="1258920" y="3357720"/>
            <a:ext cx="576360" cy="86328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5"/>
          <p:cNvSpPr/>
          <p:nvPr/>
        </p:nvSpPr>
        <p:spPr>
          <a:xfrm>
            <a:off x="1835280" y="3357720"/>
            <a:ext cx="136836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Line 6"/>
          <p:cNvSpPr/>
          <p:nvPr/>
        </p:nvSpPr>
        <p:spPr>
          <a:xfrm flipV="1">
            <a:off x="3203640" y="2637000"/>
            <a:ext cx="288720" cy="7207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Line 7"/>
          <p:cNvSpPr/>
          <p:nvPr/>
        </p:nvSpPr>
        <p:spPr>
          <a:xfrm flipV="1">
            <a:off x="5148360" y="2637000"/>
            <a:ext cx="2016000" cy="15840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8"/>
          <p:cNvSpPr/>
          <p:nvPr/>
        </p:nvSpPr>
        <p:spPr>
          <a:xfrm flipH="1">
            <a:off x="7093080" y="2637000"/>
            <a:ext cx="71280" cy="107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9"/>
          <p:cNvSpPr/>
          <p:nvPr/>
        </p:nvSpPr>
        <p:spPr>
          <a:xfrm flipH="1" flipV="1">
            <a:off x="5651640" y="3357720"/>
            <a:ext cx="1441440" cy="358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ABA1-C575-4FBA-A74E-4302E263CC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5" descr="сканирование0004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10848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50920" y="6381720"/>
            <a:ext cx="864216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ызыл – Иркутск – Якутск                                                        Масштаб 1:20 000 000 ( в 1см 200 км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Кызыл – Братск - Якут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9" descr="сканирование0005"/>
          <p:cNvPicPr/>
          <p:nvPr/>
        </p:nvPicPr>
        <p:blipFill>
          <a:blip r:embed="rId2">
            <a:lum contrast="6000"/>
          </a:blip>
          <a:srcRect l="5482" t="0" r="0" b="5774"/>
          <a:stretch/>
        </p:blipFill>
        <p:spPr>
          <a:xfrm>
            <a:off x="6227640" y="1844640"/>
            <a:ext cx="385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C651-104C-46F5-AD51-B2350DB8032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ходные данны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4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лет – из г. Кызы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ечный пункт – г. Якутс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заправка – 1-я, 2-я группы в г. Иркутс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-я, 4-я группы в г. Братс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 называется линия, по которой пройдет полет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то нужно найти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1" name="Picture 4" descr="47"/>
          <p:cNvPicPr/>
          <p:nvPr/>
        </p:nvPicPr>
        <p:blipFill>
          <a:blip r:embed="rId1"/>
          <a:stretch/>
        </p:blipFill>
        <p:spPr>
          <a:xfrm>
            <a:off x="5940360" y="620640"/>
            <a:ext cx="251928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EA4F-E24A-40DE-B8CC-8DF9AF39D45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Домашнее  задание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6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учить определение ломаной, её элементы и свой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 (1)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5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Номер слайда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F247-1C20-4216-8913-1968479768F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71640" y="1699920"/>
            <a:ext cx="77040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он                      Володя                          Серё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                   В                       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 = 300 м, ВС = 100 м, АС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 = 170 м, АВ = 50 м, ВС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длина отрезка АВ быть больше длины отрезка 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длина отрезка ВС быть больше длины отрезка 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"/>
          <p:cNvSpPr/>
          <p:nvPr/>
        </p:nvSpPr>
        <p:spPr>
          <a:xfrm>
            <a:off x="2843280" y="2637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96" name="Picture 7" descr="сканирование0007"/>
          <p:cNvPicPr/>
          <p:nvPr/>
        </p:nvPicPr>
        <p:blipFill>
          <a:blip r:embed="rId1"/>
          <a:stretch/>
        </p:blipFill>
        <p:spPr>
          <a:xfrm>
            <a:off x="7308720" y="189000"/>
            <a:ext cx="1014480" cy="1584360"/>
          </a:xfrm>
          <a:prstGeom prst="rect">
            <a:avLst/>
          </a:prstGeom>
          <a:ln w="0">
            <a:noFill/>
          </a:ln>
        </p:spPr>
      </p:pic>
      <p:sp>
        <p:nvSpPr>
          <p:cNvPr id="497" name="Line 5"/>
          <p:cNvSpPr/>
          <p:nvPr/>
        </p:nvSpPr>
        <p:spPr>
          <a:xfrm>
            <a:off x="4716360" y="2637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9" descr="сканирование0008"/>
          <p:cNvPicPr/>
          <p:nvPr/>
        </p:nvPicPr>
        <p:blipFill>
          <a:blip r:embed="rId2"/>
          <a:stretch/>
        </p:blipFill>
        <p:spPr>
          <a:xfrm>
            <a:off x="3995640" y="0"/>
            <a:ext cx="1290600" cy="15573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1" descr="сканирование0009"/>
          <p:cNvPicPr/>
          <p:nvPr/>
        </p:nvPicPr>
        <p:blipFill>
          <a:blip r:embed="rId3"/>
          <a:stretch/>
        </p:blipFill>
        <p:spPr>
          <a:xfrm>
            <a:off x="1116000" y="189000"/>
            <a:ext cx="1395360" cy="1439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7796-679A-40C1-8344-41DA797ADAA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сегда ли мы движемся по прямой линии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02" name="Picture 4" descr="j0183328"/>
          <p:cNvPicPr/>
          <p:nvPr/>
        </p:nvPicPr>
        <p:blipFill>
          <a:blip r:embed="rId1"/>
          <a:stretch/>
        </p:blipFill>
        <p:spPr>
          <a:xfrm>
            <a:off x="1258920" y="299736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6" descr="j0233070"/>
          <p:cNvPicPr/>
          <p:nvPr/>
        </p:nvPicPr>
        <p:blipFill>
          <a:blip r:embed="rId2"/>
          <a:stretch/>
        </p:blipFill>
        <p:spPr>
          <a:xfrm>
            <a:off x="1403280" y="4437000"/>
            <a:ext cx="251136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46821E-006 L 0.57934 -0.40624 E">
                                      <p:cBhvr>
                                        <p:cTn id="60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96532E-006 L 0.21163 1.96532E-006 C 0.30643 1.96532E-006 0.42327 -0.0985 0.42327 -0.17827 L 0.42327 -0.35653 E">
                                      <p:cBhvr>
                                        <p:cTn id="64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62428E-006 L 0.55486 0.0044 E">
                                      <p:cBhvr>
                                        <p:cTn id="74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81 -0.00624 C 0.12673 -0.00624 0.18281 0.06844 0.18281 0.16024 C 0.18281 0.25203 0.12673 0.32671 0.05781 0.32671 C -0.01111 0.32671 -0.06719 0.25203 -0.06719 0.16024 C -0.06719 0.06844 -0.01111 -0.00624 0.05781 -0.00624 Z">
                                      <p:cBhvr>
                                        <p:cTn id="78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C349-5B0F-4028-B4C6-7071024BDA4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28036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ема урока:</a:t>
            </a:r>
            <a:br>
              <a:rPr sz="4400"/>
            </a:br>
            <a:br>
              <a:rPr sz="4400"/>
            </a:br>
            <a:r>
              <a:rPr b="1" lang="ru-RU" sz="6600" spc="-1" strike="noStrike">
                <a:solidFill>
                  <a:srgbClr val="ffff00"/>
                </a:solidFill>
                <a:latin typeface="Arial Black"/>
              </a:rPr>
              <a:t>Ломаная.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68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68" fill="hold"/>
                                        <p:tgtEl>
                                          <p:spTgt spid="5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68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082D-29A0-493E-8543-5CF79B5645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Цель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ломаную, её элементы и свой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40FE-F17F-4EB6-A7BB-EA09E9DC82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Задач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ь определение лома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её элемен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виды ломаных. Какие они бываю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иться находить длину лома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D632-DE9F-4822-88D3-743424749FD2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AutoShape 9"/>
          <p:cNvSpPr/>
          <p:nvPr/>
        </p:nvSpPr>
        <p:spPr>
          <a:xfrm>
            <a:off x="468360" y="1268280"/>
            <a:ext cx="2951280" cy="2087640"/>
          </a:xfrm>
          <a:prstGeom prst="cloudCallout">
            <a:avLst>
              <a:gd name="adj1" fmla="val -25472"/>
              <a:gd name="adj2" fmla="val 59657"/>
            </a:avLst>
          </a:prstGeom>
          <a:solidFill>
            <a:srgbClr val="31e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4883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данных рисунках представлены различные виды линий. Как бы вы их назвали? Выберите из данных линий ломаны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AutoShape 8"/>
          <p:cNvSpPr/>
          <p:nvPr/>
        </p:nvSpPr>
        <p:spPr>
          <a:xfrm>
            <a:off x="3995640" y="1197000"/>
            <a:ext cx="2951280" cy="2016000"/>
          </a:xfrm>
          <a:prstGeom prst="cloudCallout">
            <a:avLst>
              <a:gd name="adj1" fmla="val -45268"/>
              <a:gd name="adj2" fmla="val 6645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                   С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AutoShape 10"/>
          <p:cNvSpPr/>
          <p:nvPr/>
        </p:nvSpPr>
        <p:spPr>
          <a:xfrm>
            <a:off x="1619280" y="3573360"/>
            <a:ext cx="2448000" cy="2087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Freeform 11"/>
          <p:cNvSpPr/>
          <p:nvPr/>
        </p:nvSpPr>
        <p:spPr>
          <a:xfrm>
            <a:off x="1908000" y="4005360"/>
            <a:ext cx="158436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Line 12"/>
          <p:cNvSpPr/>
          <p:nvPr/>
        </p:nvSpPr>
        <p:spPr>
          <a:xfrm flipV="1">
            <a:off x="1258920" y="191628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Line 13"/>
          <p:cNvSpPr/>
          <p:nvPr/>
        </p:nvSpPr>
        <p:spPr>
          <a:xfrm>
            <a:off x="1476360" y="1916280"/>
            <a:ext cx="115272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14"/>
          <p:cNvSpPr/>
          <p:nvPr/>
        </p:nvSpPr>
        <p:spPr>
          <a:xfrm flipV="1">
            <a:off x="4643280" y="177300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Line 15"/>
          <p:cNvSpPr/>
          <p:nvPr/>
        </p:nvSpPr>
        <p:spPr>
          <a:xfrm>
            <a:off x="5435640" y="1773360"/>
            <a:ext cx="431640" cy="57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16"/>
          <p:cNvSpPr/>
          <p:nvPr/>
        </p:nvSpPr>
        <p:spPr>
          <a:xfrm flipV="1">
            <a:off x="4643280" y="2349000"/>
            <a:ext cx="1224000" cy="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AutoShape 17"/>
          <p:cNvSpPr/>
          <p:nvPr/>
        </p:nvSpPr>
        <p:spPr>
          <a:xfrm>
            <a:off x="6877080" y="2060640"/>
            <a:ext cx="1871640" cy="1873080"/>
          </a:xfrm>
          <a:prstGeom prst="cloudCallout">
            <a:avLst>
              <a:gd name="adj1" fmla="val -4027"/>
              <a:gd name="adj2" fmla="val 45337"/>
            </a:avLst>
          </a:prstGeom>
          <a:solidFill>
            <a:srgbClr val="73ea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18"/>
          <p:cNvSpPr/>
          <p:nvPr/>
        </p:nvSpPr>
        <p:spPr>
          <a:xfrm>
            <a:off x="7380360" y="2637000"/>
            <a:ext cx="79200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20"/>
          <p:cNvSpPr/>
          <p:nvPr/>
        </p:nvSpPr>
        <p:spPr>
          <a:xfrm>
            <a:off x="4572000" y="4005360"/>
            <a:ext cx="2808360" cy="2303280"/>
          </a:xfrm>
          <a:prstGeom prst="cloudCallout">
            <a:avLst>
              <a:gd name="adj1" fmla="val -26425"/>
              <a:gd name="adj2" fmla="val 48759"/>
            </a:avLst>
          </a:prstGeom>
          <a:solidFill>
            <a:srgbClr val="ed19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Line 21"/>
          <p:cNvSpPr/>
          <p:nvPr/>
        </p:nvSpPr>
        <p:spPr>
          <a:xfrm flipV="1">
            <a:off x="5292720" y="4508280"/>
            <a:ext cx="122400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22"/>
          <p:cNvSpPr/>
          <p:nvPr/>
        </p:nvSpPr>
        <p:spPr>
          <a:xfrm>
            <a:off x="6516720" y="4508640"/>
            <a:ext cx="71280" cy="12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23"/>
          <p:cNvSpPr/>
          <p:nvPr/>
        </p:nvSpPr>
        <p:spPr>
          <a:xfrm flipH="1" flipV="1">
            <a:off x="5292720" y="4581360"/>
            <a:ext cx="1295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35F0-6DE3-4C67-93B3-64724186C2D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2f224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оманая – это последовательное соединение нескольких отрезков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                  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ВС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ломана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В, ВС, С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звенья ломан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, В, С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вершины ломан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Line 4"/>
          <p:cNvSpPr/>
          <p:nvPr/>
        </p:nvSpPr>
        <p:spPr>
          <a:xfrm flipV="1">
            <a:off x="2484360" y="2923920"/>
            <a:ext cx="1152720" cy="108108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5"/>
          <p:cNvSpPr/>
          <p:nvPr/>
        </p:nvSpPr>
        <p:spPr>
          <a:xfrm>
            <a:off x="3635280" y="2924280"/>
            <a:ext cx="936720" cy="865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6"/>
          <p:cNvSpPr/>
          <p:nvPr/>
        </p:nvSpPr>
        <p:spPr>
          <a:xfrm flipV="1">
            <a:off x="4572000" y="3357360"/>
            <a:ext cx="1150920" cy="4316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68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68" fill="hold"/>
                                        <p:tgtEl>
                                          <p:spTgt spid="5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68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68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0CA5-45E8-4C34-8B4E-0BE578243429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оманые бывают замкнутые, незамкнутые, самопересекающие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9898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AutoShape 4"/>
          <p:cNvSpPr/>
          <p:nvPr/>
        </p:nvSpPr>
        <p:spPr>
          <a:xfrm>
            <a:off x="900000" y="1557360"/>
            <a:ext cx="2016360" cy="2016000"/>
          </a:xfrm>
          <a:prstGeom prst="verticalScrol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AutoShape 5"/>
          <p:cNvSpPr/>
          <p:nvPr/>
        </p:nvSpPr>
        <p:spPr>
          <a:xfrm>
            <a:off x="1332000" y="2060640"/>
            <a:ext cx="1106280" cy="11523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AutoShape 6"/>
          <p:cNvSpPr/>
          <p:nvPr/>
        </p:nvSpPr>
        <p:spPr>
          <a:xfrm>
            <a:off x="3276720" y="1557360"/>
            <a:ext cx="2160360" cy="1942920"/>
          </a:xfrm>
          <a:prstGeom prst="verticalScroll">
            <a:avLst>
              <a:gd name="adj" fmla="val 12500"/>
            </a:avLst>
          </a:prstGeom>
          <a:solidFill>
            <a:srgbClr val="73ea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7"/>
          <p:cNvSpPr/>
          <p:nvPr/>
        </p:nvSpPr>
        <p:spPr>
          <a:xfrm>
            <a:off x="5796000" y="1628640"/>
            <a:ext cx="2089080" cy="1871640"/>
          </a:xfrm>
          <a:prstGeom prst="verticalScroll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8"/>
          <p:cNvSpPr/>
          <p:nvPr/>
        </p:nvSpPr>
        <p:spPr>
          <a:xfrm>
            <a:off x="1908000" y="3860640"/>
            <a:ext cx="2087640" cy="2016360"/>
          </a:xfrm>
          <a:prstGeom prst="verticalScroll">
            <a:avLst>
              <a:gd name="adj" fmla="val 12500"/>
            </a:avLst>
          </a:prstGeom>
          <a:solidFill>
            <a:srgbClr val="35e9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utoShape 10"/>
          <p:cNvSpPr/>
          <p:nvPr/>
        </p:nvSpPr>
        <p:spPr>
          <a:xfrm>
            <a:off x="4140360" y="3860640"/>
            <a:ext cx="2160360" cy="1944720"/>
          </a:xfrm>
          <a:prstGeom prst="verticalScroll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11"/>
          <p:cNvSpPr/>
          <p:nvPr/>
        </p:nvSpPr>
        <p:spPr>
          <a:xfrm>
            <a:off x="6372360" y="3860640"/>
            <a:ext cx="2087280" cy="1944720"/>
          </a:xfrm>
          <a:prstGeom prst="verticalScroll">
            <a:avLst>
              <a:gd name="adj" fmla="val 12500"/>
            </a:avLst>
          </a:prstGeom>
          <a:solidFill>
            <a:srgbClr val="5867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12"/>
          <p:cNvSpPr/>
          <p:nvPr/>
        </p:nvSpPr>
        <p:spPr>
          <a:xfrm>
            <a:off x="6372360" y="22050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13"/>
          <p:cNvSpPr/>
          <p:nvPr/>
        </p:nvSpPr>
        <p:spPr>
          <a:xfrm>
            <a:off x="3851280" y="2060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14"/>
          <p:cNvSpPr/>
          <p:nvPr/>
        </p:nvSpPr>
        <p:spPr>
          <a:xfrm flipH="1">
            <a:off x="3924360" y="2060640"/>
            <a:ext cx="1079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15"/>
          <p:cNvSpPr/>
          <p:nvPr/>
        </p:nvSpPr>
        <p:spPr>
          <a:xfrm>
            <a:off x="3924360" y="306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16"/>
          <p:cNvSpPr/>
          <p:nvPr/>
        </p:nvSpPr>
        <p:spPr>
          <a:xfrm>
            <a:off x="4572000" y="4292640"/>
            <a:ext cx="21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17"/>
          <p:cNvSpPr/>
          <p:nvPr/>
        </p:nvSpPr>
        <p:spPr>
          <a:xfrm flipV="1">
            <a:off x="4788000" y="4508640"/>
            <a:ext cx="288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8"/>
          <p:cNvSpPr/>
          <p:nvPr/>
        </p:nvSpPr>
        <p:spPr>
          <a:xfrm>
            <a:off x="5076720" y="450864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19"/>
          <p:cNvSpPr/>
          <p:nvPr/>
        </p:nvSpPr>
        <p:spPr>
          <a:xfrm flipV="1">
            <a:off x="5292720" y="4220640"/>
            <a:ext cx="431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21"/>
          <p:cNvSpPr/>
          <p:nvPr/>
        </p:nvSpPr>
        <p:spPr>
          <a:xfrm flipV="1">
            <a:off x="2484360" y="4221000"/>
            <a:ext cx="503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22"/>
          <p:cNvSpPr/>
          <p:nvPr/>
        </p:nvSpPr>
        <p:spPr>
          <a:xfrm>
            <a:off x="2987640" y="4221000"/>
            <a:ext cx="21600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23"/>
          <p:cNvSpPr/>
          <p:nvPr/>
        </p:nvSpPr>
        <p:spPr>
          <a:xfrm flipH="1" flipV="1">
            <a:off x="2410920" y="4581000"/>
            <a:ext cx="792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24"/>
          <p:cNvSpPr/>
          <p:nvPr/>
        </p:nvSpPr>
        <p:spPr>
          <a:xfrm>
            <a:off x="2411280" y="4581360"/>
            <a:ext cx="1224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25"/>
          <p:cNvSpPr/>
          <p:nvPr/>
        </p:nvSpPr>
        <p:spPr>
          <a:xfrm>
            <a:off x="7020000" y="4365720"/>
            <a:ext cx="93672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Line 26"/>
          <p:cNvSpPr/>
          <p:nvPr/>
        </p:nvSpPr>
        <p:spPr>
          <a:xfrm flipH="1">
            <a:off x="6948000" y="5516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27"/>
          <p:cNvSpPr/>
          <p:nvPr/>
        </p:nvSpPr>
        <p:spPr>
          <a:xfrm flipV="1">
            <a:off x="6948360" y="4365360"/>
            <a:ext cx="86364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04T10:00:31Z</dcterms:modified>
  <cp:revision>71</cp:revision>
  <dc:subject/>
  <dc:title>PowerPoint Presentation</dc:title>
</cp:coreProperties>
</file>