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1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13.gif" ContentType="image/gif"/>
  <Override PartName="/ppt/media/image5.jpeg" ContentType="image/jpeg"/>
  <Override PartName="/ppt/media/image6.png" ContentType="image/png"/>
  <Override PartName="/ppt/media/image7.jpeg" ContentType="image/jpeg"/>
  <Override PartName="/ppt/media/image8.jpeg" ContentType="image/jpe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1D706-1AF6-40D6-BEE8-FF5C28B08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A89A9-A612-4FCD-9FAD-D01463D95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CB45B-C6F7-404C-901F-26ABBC724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B2414-2440-43EB-BD45-11EF39606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A904A-8EC6-4B51-9E87-E048F504F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74581-F329-496D-8BD4-CFE8B86EA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590C8-A100-46CE-98F0-6F8B74653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9D757-DBBE-496A-AE42-65422143E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9D3E3-028D-425F-8F29-6B43950AC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B8344-7C1C-426A-987E-662968F2D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A0176-3F1D-4870-9DA7-3D6524D55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A9293-0315-4B37-9858-70C1A03AE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74B2-5076-4DE8-8EA4-9EF7AFA2FC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3.gi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rcRect l="0" t="0" r="0" b="3536"/>
          <a:stretch/>
        </p:blipFill>
        <p:spPr>
          <a:xfrm>
            <a:off x="105119640" y="106656120"/>
            <a:ext cx="10152000" cy="7054920"/>
          </a:xfrm>
          <a:prstGeom prst="rect">
            <a:avLst/>
          </a:prstGeom>
          <a:ln w="0">
            <a:noFill/>
          </a:ln>
        </p:spPr>
      </p:pic>
      <p:pic>
        <p:nvPicPr>
          <p:cNvPr id="42" name="" descr=""/>
          <p:cNvPicPr/>
          <p:nvPr/>
        </p:nvPicPr>
        <p:blipFill>
          <a:blip r:embed="rId3"/>
          <a:srcRect l="0" t="0" r="0" b="3536"/>
          <a:stretch/>
        </p:blipFill>
        <p:spPr>
          <a:xfrm>
            <a:off x="105271920" y="106808760"/>
            <a:ext cx="10152000" cy="7054560"/>
          </a:xfrm>
          <a:prstGeom prst="rect">
            <a:avLst/>
          </a:prstGeom>
          <a:ln w="0">
            <a:noFill/>
          </a:ln>
        </p:spPr>
      </p:pic>
      <p:sp>
        <p:nvSpPr>
          <p:cNvPr id="43" name=""/>
          <p:cNvSpPr/>
          <p:nvPr/>
        </p:nvSpPr>
        <p:spPr>
          <a:xfrm>
            <a:off x="533520" y="685800"/>
            <a:ext cx="693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4"/>
          <a:srcRect l="0" t="0" r="0" b="3536"/>
          <a:stretch/>
        </p:blipFill>
        <p:spPr>
          <a:xfrm>
            <a:off x="105424200" y="106961040"/>
            <a:ext cx="10152000" cy="7054920"/>
          </a:xfrm>
          <a:prstGeom prst="rect">
            <a:avLst/>
          </a:prstGeom>
          <a:ln w="0">
            <a:noFill/>
          </a:ln>
        </p:spPr>
      </p:pic>
      <p:sp>
        <p:nvSpPr>
          <p:cNvPr id="45" name=""/>
          <p:cNvSpPr txBox="1"/>
          <p:nvPr/>
        </p:nvSpPr>
        <p:spPr>
          <a:xfrm rot="20900400">
            <a:off x="990360" y="1981080"/>
            <a:ext cx="7235640" cy="1800360"/>
          </a:xfrm>
          <a:prstGeom prst="rect">
            <a:avLst/>
          </a:prstGeom>
        </p:spPr>
        <p:txBody>
          <a:bodyPr wrap="none" lIns="36360" rIns="36360" tIns="36360" bIns="363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000000"/>
                  </a:solidFill>
                  <a:miter/>
                </a:ln>
                <a:gradFill rotWithShape="0">
                  <a:gsLst>
                    <a:gs pos="0">
                      <a:srgbClr val="ffffff"/>
                    </a:gs>
                    <a:gs pos="100000">
                      <a:srgbClr val="ffffff"/>
                    </a:gs>
                  </a:gsLst>
                  <a:lin ang="5400000"/>
                </a:gradFill>
                <a:latin typeface="Times New Roman"/>
              </a:rPr>
              <a:t>Мечтатель</a:t>
            </a:r>
            <a:endParaRPr b="1" lang="en-US" sz="66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46" name=""/>
          <p:cNvSpPr txBox="1"/>
          <p:nvPr/>
        </p:nvSpPr>
        <p:spPr>
          <a:xfrm>
            <a:off x="4191120" y="4724280"/>
            <a:ext cx="3671640" cy="1152720"/>
          </a:xfrm>
          <a:prstGeom prst="rect">
            <a:avLst/>
          </a:prstGeom>
        </p:spPr>
        <p:txBody>
          <a:bodyPr wrap="none" lIns="36360" rIns="36360" tIns="36360" bIns="363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gradFill rotWithShape="0">
                  <a:gsLst>
                    <a:gs pos="0">
                      <a:srgbClr val="ffffff"/>
                    </a:gs>
                    <a:gs pos="100000">
                      <a:srgbClr val="ffffff"/>
                    </a:gs>
                  </a:gsLst>
                  <a:lin ang="5400000"/>
                </a:gradFill>
                <a:latin typeface="Times New Roman"/>
              </a:rPr>
              <a:t>выпуск 1</a:t>
            </a:r>
            <a:endParaRPr b="0" i="1"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gradFill rotWithShape="0">
                  <a:gsLst>
                    <a:gs pos="0">
                      <a:srgbClr val="ffffff"/>
                    </a:gs>
                    <a:gs pos="100000">
                      <a:srgbClr val="ffffff"/>
                    </a:gs>
                  </a:gsLst>
                  <a:lin ang="5400000"/>
                </a:gradFill>
                <a:latin typeface="Times New Roman"/>
              </a:rPr>
              <a:t>ноябрь 2009</a:t>
            </a:r>
            <a:endParaRPr b="0" i="1"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47" name="" descr=""/>
          <p:cNvPicPr/>
          <p:nvPr/>
        </p:nvPicPr>
        <p:blipFill>
          <a:blip r:embed="rId5"/>
          <a:srcRect l="0" t="0" r="0" b="3536"/>
          <a:stretch/>
        </p:blipFill>
        <p:spPr>
          <a:xfrm>
            <a:off x="105576840" y="107113320"/>
            <a:ext cx="10152000" cy="705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228600"/>
            <a:ext cx="3581280" cy="58975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 школе</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вонок, звонок,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ра на урок!</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 веселе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на уроке не робе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у тяни поскоре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 умным стат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ужно работы сдават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ужно много трудитьс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конечно, прилежно учитьс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ужно все правила запоминат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конечно пять получат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апа, мама, я</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па, мама, я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е мы  друзь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е мы опор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е мы семь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нь много трудносте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преодолею 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вместе мы сил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ряю 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семьей не робе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семьей ты сильне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семьей покориш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ы вершины скоре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семьей бесконечн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удрость тво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ряю в этом Вас 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sp>
        <p:nvSpPr>
          <p:cNvPr id="73" name=""/>
          <p:cNvSpPr/>
          <p:nvPr/>
        </p:nvSpPr>
        <p:spPr>
          <a:xfrm>
            <a:off x="4114800" y="457200"/>
            <a:ext cx="3429000" cy="547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 спорт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быть спортивны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очно быть сильны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очно быть ловки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ужно быть упорны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 один силач</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будет великим спортсмено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к силе не прибавить упорств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 на свете притворств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настоящим спортсмено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жет быть не каждый силач!</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юбимый месяц</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кабре, в декабр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 снега на двор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 радости, весель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 счастья детвор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на лыжах, и на санка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жно вниз с горы лете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од елкой, перед елко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хороводах песни пе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нежинк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ервая снежинка звонко вдаль лети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ямо как пушинка грациозно пари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она не знает, что ее там жде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в голубые дали вместе с сестрами плыве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sp>
        <p:nvSpPr>
          <p:cNvPr id="74" name=""/>
          <p:cNvSpPr/>
          <p:nvPr/>
        </p:nvSpPr>
        <p:spPr>
          <a:xfrm>
            <a:off x="7467480" y="380880"/>
            <a:ext cx="1371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Максимов Петр</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304920"/>
            <a:ext cx="3733920" cy="6400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400" spc="-1" strike="noStrike">
                <a:solidFill>
                  <a:srgbClr val="000000"/>
                </a:solidFill>
                <a:latin typeface="Arial"/>
              </a:rPr>
              <a:t>*   *   *</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ое утро с собою борьб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школу вставать и мучиться без конц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втракать, мыться, портфель собират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хочется просто упасть на кроват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r>
              <a:rPr b="0" lang="en" sz="1200" spc="-1" strike="noStrike">
                <a:solidFill>
                  <a:srgbClr val="000000"/>
                </a:solidFill>
                <a:latin typeface="Arial"/>
              </a:rPr>
              <a:t>*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встречу подруг я у нас во двор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сразу же легче становиться мн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в школу спешим на первый урок.</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 окнами слышен веселый звонок.</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r>
              <a:rPr b="0" lang="en" sz="1200" spc="-1" strike="noStrike">
                <a:solidFill>
                  <a:srgbClr val="000000"/>
                </a:solidFill>
                <a:latin typeface="Arial"/>
              </a:rPr>
              <a:t>*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рее за парту, пример на доск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мы математику учим в тоск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наступит перемен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на историю будет замен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r>
              <a:rPr b="0" lang="en" sz="1200" spc="-1" strike="noStrike">
                <a:solidFill>
                  <a:srgbClr val="000000"/>
                </a:solidFill>
                <a:latin typeface="Arial"/>
              </a:rPr>
              <a:t>*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все уроки  в жизни важны</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оэтому каникулы нам очень нужны.</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дем не дождемся каникул желанных</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летних деньков таких долгожданных.</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400" spc="-1" strike="noStrike">
                <a:solidFill>
                  <a:srgbClr val="000000"/>
                </a:solidFill>
                <a:latin typeface="Arial"/>
              </a:rPr>
              <a:t>Родители</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встречает нас с рассветом?</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заряет солнце светом…</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нас любит как никто?</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роднее  никого!</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ма ласкова, нежна, как бирюзовая волн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отливый и смелый пап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ссорьтесь с ними вы, ребят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роднее их на свет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же на большой планет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не встретите таких</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дителей заботливых!</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sp>
        <p:nvSpPr>
          <p:cNvPr id="76" name=""/>
          <p:cNvSpPr/>
          <p:nvPr/>
        </p:nvSpPr>
        <p:spPr>
          <a:xfrm>
            <a:off x="4724280" y="380880"/>
            <a:ext cx="2819520" cy="63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400" spc="-1" strike="noStrike">
                <a:solidFill>
                  <a:srgbClr val="000000"/>
                </a:solidFill>
                <a:latin typeface="Arial"/>
              </a:rPr>
              <a:t>*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еред, впере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ыжня зове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сердце радостно пое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прошла я поворо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перник сзади отстае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е нужен к финишу рыво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шапку падает снежо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меют ноги, но крепис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варищ мне кричит: </a:t>
            </a:r>
            <a:r>
              <a:rPr b="0" lang="en" sz="1200" spc="-1" strike="noStrike">
                <a:solidFill>
                  <a:srgbClr val="000000"/>
                </a:solidFill>
                <a:latin typeface="Arial"/>
              </a:rPr>
              <a:t>«</a:t>
            </a:r>
            <a:r>
              <a:rPr b="0" lang="ru-RU" sz="1200" spc="-1" strike="noStrike">
                <a:solidFill>
                  <a:srgbClr val="000000"/>
                </a:solidFill>
                <a:latin typeface="Arial"/>
              </a:rPr>
              <a:t>Держись!</a:t>
            </a:r>
            <a:r>
              <a:rPr b="0" lang="en"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ькают сосн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 близк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е до победы полрывк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годня я не уступл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рожку звездную мо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ав на снег, я ленту рв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крытым ртом хриплю, дыш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кует тренер – кубок на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беда наша не мира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рузья кричат: </a:t>
            </a:r>
            <a:r>
              <a:rPr b="0" lang="en" sz="1200" spc="-1" strike="noStrike">
                <a:solidFill>
                  <a:srgbClr val="000000"/>
                </a:solidFill>
                <a:latin typeface="Arial"/>
              </a:rPr>
              <a:t>«</a:t>
            </a:r>
            <a:r>
              <a:rPr b="0" lang="ru-RU" sz="1200" spc="-1" strike="noStrike">
                <a:solidFill>
                  <a:srgbClr val="000000"/>
                </a:solidFill>
                <a:latin typeface="Arial"/>
              </a:rPr>
              <a:t>Ты молодец!</a:t>
            </a:r>
            <a:r>
              <a:rPr b="0" lang="en"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я домой хочу, коне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рт-любимый месяц</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 месяцев в год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любимом расскаж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т-любимый месяц мо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е с птицами ты по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т и грач к нам прилете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снегирь наш улете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журчало все</a:t>
            </a:r>
            <a:r>
              <a:rPr b="0" lang="ru-RU" sz="1800" spc="-1" strike="noStrike">
                <a:solidFill>
                  <a:srgbClr val="000000"/>
                </a:solidFill>
                <a:latin typeface="Arial"/>
              </a:rPr>
              <a:t> </a:t>
            </a:r>
            <a:r>
              <a:rPr b="0" lang="ru-RU" sz="1200" spc="-1" strike="noStrike">
                <a:solidFill>
                  <a:srgbClr val="000000"/>
                </a:solidFill>
                <a:latin typeface="Arial"/>
              </a:rPr>
              <a:t>вокру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ступил День рождения вдруг. </a:t>
            </a:r>
            <a:r>
              <a:rPr b="1"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sp>
        <p:nvSpPr>
          <p:cNvPr id="77" name=""/>
          <p:cNvSpPr/>
          <p:nvPr/>
        </p:nvSpPr>
        <p:spPr>
          <a:xfrm>
            <a:off x="7162920" y="457200"/>
            <a:ext cx="1752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Степанова Аглая</a:t>
            </a:r>
            <a:endParaRPr b="0" lang="en-US" sz="1600" spc="-1" strike="noStrike">
              <a:solidFill>
                <a:srgbClr val="000000"/>
              </a:solidFill>
              <a:latin typeface="Arial"/>
            </a:endParaRPr>
          </a:p>
        </p:txBody>
      </p:sp>
      <p:pic>
        <p:nvPicPr>
          <p:cNvPr id="78" name="" descr=""/>
          <p:cNvPicPr/>
          <p:nvPr/>
        </p:nvPicPr>
        <p:blipFill>
          <a:blip r:embed="rId2"/>
          <a:stretch/>
        </p:blipFill>
        <p:spPr>
          <a:xfrm>
            <a:off x="7381800" y="1981080"/>
            <a:ext cx="1762200" cy="231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99c0"/>
            </a:gs>
          </a:gsLst>
          <a:path path="rect">
            <a:fillToRect l="50000" t="50000" r="50000" b="50000"/>
          </a:path>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6840" y="304920"/>
            <a:ext cx="8381880" cy="6400800"/>
          </a:xfrm>
          <a:prstGeom prst="rect">
            <a:avLst/>
          </a:prstGeom>
          <a:noFill/>
          <a:ln w="0">
            <a:noFill/>
          </a:ln>
        </p:spPr>
        <p:txBody>
          <a:bodyPr lIns="90000" rIns="90000" tIns="46800" bIns="46800" anchor="t">
            <a:normAutofit fontScale="99000"/>
          </a:bodyPr>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ключения капитана королевской гвардии Швейкова.</a:t>
            </a:r>
            <a:endParaRPr b="0" lang="en-US" sz="1600" spc="-1" strike="noStrike">
              <a:solidFill>
                <a:srgbClr val="000000"/>
              </a:solidFill>
              <a:latin typeface="Arial"/>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I</a:t>
            </a:r>
            <a:endParaRPr b="0" lang="en-US" sz="1200" spc="-1" strike="noStrike">
              <a:solidFill>
                <a:srgbClr val="000000"/>
              </a:solidFill>
              <a:latin typeface="Arial"/>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Эта история повествует  нам о приключениях знаменитого капитана королевской гвардии Швейкова. </a:t>
            </a:r>
            <a:endParaRPr b="0" lang="en-US" sz="1200" spc="-1" strike="noStrike">
              <a:solidFill>
                <a:srgbClr val="000000"/>
              </a:solidFill>
              <a:latin typeface="Arial"/>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О его победе над страшным Огром, о неравной схватке с болотным драконом и великом сражении </a:t>
            </a:r>
            <a:endParaRPr b="0" lang="en-US" sz="1200" spc="-1" strike="noStrike">
              <a:solidFill>
                <a:srgbClr val="000000"/>
              </a:solidFill>
              <a:latin typeface="Arial"/>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с Кощеем  Бессмертным и армией робонежити.</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ленький Ваня Швейков дремал , сидя на крыльце своего домика. В голове у него были рыцари, герои и огромные демоны. Вдруг к нему подошел отец: </a:t>
            </a:r>
            <a:r>
              <a:rPr b="0" lang="en" sz="1200" spc="-1" strike="noStrike">
                <a:solidFill>
                  <a:srgbClr val="000000"/>
                </a:solidFill>
                <a:latin typeface="Arial"/>
              </a:rPr>
              <a:t>«</a:t>
            </a:r>
            <a:r>
              <a:rPr b="0" lang="ru-RU" sz="1200" spc="-1" strike="noStrike">
                <a:solidFill>
                  <a:srgbClr val="000000"/>
                </a:solidFill>
                <a:latin typeface="Arial"/>
              </a:rPr>
              <a:t>Просыпайся! Задремал опять что ли?</a:t>
            </a:r>
            <a:r>
              <a:rPr b="0" lang="en" sz="1200" spc="-1" strike="noStrike">
                <a:solidFill>
                  <a:srgbClr val="000000"/>
                </a:solidFill>
                <a:latin typeface="Arial"/>
              </a:rPr>
              <a:t>» </a:t>
            </a:r>
            <a:r>
              <a:rPr b="0" lang="ru-RU" sz="1200" spc="-1" strike="noStrike">
                <a:solidFill>
                  <a:srgbClr val="000000"/>
                </a:solidFill>
                <a:latin typeface="Arial"/>
              </a:rPr>
              <a:t>Мальчик вздрогнул от неожиданного появления  отца. А тот тем временем продолжал: </a:t>
            </a:r>
            <a:r>
              <a:rPr b="0" lang="en" sz="1200" spc="-1" strike="noStrike">
                <a:solidFill>
                  <a:srgbClr val="000000"/>
                </a:solidFill>
                <a:latin typeface="Arial"/>
              </a:rPr>
              <a:t>«</a:t>
            </a:r>
            <a:r>
              <a:rPr b="0" lang="ru-RU" sz="1200" spc="-1" strike="noStrike">
                <a:solidFill>
                  <a:srgbClr val="000000"/>
                </a:solidFill>
                <a:latin typeface="Arial"/>
              </a:rPr>
              <a:t>Вечно ты в облаках витаешь! Одни рыцари в голове! Тебе бы работой заняться, а ты!</a:t>
            </a:r>
            <a:r>
              <a:rPr b="0" lang="en" sz="1200" spc="-1" strike="noStrike">
                <a:solidFill>
                  <a:srgbClr val="000000"/>
                </a:solidFill>
                <a:latin typeface="Arial"/>
              </a:rPr>
              <a:t>» </a:t>
            </a:r>
            <a:r>
              <a:rPr b="0" lang="ru-RU" sz="1200" spc="-1" strike="noStrike">
                <a:solidFill>
                  <a:srgbClr val="000000"/>
                </a:solidFill>
                <a:latin typeface="Arial"/>
              </a:rPr>
              <a:t>Немного подумав, Ваня ответил:</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у пап, я уже сделал все уроки, перемыл посуду и полил клумбы, я заслужил отдых!</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ы что забыл про мамин День рождения, а.. Подарка у тебя ведь нет, я вижу.</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х нет,- ответил мальчик.</a:t>
            </a:r>
            <a:endParaRPr b="0" lang="en-US" sz="1200" spc="-1" strike="noStrike">
              <a:solidFill>
                <a:srgbClr val="000000"/>
              </a:solidFill>
              <a:latin typeface="Arial"/>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II</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ут неплохо было бы описать нашего героя, маленького Швейкова. Он был худощав, силен и очень высок. В школе учился на отлично и неплохо ездил на лошадях. Сейчас мальчик слонялся по городу в поисках подарка для матери. За тридцать Ваниных серебряников можно купить маленький букетик, на котором и остановился мальчик.</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новым подарком наш герой шел домой, как раздался крик: </a:t>
            </a:r>
            <a:r>
              <a:rPr b="0" lang="en" sz="1200" spc="-1" strike="noStrike">
                <a:solidFill>
                  <a:srgbClr val="000000"/>
                </a:solidFill>
                <a:latin typeface="Arial"/>
              </a:rPr>
              <a:t>«</a:t>
            </a:r>
            <a:r>
              <a:rPr b="0" lang="ru-RU" sz="1200" spc="-1" strike="noStrike">
                <a:solidFill>
                  <a:srgbClr val="000000"/>
                </a:solidFill>
                <a:latin typeface="Arial"/>
              </a:rPr>
              <a:t>Спасите!</a:t>
            </a:r>
            <a:r>
              <a:rPr b="0" lang="en" sz="1200" spc="-1" strike="noStrike">
                <a:solidFill>
                  <a:srgbClr val="000000"/>
                </a:solidFill>
                <a:latin typeface="Arial"/>
              </a:rPr>
              <a:t>» </a:t>
            </a:r>
            <a:r>
              <a:rPr b="0" lang="ru-RU" sz="1200" spc="-1" strike="noStrike">
                <a:solidFill>
                  <a:srgbClr val="000000"/>
                </a:solidFill>
                <a:latin typeface="Arial"/>
              </a:rPr>
              <a:t>На мальчика бежал  человек, из его спины торчала стрела. Вскоре человек упал замертво. Мальчик увидел робонежить, приближающуюся к городу. Не оглядываясь, Иван побежал…</a:t>
            </a:r>
            <a:endParaRPr b="0" lang="en-US" sz="1200" spc="-1" strike="noStrike">
              <a:solidFill>
                <a:srgbClr val="000000"/>
              </a:solidFill>
              <a:latin typeface="Arial"/>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III</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льчик спрятался в небольшом кустике, где его было не видно. Букетик он выронил на бегу. В городе кипела бойня. Свистели стрелы, кричали стражники, звенели клинки. Наступил вечер, а бой не прекращался. Вскоре последний стражник пал. Радостные монстры стали грабить все, что увидят. А Ваня Швейков направлялся к своему домику. Еще издалека он увидел горящий дом и рядом… тело своего отца. Отец лежал в окружении мертвой робонежити. Он пал как герой! А мальчик остался один…</a:t>
            </a:r>
            <a:endParaRPr b="0" lang="en-US" sz="1200" spc="-1" strike="noStrike">
              <a:solidFill>
                <a:srgbClr val="000000"/>
              </a:solidFill>
              <a:latin typeface="Arial"/>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IV</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a:t>
            </a:r>
            <a:r>
              <a:rPr b="0" lang="ru-RU" sz="1200" spc="-1" strike="noStrike">
                <a:solidFill>
                  <a:srgbClr val="000000"/>
                </a:solidFill>
                <a:latin typeface="Arial"/>
              </a:rPr>
              <a:t>Пошевеливайся!</a:t>
            </a:r>
            <a:r>
              <a:rPr b="0" lang="en" sz="1200" spc="-1" strike="noStrike">
                <a:solidFill>
                  <a:srgbClr val="000000"/>
                </a:solidFill>
                <a:latin typeface="Arial"/>
              </a:rPr>
              <a:t>”- </a:t>
            </a:r>
            <a:r>
              <a:rPr b="0" lang="ru-RU" sz="1200" spc="-1" strike="noStrike">
                <a:solidFill>
                  <a:srgbClr val="000000"/>
                </a:solidFill>
                <a:latin typeface="Arial"/>
              </a:rPr>
              <a:t>кричал монстр на закованного в цепи мальчика,- </a:t>
            </a:r>
            <a:r>
              <a:rPr b="0" lang="en" sz="1200" spc="-1" strike="noStrike">
                <a:solidFill>
                  <a:srgbClr val="000000"/>
                </a:solidFill>
                <a:latin typeface="Arial"/>
              </a:rPr>
              <a:t>«</a:t>
            </a:r>
            <a:r>
              <a:rPr b="0" lang="ru-RU" sz="1200" spc="-1" strike="noStrike">
                <a:solidFill>
                  <a:srgbClr val="000000"/>
                </a:solidFill>
                <a:latin typeface="Arial"/>
              </a:rPr>
              <a:t>Давай, вонючее отродье</a:t>
            </a:r>
            <a:r>
              <a:rPr b="0" lang="en" sz="1200" spc="-1" strike="noStrike">
                <a:solidFill>
                  <a:srgbClr val="000000"/>
                </a:solidFill>
                <a:latin typeface="Arial"/>
              </a:rPr>
              <a:t>». </a:t>
            </a:r>
            <a:r>
              <a:rPr b="0" lang="ru-RU" sz="1200" spc="-1" strike="noStrike">
                <a:solidFill>
                  <a:srgbClr val="000000"/>
                </a:solidFill>
                <a:latin typeface="Arial"/>
              </a:rPr>
              <a:t>Мальчик, как вы догадались, и был Иван Швейков, попавший в плен к робонежити. Он шел, опустив голову, и не обращая внимания на угрозы работорговца. Они находились в Царьграде– столице королевства. Ваня никогда не бывал раньше в таком красивом месте. Его вели на рынок, где собирались продать в рабство какому – нибудь торговцу. </a:t>
            </a:r>
            <a:r>
              <a:rPr b="0" lang="en" sz="1200" spc="-1" strike="noStrike">
                <a:solidFill>
                  <a:srgbClr val="000000"/>
                </a:solidFill>
                <a:latin typeface="Arial"/>
              </a:rPr>
              <a:t>«</a:t>
            </a:r>
            <a:r>
              <a:rPr b="0" lang="ru-RU" sz="1200" spc="-1" strike="noStrike">
                <a:solidFill>
                  <a:srgbClr val="000000"/>
                </a:solidFill>
                <a:latin typeface="Arial"/>
              </a:rPr>
              <a:t>Вот дошли!</a:t>
            </a:r>
            <a:r>
              <a:rPr b="0" lang="en" sz="1200" spc="-1" strike="noStrike">
                <a:solidFill>
                  <a:srgbClr val="000000"/>
                </a:solidFill>
                <a:latin typeface="Arial"/>
              </a:rPr>
              <a:t>- </a:t>
            </a:r>
            <a:r>
              <a:rPr b="0" lang="ru-RU" sz="1200" spc="-1" strike="noStrike">
                <a:solidFill>
                  <a:srgbClr val="000000"/>
                </a:solidFill>
                <a:latin typeface="Arial"/>
              </a:rPr>
              <a:t>сказал монстр,- Сиди и не рыпайся, а то стегану кнутом!</a:t>
            </a:r>
            <a:r>
              <a:rPr b="0" lang="en" sz="1200" spc="-1" strike="noStrike">
                <a:solidFill>
                  <a:srgbClr val="000000"/>
                </a:solidFill>
                <a:latin typeface="Arial"/>
              </a:rPr>
              <a:t>»</a:t>
            </a:r>
            <a:r>
              <a:rPr b="0" lang="ru-RU" sz="1200" spc="-1" strike="noStrike">
                <a:solidFill>
                  <a:srgbClr val="000000"/>
                </a:solidFill>
                <a:latin typeface="Arial"/>
              </a:rPr>
              <a:t> Мальчик и не собирался убегать от монстра, ему было все равно.</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ел час, два, а мальчика не покупали.</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Знаешь, что с тобой будет, если тебя не купят? Придется тебя убить!- смеялся враг. Прошло еще немного времени, и появился человек в черной одежде. Он подошел к монстру и спросил:</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191b5"/>
            </a:gs>
          </a:gsLst>
          <a:path path="rect">
            <a:fillToRect l="50000" t="50000" r="50000" b="50000"/>
          </a:path>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80520" y="380880"/>
            <a:ext cx="8534520" cy="60199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лько стоит мальчик?</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ста серебряников.</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рошо, - проговорил человек.</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росив мешок с деньгами работорговцу, человек увел мальчика.</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V</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льчик не догадывался, что человек, выкупивший его—капитан Королевской  гвардии. Меня зовут Йомен, - сказал человек,– Тебе повезло, что я  тебя выкупил, а теперь иди за мно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да мы идем? -спросил Иван.</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Академию,- загадочно сказал Йомен.</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a:t>
            </a:r>
            <a:r>
              <a:rPr b="0" lang="ru-RU" sz="1200" spc="-1" strike="noStrike">
                <a:solidFill>
                  <a:srgbClr val="000000"/>
                </a:solidFill>
                <a:latin typeface="Arial"/>
              </a:rPr>
              <a:t>Я капитан Королевской гвардии, и мы набираем кадетов туд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льчик много слышал об Академии гвардейцев и мечтал туда попасть. Теперь его мечта сбывалась.</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V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шло пять лет. Герой тренировался в Академии день и ночь. Он овладел мечом и луком, стал сильным и ловким. Ночью Йомен обучал его грамоте, а днем они фехтовали. И в Академии Швейков был лучше всех.</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жды позвал его Йомен к себе и говорит: </a:t>
            </a:r>
            <a:r>
              <a:rPr b="0" lang="en" sz="1200" spc="-1" strike="noStrike">
                <a:solidFill>
                  <a:srgbClr val="000000"/>
                </a:solidFill>
                <a:latin typeface="Arial"/>
              </a:rPr>
              <a:t>«</a:t>
            </a:r>
            <a:r>
              <a:rPr b="0" lang="ru-RU" sz="1200" spc="-1" strike="noStrike">
                <a:solidFill>
                  <a:srgbClr val="000000"/>
                </a:solidFill>
                <a:latin typeface="Arial"/>
              </a:rPr>
              <a:t>Ты сдал все экзамены и показал себя лучшим, за всю историю Академии, воином, а я уже стар для ратного дела, так что я хочу сделать тебе подарок. С сегодняшнего дня ты—капитан и начальник Королевской гвардии! Да пребудет с тобой судьба!</a:t>
            </a:r>
            <a:r>
              <a:rPr b="0" lang="en" sz="1200" spc="-1" strike="noStrike">
                <a:solidFill>
                  <a:srgbClr val="000000"/>
                </a:solidFill>
                <a:latin typeface="Arial"/>
              </a:rPr>
              <a:t>» </a:t>
            </a:r>
            <a:r>
              <a:rPr b="0" lang="ru-RU" sz="1200" spc="-1" strike="noStrike">
                <a:solidFill>
                  <a:srgbClr val="000000"/>
                </a:solidFill>
                <a:latin typeface="Arial"/>
              </a:rPr>
              <a:t>С этого дня Иван Швейков стал командиром гвардейцев, а Йомен удалился в дальние края, чтобы найти свое счастье, а это уже другая история.</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VI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a:t>
            </a:r>
            <a:r>
              <a:rPr b="0" lang="ru-RU" sz="1200" spc="-1" strike="noStrike">
                <a:solidFill>
                  <a:srgbClr val="000000"/>
                </a:solidFill>
                <a:latin typeface="Arial"/>
              </a:rPr>
              <a:t>Спасите, спасите!</a:t>
            </a:r>
            <a:r>
              <a:rPr b="0" lang="en" sz="1200" spc="-1" strike="noStrike">
                <a:solidFill>
                  <a:srgbClr val="000000"/>
                </a:solidFill>
                <a:latin typeface="Arial"/>
              </a:rPr>
              <a:t>» - </a:t>
            </a:r>
            <a:r>
              <a:rPr b="0" lang="ru-RU" sz="1200" spc="-1" strike="noStrike">
                <a:solidFill>
                  <a:srgbClr val="000000"/>
                </a:solidFill>
                <a:latin typeface="Arial"/>
              </a:rPr>
              <a:t>кричал человек. Три великана избивали его. </a:t>
            </a:r>
            <a:r>
              <a:rPr b="0" lang="en" sz="1200" spc="-1" strike="noStrike">
                <a:solidFill>
                  <a:srgbClr val="000000"/>
                </a:solidFill>
                <a:latin typeface="Arial"/>
              </a:rPr>
              <a:t>«</a:t>
            </a:r>
            <a:r>
              <a:rPr b="0" lang="ru-RU" sz="1200" spc="-1" strike="noStrike">
                <a:solidFill>
                  <a:srgbClr val="000000"/>
                </a:solidFill>
                <a:latin typeface="Arial"/>
              </a:rPr>
              <a:t>Будешь знать, как не платить!</a:t>
            </a:r>
            <a:r>
              <a:rPr b="0" lang="en" sz="1200" spc="-1" strike="noStrike">
                <a:solidFill>
                  <a:srgbClr val="000000"/>
                </a:solidFill>
                <a:latin typeface="Arial"/>
              </a:rPr>
              <a:t>» -</a:t>
            </a:r>
            <a:r>
              <a:rPr b="0" lang="ru-RU" sz="1200" spc="-1" strike="noStrike">
                <a:solidFill>
                  <a:srgbClr val="000000"/>
                </a:solidFill>
                <a:latin typeface="Arial"/>
              </a:rPr>
              <a:t>говорил самый большой из них. Никто из прохожих не хотел заступиться, все очень боялись. Вдруг появилась фигура в красном плаще. </a:t>
            </a:r>
            <a:r>
              <a:rPr b="0" lang="en" sz="1200" spc="-1" strike="noStrike">
                <a:solidFill>
                  <a:srgbClr val="000000"/>
                </a:solidFill>
                <a:latin typeface="Arial"/>
              </a:rPr>
              <a:t>«</a:t>
            </a:r>
            <a:r>
              <a:rPr b="0" lang="ru-RU" sz="1200" spc="-1" strike="noStrike">
                <a:solidFill>
                  <a:srgbClr val="000000"/>
                </a:solidFill>
                <a:latin typeface="Arial"/>
              </a:rPr>
              <a:t>Оставьте его</a:t>
            </a:r>
            <a:r>
              <a:rPr b="0" lang="en" sz="1200" spc="-1" strike="noStrike">
                <a:solidFill>
                  <a:srgbClr val="000000"/>
                </a:solidFill>
                <a:latin typeface="Arial"/>
              </a:rPr>
              <a:t>», - </a:t>
            </a:r>
            <a:r>
              <a:rPr b="0" lang="ru-RU" sz="1200" spc="-1" strike="noStrike">
                <a:solidFill>
                  <a:srgbClr val="000000"/>
                </a:solidFill>
                <a:latin typeface="Arial"/>
              </a:rPr>
              <a:t>сказал человек. Три великана оглянулись, а главный по имени Огр промолвил : </a:t>
            </a:r>
            <a:r>
              <a:rPr b="0" lang="en" sz="1200" spc="-1" strike="noStrike">
                <a:solidFill>
                  <a:srgbClr val="000000"/>
                </a:solidFill>
                <a:latin typeface="Arial"/>
              </a:rPr>
              <a:t>«</a:t>
            </a:r>
            <a:r>
              <a:rPr b="0" lang="ru-RU" sz="1200" spc="-1" strike="noStrike">
                <a:solidFill>
                  <a:srgbClr val="000000"/>
                </a:solidFill>
                <a:latin typeface="Arial"/>
              </a:rPr>
              <a:t>Ты думаешь сможешь победить нас! Я один порву тебя на куски!</a:t>
            </a:r>
            <a:r>
              <a:rPr b="0" lang="en" sz="1200" spc="-1" strike="noStrike">
                <a:solidFill>
                  <a:srgbClr val="000000"/>
                </a:solidFill>
                <a:latin typeface="Arial"/>
              </a:rPr>
              <a:t>» </a:t>
            </a:r>
            <a:r>
              <a:rPr b="0" lang="ru-RU" sz="1200" spc="-1" strike="noStrike">
                <a:solidFill>
                  <a:srgbClr val="000000"/>
                </a:solidFill>
                <a:latin typeface="Arial"/>
              </a:rPr>
              <a:t>Герой достал оружие, он был вооружен мечом, а великан большим топором. Вот бой начался. Оба дрались великолепно и не уступали один другому. Звон железа наполнял воздух. Вот человек извернулся и проткнул Огра насквозь. Огр упал, а человек сказал: </a:t>
            </a:r>
            <a:r>
              <a:rPr b="0" lang="en" sz="1200" spc="-1" strike="noStrike">
                <a:solidFill>
                  <a:srgbClr val="000000"/>
                </a:solidFill>
                <a:latin typeface="Arial"/>
              </a:rPr>
              <a:t>«</a:t>
            </a:r>
            <a:r>
              <a:rPr b="0" lang="ru-RU" sz="1200" spc="-1" strike="noStrike">
                <a:solidFill>
                  <a:srgbClr val="000000"/>
                </a:solidFill>
                <a:latin typeface="Arial"/>
              </a:rPr>
              <a:t>Знай, что пал ты от руки Ивана Швейкова, защитника слабых</a:t>
            </a:r>
            <a:r>
              <a:rPr b="0" lang="en" sz="1200" spc="-1" strike="noStrike">
                <a:solidFill>
                  <a:srgbClr val="000000"/>
                </a:solidFill>
                <a:latin typeface="Arial"/>
              </a:rPr>
              <a:t>».</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VII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вестность Ивана росла. Его узнавали на улицах, как </a:t>
            </a:r>
            <a:r>
              <a:rPr b="0" lang="en" sz="1200" spc="-1" strike="noStrike">
                <a:solidFill>
                  <a:srgbClr val="000000"/>
                </a:solidFill>
                <a:latin typeface="Arial"/>
              </a:rPr>
              <a:t>«</a:t>
            </a:r>
            <a:r>
              <a:rPr b="0" lang="ru-RU" sz="1200" spc="-1" strike="noStrike">
                <a:solidFill>
                  <a:srgbClr val="000000"/>
                </a:solidFill>
                <a:latin typeface="Arial"/>
              </a:rPr>
              <a:t>Убийцу Огров</a:t>
            </a:r>
            <a:r>
              <a:rPr b="0" lang="en" sz="1200" spc="-1" strike="noStrike">
                <a:solidFill>
                  <a:srgbClr val="000000"/>
                </a:solidFill>
                <a:latin typeface="Arial"/>
              </a:rPr>
              <a:t>». </a:t>
            </a:r>
            <a:r>
              <a:rPr b="0" lang="ru-RU" sz="1200" spc="-1" strike="noStrike">
                <a:solidFill>
                  <a:srgbClr val="000000"/>
                </a:solidFill>
                <a:latin typeface="Arial"/>
              </a:rPr>
              <a:t>И получил он однажды задание от гильдии торговцев. Оно звучало так: </a:t>
            </a:r>
            <a:r>
              <a:rPr b="0" lang="en" sz="1200" spc="-1" strike="noStrike">
                <a:solidFill>
                  <a:srgbClr val="000000"/>
                </a:solidFill>
                <a:latin typeface="Arial"/>
              </a:rPr>
              <a:t>«</a:t>
            </a:r>
            <a:r>
              <a:rPr b="0" lang="ru-RU" sz="1200" spc="-1" strike="noStrike">
                <a:solidFill>
                  <a:srgbClr val="000000"/>
                </a:solidFill>
                <a:latin typeface="Arial"/>
              </a:rPr>
              <a:t>Найти и убить болотного дракона, нападающего на караваны</a:t>
            </a:r>
            <a:r>
              <a:rPr b="0" lang="en" sz="1200" spc="-1" strike="noStrike">
                <a:solidFill>
                  <a:srgbClr val="000000"/>
                </a:solidFill>
                <a:latin typeface="Arial"/>
              </a:rPr>
              <a:t>»</a:t>
            </a:r>
            <a:r>
              <a:rPr b="0" lang="ru-RU" sz="1200" spc="-1" strike="noStrike">
                <a:solidFill>
                  <a:srgbClr val="000000"/>
                </a:solidFill>
                <a:latin typeface="Arial"/>
              </a:rPr>
              <a:t>. Главный герой незамедлительно взял с собой двух воинов Евгения и Андрея и двинулся в пут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ит Иван к Цареградским болотам, где обитает дракон и кричит: </a:t>
            </a:r>
            <a:r>
              <a:rPr b="0" lang="en" sz="1200" spc="-1" strike="noStrike">
                <a:solidFill>
                  <a:srgbClr val="000000"/>
                </a:solidFill>
                <a:latin typeface="Arial"/>
              </a:rPr>
              <a:t>«</a:t>
            </a:r>
            <a:r>
              <a:rPr b="0" lang="ru-RU" sz="1200" spc="-1" strike="noStrike">
                <a:solidFill>
                  <a:srgbClr val="000000"/>
                </a:solidFill>
                <a:latin typeface="Arial"/>
              </a:rPr>
              <a:t>Чудище, покажись! Я пришел убить тебя!</a:t>
            </a:r>
            <a:r>
              <a:rPr b="0" lang="en" sz="1200" spc="-1" strike="noStrike">
                <a:solidFill>
                  <a:srgbClr val="000000"/>
                </a:solidFill>
                <a:latin typeface="Arial"/>
              </a:rPr>
              <a:t>» </a:t>
            </a:r>
            <a:r>
              <a:rPr b="0" lang="ru-RU" sz="1200" spc="-1" strike="noStrike">
                <a:solidFill>
                  <a:srgbClr val="000000"/>
                </a:solidFill>
                <a:latin typeface="Arial"/>
              </a:rPr>
              <a:t>Из</a:t>
            </a:r>
            <a:r>
              <a:rPr b="1" lang="ru-RU" sz="1200" spc="-1" strike="noStrike">
                <a:solidFill>
                  <a:srgbClr val="000000"/>
                </a:solidFill>
                <a:latin typeface="Arial"/>
              </a:rPr>
              <a:t> </a:t>
            </a:r>
            <a:r>
              <a:rPr b="0" lang="ru-RU" sz="1200" spc="-1" strike="noStrike">
                <a:solidFill>
                  <a:srgbClr val="000000"/>
                </a:solidFill>
                <a:latin typeface="Arial"/>
              </a:rPr>
              <a:t>болот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99c0"/>
            </a:gs>
          </a:gsLst>
          <a:path path="rect">
            <a:fillToRect l="50000" t="50000" r="50000" b="50000"/>
          </a:path>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304560"/>
            <a:ext cx="8229600" cy="4267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унулась голова дракона:</a:t>
            </a:r>
            <a:r>
              <a:rPr b="0" lang="en"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a:t>
            </a:r>
            <a:r>
              <a:rPr b="0" lang="ru-RU" sz="1200" spc="-1" strike="noStrike">
                <a:solidFill>
                  <a:srgbClr val="000000"/>
                </a:solidFill>
                <a:latin typeface="Arial"/>
              </a:rPr>
              <a:t>А, еще один человечишка?! Даже трое? Сегодня я устрою пир. Из болота полностью выплыл огромный зеленый дракон. Андрей и Евгений достали пики, а Иван свой меч.</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й был великолепен. Дракон выбил хвостом щит Ивана, но тот подобрал его снова. Евгений пикой ударил дракона, но та разлетелась на куски. Андрей выстрелил из арбалета в голову монстра, но и это не помогло. Вдруг воин почувствовал, что не может двигаться, его затягивала трясина.</a:t>
            </a:r>
            <a:r>
              <a:rPr b="0" lang="en" sz="1200" spc="-1" strike="noStrike">
                <a:solidFill>
                  <a:srgbClr val="000000"/>
                </a:solidFill>
                <a:latin typeface="Arial"/>
              </a:rPr>
              <a:t>«</a:t>
            </a:r>
            <a:r>
              <a:rPr b="0" lang="ru-RU" sz="1200" spc="-1" strike="noStrike">
                <a:solidFill>
                  <a:srgbClr val="000000"/>
                </a:solidFill>
                <a:latin typeface="Arial"/>
              </a:rPr>
              <a:t>Нет! Нет!</a:t>
            </a:r>
            <a:r>
              <a:rPr b="0" lang="en" sz="1200" spc="-1" strike="noStrike">
                <a:solidFill>
                  <a:srgbClr val="000000"/>
                </a:solidFill>
                <a:latin typeface="Arial"/>
              </a:rPr>
              <a:t>»- </a:t>
            </a:r>
            <a:r>
              <a:rPr b="0" lang="ru-RU" sz="1200" spc="-1" strike="noStrike">
                <a:solidFill>
                  <a:srgbClr val="000000"/>
                </a:solidFill>
                <a:latin typeface="Arial"/>
              </a:rPr>
              <a:t>кричал в ужасе воин, но было поздно, скоро он скрылся полностью в болоте. А Иван увидел дыру в груди дракона, за дырой было сердце монстра. Схватив арбалет товарища, Швейков выстрелил в дыру. Стрела попала в сердце, и дракон завалился набок, испустив последний вздох.</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IX</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вана и Евгения встречали, как героев. Никому раньше не удавалось одолеть вдвоем дракона, но приближалась новая напасть. Армия Кощея Бессмертного надвигалась на Царьград. Швейков вышел командовать Королевскими войсками при Цареградских полях. Знал наш герой, что именно Кощей напал на город Ивана и убил его семью. Два войска встали друг напротив друга и тут протрубил в горн</a:t>
            </a:r>
            <a:r>
              <a:rPr b="0" lang="en" sz="1200" spc="-1" strike="noStrike">
                <a:solidFill>
                  <a:srgbClr val="000000"/>
                </a:solidFill>
                <a:latin typeface="Arial"/>
              </a:rPr>
              <a:t> </a:t>
            </a:r>
            <a:r>
              <a:rPr b="0" lang="ru-RU" sz="1200" spc="-1" strike="noStrike">
                <a:solidFill>
                  <a:srgbClr val="000000"/>
                </a:solidFill>
                <a:latin typeface="Arial"/>
              </a:rPr>
              <a:t>наш герой. Это означало начало атаки. Три дня шло сражение, а робонежить не иссякала. Швейков положил сто тысяч врагов своим мечом и пятьдесят тысяч луком. Вдруг герой увидел Кощея в окружении пяти монстров. Взмахнул мечом Иван и слетели головы с пяти монстров. Встали два противника друг напротив друга, обступили их со всех сторон други и недруги, и начался поединок врагов смертельных. Вот не выдержал натиска Кощей и выронил меч свой, моля о пощаде: </a:t>
            </a:r>
            <a:r>
              <a:rPr b="0" lang="en" sz="1200" spc="-1" strike="noStrike">
                <a:solidFill>
                  <a:srgbClr val="000000"/>
                </a:solidFill>
                <a:latin typeface="Arial"/>
              </a:rPr>
              <a:t>« </a:t>
            </a:r>
            <a:r>
              <a:rPr b="0" lang="ru-RU" sz="1200" spc="-1" strike="noStrike">
                <a:solidFill>
                  <a:srgbClr val="000000"/>
                </a:solidFill>
                <a:latin typeface="Arial"/>
              </a:rPr>
              <a:t>Пощади, не убивай меня!</a:t>
            </a:r>
            <a:r>
              <a:rPr b="0" lang="en" sz="1200" spc="-1" strike="noStrike">
                <a:solidFill>
                  <a:srgbClr val="000000"/>
                </a:solidFill>
                <a:latin typeface="Arial"/>
              </a:rPr>
              <a:t>» </a:t>
            </a:r>
            <a:r>
              <a:rPr b="0" lang="ru-RU" sz="1200" spc="-1" strike="noStrike">
                <a:solidFill>
                  <a:srgbClr val="000000"/>
                </a:solidFill>
                <a:latin typeface="Arial"/>
              </a:rPr>
              <a:t>Слеп был к мольбам Кощея Иван, и взмахнул он мечом своим. Упал Кощей замертво.</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т прошло много лет. Рассказал Иван  эту историю своим детям, дети внукам, внуки правнукам и дошла она до наших дней</a:t>
            </a:r>
            <a:endParaRPr b="0" lang="en-US" sz="1200" spc="-1" strike="noStrike">
              <a:solidFill>
                <a:srgbClr val="000000"/>
              </a:solidFill>
              <a:latin typeface="Arial"/>
            </a:endParaRPr>
          </a:p>
        </p:txBody>
      </p:sp>
      <p:sp>
        <p:nvSpPr>
          <p:cNvPr id="82" name=""/>
          <p:cNvSpPr/>
          <p:nvPr/>
        </p:nvSpPr>
        <p:spPr>
          <a:xfrm>
            <a:off x="5105520" y="5486400"/>
            <a:ext cx="3504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Максимов Петр</a:t>
            </a:r>
            <a:endParaRPr b="0" lang="en-US" sz="1600" spc="-1" strike="noStrike">
              <a:solidFill>
                <a:srgbClr val="000000"/>
              </a:solidFill>
              <a:latin typeface="Arial"/>
            </a:endParaRPr>
          </a:p>
        </p:txBody>
      </p:sp>
      <p:pic>
        <p:nvPicPr>
          <p:cNvPr id="83" name="" descr=""/>
          <p:cNvPicPr/>
          <p:nvPr/>
        </p:nvPicPr>
        <p:blipFill>
          <a:blip r:embed="rId1"/>
          <a:stretch/>
        </p:blipFill>
        <p:spPr>
          <a:xfrm>
            <a:off x="990720" y="4343400"/>
            <a:ext cx="4190760" cy="201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04920" y="380520"/>
            <a:ext cx="3657600" cy="6172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Я — Поползень (или жизнь прекрасна)</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 Поползен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мн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асов надо больш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аче гд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аче как?</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жить зимою дольш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как узнать мн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лько?</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д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асов пригодитс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аче мн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и теб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дется попоститьс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может быт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попрошу у Белки два орешк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Бурундук насыпет мн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русники на полешко.</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ж фруктами меня снабди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дь у него их много,</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может быть друг Мураве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скажет мне дорогу.</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гда пойму я, что друзе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рять совсем не надо.</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вот когда наш дружный лес</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ет силу слов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им скажу:</a:t>
            </a:r>
            <a:r>
              <a:rPr b="0" lang="en" sz="1200" spc="-1" strike="noStrike">
                <a:solidFill>
                  <a:srgbClr val="000000"/>
                </a:solidFill>
                <a:latin typeface="Arial"/>
              </a:rPr>
              <a:t> </a:t>
            </a:r>
            <a:r>
              <a:rPr b="0" lang="ru-RU" sz="1200" spc="-1" strike="noStrike">
                <a:solidFill>
                  <a:srgbClr val="000000"/>
                </a:solidFill>
                <a:latin typeface="Arial"/>
              </a:rPr>
              <a:t>Нам нужен мир</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 грязи и засоров.</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гда воспрянем на войну</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с мусором и смрадом,</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будет лес наш дружно жит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 будет в нем завалов!</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sp>
        <p:nvSpPr>
          <p:cNvPr id="85" name=""/>
          <p:cNvSpPr/>
          <p:nvPr/>
        </p:nvSpPr>
        <p:spPr>
          <a:xfrm>
            <a:off x="4876920" y="1600200"/>
            <a:ext cx="2590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4191120" y="304920"/>
            <a:ext cx="2895480" cy="61722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Arial"/>
              </a:rPr>
              <a:t>О школе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шел я в школ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но утро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вот звенит звоно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за него я еле-ел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брался на уро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началось естествознань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 камни, про песо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думал, что сейча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ру я дверцу на замо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ое ощущенье был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камни там лежа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отому я со звонко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ее всех ребя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ом труд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зык родно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кончился дене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снулся я в субботу утро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роси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ru-RU" sz="1200" spc="-1" strike="noStrike">
                <a:solidFill>
                  <a:srgbClr val="000000"/>
                </a:solidFill>
                <a:latin typeface="Arial"/>
              </a:rPr>
              <a:t>Уже звонок?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r>
              <a:rPr b="1" lang="en"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C</a:t>
            </a:r>
            <a:r>
              <a:rPr b="0" lang="ru-RU" sz="1200" spc="-1" strike="noStrike">
                <a:solidFill>
                  <a:srgbClr val="000000"/>
                </a:solidFill>
                <a:latin typeface="Arial"/>
              </a:rPr>
              <a:t>кажу о спорте я немног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ой он есть, как видов мног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как играть – не проигра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вовать и выигра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редоточься, не болта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покладая рук, работа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д силой и над меткость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д четкостью и смелость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аться и старатьс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в игре не колебатьс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r>
              <a:rPr b="0" lang="ru-RU"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a:t>
            </a:r>
            <a:endParaRPr b="0" lang="en-US" sz="1200" spc="-1" strike="noStrike">
              <a:solidFill>
                <a:srgbClr val="000000"/>
              </a:solidFill>
              <a:latin typeface="Arial"/>
            </a:endParaRPr>
          </a:p>
        </p:txBody>
      </p:sp>
      <p:sp>
        <p:nvSpPr>
          <p:cNvPr id="87" name=""/>
          <p:cNvSpPr/>
          <p:nvPr/>
        </p:nvSpPr>
        <p:spPr>
          <a:xfrm>
            <a:off x="7238880" y="685800"/>
            <a:ext cx="1600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Камышанов Антон</a:t>
            </a:r>
            <a:endParaRPr b="0" lang="en-US" sz="1600" spc="-1" strike="noStrike">
              <a:solidFill>
                <a:srgbClr val="000000"/>
              </a:solidFill>
              <a:latin typeface="Arial"/>
            </a:endParaRPr>
          </a:p>
        </p:txBody>
      </p:sp>
      <p:pic>
        <p:nvPicPr>
          <p:cNvPr id="88" name="" descr=""/>
          <p:cNvPicPr/>
          <p:nvPr/>
        </p:nvPicPr>
        <p:blipFill>
          <a:blip r:embed="rId1"/>
          <a:stretch/>
        </p:blipFill>
        <p:spPr>
          <a:xfrm>
            <a:off x="6705720" y="2133720"/>
            <a:ext cx="2133360" cy="204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100000">
              <a:srgbClr val="ccff99"/>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6840" y="304920"/>
            <a:ext cx="3962520" cy="6248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400" spc="-1" strike="noStrike">
                <a:solidFill>
                  <a:srgbClr val="000000"/>
                </a:solidFill>
                <a:latin typeface="Arial"/>
              </a:rPr>
              <a:t>Школа</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школе можно научитьс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исать, читать и веселитьс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игнуть в знаниях высо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дти по жизни без хлопо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дам совет я вам просто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орно стоит потрудитьс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будешь хорошо учитьс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       </a:t>
            </a:r>
            <a:r>
              <a:rPr b="1" lang="ru-RU" sz="1400" spc="-1" strike="noStrike">
                <a:solidFill>
                  <a:srgbClr val="000000"/>
                </a:solidFill>
                <a:latin typeface="Arial"/>
              </a:rPr>
              <a:t>Родители</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на свете роднее их</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и – моя опора и поддержк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гда я слышу правильный сове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променяю их на все богатства мир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400" spc="-1" strike="noStrike">
                <a:solidFill>
                  <a:srgbClr val="000000"/>
                </a:solidFill>
                <a:latin typeface="Arial"/>
              </a:rPr>
              <a:t>О природе</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ступает весн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живает природ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нь красиво за окном</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это время год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урчат ручьи, звенит капел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рошее настроение у люде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sp>
        <p:nvSpPr>
          <p:cNvPr id="90" name=""/>
          <p:cNvSpPr/>
          <p:nvPr/>
        </p:nvSpPr>
        <p:spPr>
          <a:xfrm>
            <a:off x="5257800" y="304920"/>
            <a:ext cx="3276720" cy="255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400" spc="-1" strike="noStrike">
                <a:solidFill>
                  <a:srgbClr val="000000"/>
                </a:solidFill>
                <a:latin typeface="Arial"/>
              </a:rPr>
              <a:t>*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ирует движения любв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ликий ангел в поднебесь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бовь и вечна, и силь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тят ракеты в небес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два любимых человек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в небе чудны чудес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Ангел, воспорящий в неб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блю тебя и это вечн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буду ждать всегда и бесконечн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бовь так зла и бессердеч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я люблю тебя навечн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sp>
        <p:nvSpPr>
          <p:cNvPr id="91" name=""/>
          <p:cNvSpPr/>
          <p:nvPr/>
        </p:nvSpPr>
        <p:spPr>
          <a:xfrm>
            <a:off x="4648320" y="3352680"/>
            <a:ext cx="2666880" cy="121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Спортсмен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спортсмены, активист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крупные баскетболист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гаем, прыгаем, играе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яч в кольцо забивае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sp>
        <p:nvSpPr>
          <p:cNvPr id="92" name=""/>
          <p:cNvSpPr/>
          <p:nvPr/>
        </p:nvSpPr>
        <p:spPr>
          <a:xfrm>
            <a:off x="5334120" y="5562720"/>
            <a:ext cx="3047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Сальников Спарта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228240"/>
            <a:ext cx="8229600" cy="472428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казка на новый лад.</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ила—была Василиса Прекрасная, которая с самого детства мечтала стать певицей. И знала она один секрет, чтобы петь лучше соловья. Но для этого надо было дождаться, когда ей станет </a:t>
            </a:r>
            <a:r>
              <a:rPr b="0" lang="en" sz="1200" spc="-1" strike="noStrike">
                <a:solidFill>
                  <a:srgbClr val="000000"/>
                </a:solidFill>
                <a:latin typeface="Arial"/>
              </a:rPr>
              <a:t>19 </a:t>
            </a:r>
            <a:r>
              <a:rPr b="0" lang="ru-RU" sz="1200" spc="-1" strike="noStrike">
                <a:solidFill>
                  <a:srgbClr val="000000"/>
                </a:solidFill>
                <a:latin typeface="Arial"/>
              </a:rPr>
              <a:t>лет. А пока ей только </a:t>
            </a:r>
            <a:r>
              <a:rPr b="0" lang="en" sz="1200" spc="-1" strike="noStrike">
                <a:solidFill>
                  <a:srgbClr val="000000"/>
                </a:solidFill>
                <a:latin typeface="Arial"/>
              </a:rPr>
              <a:t>18. </a:t>
            </a:r>
            <a:r>
              <a:rPr b="0" lang="ru-RU" sz="1200" spc="-1" strike="noStrike">
                <a:solidFill>
                  <a:srgbClr val="000000"/>
                </a:solidFill>
                <a:latin typeface="Arial"/>
              </a:rPr>
              <a:t>И ее любимым занятием было посещение танцевального клуба.. Она слыла прекрасной рукодельницей и всегда умела себе смастерить красивый наряд.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силиса была волшебницей… Каждую ночь она выходила на улицу, чтобы поиграть со звездами.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ли дни, и наша прекрасная девушка выросла, ей исполнилось </a:t>
            </a:r>
            <a:r>
              <a:rPr b="0" lang="en" sz="1200" spc="-1" strike="noStrike">
                <a:solidFill>
                  <a:srgbClr val="000000"/>
                </a:solidFill>
                <a:latin typeface="Arial"/>
              </a:rPr>
              <a:t>19 </a:t>
            </a:r>
            <a:r>
              <a:rPr b="0" lang="ru-RU" sz="1200" spc="-1" strike="noStrike">
                <a:solidFill>
                  <a:srgbClr val="000000"/>
                </a:solidFill>
                <a:latin typeface="Arial"/>
              </a:rPr>
              <a:t>лет. Теперь надо и в путь отправляться… </a:t>
            </a:r>
            <a:r>
              <a:rPr b="0" lang="en" sz="1200" spc="-1" strike="noStrike">
                <a:solidFill>
                  <a:srgbClr val="000000"/>
                </a:solidFill>
                <a:latin typeface="Arial"/>
              </a:rPr>
              <a:t>33 </a:t>
            </a:r>
            <a:r>
              <a:rPr b="0" lang="ru-RU" sz="1200" spc="-1" strike="noStrike">
                <a:solidFill>
                  <a:srgbClr val="000000"/>
                </a:solidFill>
                <a:latin typeface="Arial"/>
              </a:rPr>
              <a:t>звезды построились в ряд и Василиса взбежала по ним, как по лестнице, немного обжигая ноги. И вот она уже в пути, мчится на луне – месяце. Еще немного и она пройдет сквозь созвездие Большой Медведицы и окажется на прекрасной планете, в тридесятом царстве </a:t>
            </a:r>
            <a:r>
              <a:rPr b="0" lang="en" sz="1200" spc="-1" strike="noStrike">
                <a:solidFill>
                  <a:srgbClr val="000000"/>
                </a:solidFill>
                <a:latin typeface="Arial"/>
              </a:rPr>
              <a:t>– </a:t>
            </a:r>
            <a:r>
              <a:rPr b="0" lang="ru-RU" sz="1200" spc="-1" strike="noStrike">
                <a:solidFill>
                  <a:srgbClr val="000000"/>
                </a:solidFill>
                <a:latin typeface="Arial"/>
              </a:rPr>
              <a:t>государств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т она уже ступает по шелковой зеленой траве и идет к озеру с прозрачной водой. А в том озере сидит золотая рыбка и слушает прекрасное пение, доносящееся из раковины.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ит Василиса и спрашивае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Скажи мне золотая рыбка, как бы мне найти Соловья, что поет так прекрасно?</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r>
              <a:rPr b="0" lang="ru-RU" sz="1200" spc="-1" strike="noStrike">
                <a:solidFill>
                  <a:srgbClr val="000000"/>
                </a:solidFill>
                <a:latin typeface="Arial"/>
              </a:rPr>
              <a:t>Иди по этой тропинке, она приведет тебя в темный лес, но не бойся ничего и ступай смело. Эта тропинка и приведет тебя к Соловью. </a:t>
            </a:r>
            <a:r>
              <a:rPr b="0" lang="en" sz="1200" spc="-1" strike="noStrike">
                <a:solidFill>
                  <a:srgbClr val="000000"/>
                </a:solidFill>
                <a:latin typeface="Arial"/>
              </a:rPr>
              <a:t>- </a:t>
            </a:r>
            <a:r>
              <a:rPr b="0" lang="ru-RU" sz="1200" spc="-1" strike="noStrike">
                <a:solidFill>
                  <a:srgbClr val="000000"/>
                </a:solidFill>
                <a:latin typeface="Arial"/>
              </a:rPr>
              <a:t>Спасибо тебе, золотая рыбк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Василиса и сделала. И привела ее дорога к большому дубу. А на ветке золотой сидит Соловей . Поклонилась ему Василиса  и говори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Здравствуй, Соловей., подскажи-ка мне, как голос чудный обрест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r>
              <a:rPr b="0" lang="ru-RU" sz="1200" spc="-1" strike="noStrike">
                <a:solidFill>
                  <a:srgbClr val="000000"/>
                </a:solidFill>
                <a:latin typeface="Arial"/>
              </a:rPr>
              <a:t>Здравствуй, Василиса Прекрасная, вот тебе три моих пера… В них волшебная сила заключена и носи их с собой всегда. Но за это ты должна принести мне три раза напиться воды из прозрачного озера и достань мне три раковины поющи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Василиса и сделала. И золотая рыбка с радостью отдала ей три раковины поющие. Повесил те раковины Соловей на ветку рядом с собо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оет теперь Василиса  чудесные песни  и на весь свет знаменита</a:t>
            </a:r>
            <a:endParaRPr b="0" lang="en-US" sz="1200" spc="-1" strike="noStrike">
              <a:solidFill>
                <a:srgbClr val="000000"/>
              </a:solidFill>
              <a:latin typeface="Arial"/>
            </a:endParaRPr>
          </a:p>
        </p:txBody>
      </p:sp>
      <p:sp>
        <p:nvSpPr>
          <p:cNvPr id="94" name=""/>
          <p:cNvSpPr/>
          <p:nvPr/>
        </p:nvSpPr>
        <p:spPr>
          <a:xfrm>
            <a:off x="1295280" y="5410080"/>
            <a:ext cx="2895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Степанова Аглая</a:t>
            </a:r>
            <a:endParaRPr b="0" lang="en-US" sz="1600" spc="-1" strike="noStrike">
              <a:solidFill>
                <a:srgbClr val="000000"/>
              </a:solidFill>
              <a:latin typeface="Arial"/>
            </a:endParaRPr>
          </a:p>
        </p:txBody>
      </p:sp>
      <p:pic>
        <p:nvPicPr>
          <p:cNvPr id="95" name="" descr=""/>
          <p:cNvPicPr/>
          <p:nvPr/>
        </p:nvPicPr>
        <p:blipFill>
          <a:blip r:embed="rId2"/>
          <a:stretch/>
        </p:blipFill>
        <p:spPr>
          <a:xfrm>
            <a:off x="6019920" y="4267080"/>
            <a:ext cx="2819160" cy="243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100000">
              <a:srgbClr val="ccec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456840"/>
            <a:ext cx="4038480" cy="56689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лакс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ел по берегу Ванюшк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видал Ванюшка утку.</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тка крякнула, Ванюшку тяпнул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Ванюшка зарыдал,</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бушку свою позвал.</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пошли тут утешень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a:t>
            </a:r>
            <a:r>
              <a:rPr b="0" lang="ru-RU" sz="1800" spc="-1" strike="noStrike">
                <a:solidFill>
                  <a:srgbClr val="000000"/>
                </a:solidFill>
                <a:latin typeface="Arial"/>
              </a:rPr>
              <a:t>Мама, принеси варень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лбасу копченую,</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або поперченную</a:t>
            </a:r>
            <a:r>
              <a:rPr b="0" lang="en"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лго Ваню утешал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еденец на палке дал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у а он все хнык, да хнык,</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т уж требует шашлык…</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анный метод утешень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рый был в сто раз дешевле.</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p:txBody>
      </p:sp>
      <p:sp>
        <p:nvSpPr>
          <p:cNvPr id="97" name=""/>
          <p:cNvSpPr/>
          <p:nvPr/>
        </p:nvSpPr>
        <p:spPr>
          <a:xfrm>
            <a:off x="4724280" y="1066680"/>
            <a:ext cx="38102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Город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ть много городов больших и маленьки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 строить города, дело не для слабеньки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ть города и в Африке, Бразилии, Голланд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оссии есть, и в Индии, есть в Дании, в Лапланд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х много, я не спор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 к сожаленью я не стро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p:txBody>
      </p:sp>
      <p:sp>
        <p:nvSpPr>
          <p:cNvPr id="98" name=""/>
          <p:cNvSpPr/>
          <p:nvPr/>
        </p:nvSpPr>
        <p:spPr>
          <a:xfrm>
            <a:off x="6324480" y="45720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Болотный Глеб</a:t>
            </a:r>
            <a:endParaRPr b="0" lang="en-US" sz="1600" spc="-1" strike="noStrike">
              <a:solidFill>
                <a:srgbClr val="000000"/>
              </a:solidFill>
              <a:latin typeface="Arial"/>
            </a:endParaRPr>
          </a:p>
        </p:txBody>
      </p:sp>
      <p:pic>
        <p:nvPicPr>
          <p:cNvPr id="99" name="" descr=""/>
          <p:cNvPicPr/>
          <p:nvPr/>
        </p:nvPicPr>
        <p:blipFill>
          <a:blip r:embed="rId1"/>
          <a:stretch/>
        </p:blipFill>
        <p:spPr>
          <a:xfrm>
            <a:off x="5791320" y="4495680"/>
            <a:ext cx="2514600" cy="2025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755e4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456840"/>
            <a:ext cx="4038480" cy="60958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ророчество</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бывалось пророчество кольц Саурон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спрял он из мертвых,</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тоб править как дом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тоб брать города один за другим.</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о было расплавлено Силы Кольцо</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Саурон пал, смотря смерти в лицо.</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Конец Саурон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сила была его в Темном Кольц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о хоббит - бунтарщик по имени Фродо</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 смог удержать кольца Саурон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у подножья Великой горы</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рпят крушения орков мечты.</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тут появляются злые назгулы,</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тоб всем возвратить их мечты и посулы,</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о орки сдаются один за другим</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 в силах сдержать напор рокхерим.</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Священная войн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расное Око, Черный Восток.</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роль Саурон и свиреп, и жесток.</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рки не знают правил войны.</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абли сверкают и топоры.</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рдами гибнут и орки и скот-</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роль Арагорн идет на Восток.</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p:txBody>
      </p:sp>
      <p:sp>
        <p:nvSpPr>
          <p:cNvPr id="101" name=""/>
          <p:cNvSpPr/>
          <p:nvPr/>
        </p:nvSpPr>
        <p:spPr>
          <a:xfrm>
            <a:off x="4876920" y="1905120"/>
            <a:ext cx="34290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 родителя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жу я в кресл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ама в кухн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 папа неизвестно гд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шел на лыжа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 вернулс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нет его совсем нигд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у ,наконец, прише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едведь на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есь запорошенный , в снег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хочет съесть он пирог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усочков пять- не меньше точн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 может шес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 может сем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неизвестно это все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 мама сделала пиро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а с абрикосами вдобаво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нечно, кислый он возможн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о с чаем мы его съеди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p:txBody>
      </p:sp>
      <p:sp>
        <p:nvSpPr>
          <p:cNvPr id="102" name=""/>
          <p:cNvSpPr/>
          <p:nvPr/>
        </p:nvSpPr>
        <p:spPr>
          <a:xfrm>
            <a:off x="6629400" y="533520"/>
            <a:ext cx="19051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Камышанов Антон</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876920" y="457200"/>
            <a:ext cx="3962160" cy="58975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 </a:t>
            </a:r>
            <a:r>
              <a:rPr b="1" lang="ru-RU" sz="1400" spc="-1" strike="noStrike">
                <a:solidFill>
                  <a:srgbClr val="000000"/>
                </a:solidFill>
                <a:latin typeface="Arial"/>
              </a:rPr>
              <a:t>Наш шумный милый </a:t>
            </a:r>
            <a:r>
              <a:rPr b="1" lang="en" sz="1400" spc="-1" strike="noStrike">
                <a:solidFill>
                  <a:srgbClr val="000000"/>
                </a:solidFill>
                <a:latin typeface="Arial"/>
              </a:rPr>
              <a:t>6</a:t>
            </a:r>
            <a:r>
              <a:rPr b="1" lang="ru-RU" sz="1400" spc="-1" strike="noStrike">
                <a:solidFill>
                  <a:srgbClr val="000000"/>
                </a:solidFill>
                <a:latin typeface="Arial"/>
              </a:rPr>
              <a:t> класс</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Решил порадовать всех вас.</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Мы приглашаем вас в поход</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Страницы сказок и крос</a:t>
            </a:r>
            <a:r>
              <a:rPr b="1" lang="en" sz="1400" spc="-1" strike="noStrike">
                <a:solidFill>
                  <a:srgbClr val="000000"/>
                </a:solidFill>
                <a:latin typeface="Arial"/>
              </a:rPr>
              <a:t>c</a:t>
            </a:r>
            <a:r>
              <a:rPr b="1" lang="ru-RU" sz="1400" spc="-1" strike="noStrike">
                <a:solidFill>
                  <a:srgbClr val="000000"/>
                </a:solidFill>
                <a:latin typeface="Arial"/>
              </a:rPr>
              <a:t>ворд,</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Стихи, рассказы…</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Ну, вперед!</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Смелее путь свой начина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Журнал красивый открыва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Там Великан и Гном чудно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Кощей, гвардеец заводно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Приятно скрасят ваш досуг,</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До новых встреч,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Мой милый друг!</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втор иде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учитель русского языка и литературы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зурова Е.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лавный редактор: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стромогильский Аркади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ученик 8 В класс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ворческая групп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6 В класса</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cc8d8"/>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304920"/>
            <a:ext cx="8229600" cy="4876560"/>
          </a:xfrm>
          <a:prstGeom prst="rect">
            <a:avLst/>
          </a:prstGeom>
          <a:noFill/>
          <a:ln w="0">
            <a:noFill/>
          </a:ln>
        </p:spPr>
        <p:txBody>
          <a:bodyPr lIns="90000" rIns="90000" tIns="46800" bIns="4680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КАЗКА ОБ ИВАНЕ ЦАРЕВИЧЕ И ЗЛОБНОМ ОЛИГАРХЕ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ЩЕЕ БЕССМЕРТОВИЧЕ, ДА О РЕВОЛЮЦИИ ВЕЛИКОЙ.</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Жил да был в Тридевятом царстве, в Тридесятом государстве, да при капиталистической власти один бизнесмен (купец значит).Дела шли у него хорошо. Жил он тихо, мирно, да и умер, оставив сына, да дочь. Дочь у него была красавицей. Сын же - обычный парень, лет этак двадцати.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 в другом царстве, да при царевой власти жил да был жутко злобный Кощей Бессмертович. Он был настолько злобный, что служить ему приходили либо храбрецы, либо глупцы.  Прослышал он однажды про то, что за морем есть  девица такая красивая, что глаз не отвести. И задумал похитить ее Кощей. Как-то раз поехала Елена на дачу, вышла из  машины, а сзади подбежали к ней люди Кощеевы и схватили, связали и бросили в черный седан.</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олго горевал Иван, да слезами горю не поможешь. Собрался он в поход за Еленой.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олго ли - коротко ли прилетел Иван ко дворцу Кощееву, и остановился он в гостинице неподалеку. Долго думал Иван, да придумал, как Кощея победить, да Елену возвратит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ешил он поднять восстания по всей Кощеевой земл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днял он восстания и пошел с войском своим  на штурм крепости царя Кощея, да осадил зловредного монарха в замке своем.</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олго думали они над тем, как на штурм замка пойти, да  олигархи на сторону Кощееву встали, из плазменных луков Иванушку обстрелива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морализовалось войско Ивана. Но придумал он, как избавиться от власти царевой. Стали они строить оружие мощное, оружие мощное – врагам недоступное, аж 1765 года придумано. Построили они миномет, миномет не простой, а носкометательный. Зарядили носками  и выстрелили. Пам Кощеевы войска! А другие побежали.  Заложили пластиды воины Ивановы под стенами Кощеева замка. Как рванули Кощеевы стены. Но злодей не сдается, а посмеивается. Заминировал дворик он свой, да так,  что ни пройти , ни проехать к нему. И решил наш герой  сделать чудо летучее. Полетели к Кощею, да тот так и не сдался , оправился  злодей, но не тут-то было, победа  за Иваном.</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катил тогда Иван пир на весь мир. И я там был, мед-пиво пил. Пиво пил не охмелел, а от меда окосел.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sp>
        <p:nvSpPr>
          <p:cNvPr id="104" name=""/>
          <p:cNvSpPr/>
          <p:nvPr/>
        </p:nvSpPr>
        <p:spPr>
          <a:xfrm>
            <a:off x="1600200" y="5486400"/>
            <a:ext cx="3200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Болотный Глеб</a:t>
            </a:r>
            <a:endParaRPr b="0" lang="en-US" sz="1600" spc="-1" strike="noStrike">
              <a:solidFill>
                <a:srgbClr val="000000"/>
              </a:solidFill>
              <a:latin typeface="Arial"/>
            </a:endParaRPr>
          </a:p>
        </p:txBody>
      </p:sp>
      <p:pic>
        <p:nvPicPr>
          <p:cNvPr id="105" name="" descr=""/>
          <p:cNvPicPr/>
          <p:nvPr/>
        </p:nvPicPr>
        <p:blipFill>
          <a:blip r:embed="rId1"/>
          <a:stretch/>
        </p:blipFill>
        <p:spPr>
          <a:xfrm>
            <a:off x="6934320" y="4800600"/>
            <a:ext cx="1854000" cy="190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5e6c75"/>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876920" y="380880"/>
            <a:ext cx="3581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Максимов Петр</a:t>
            </a:r>
            <a:endParaRPr b="0" lang="en-US" sz="1600" spc="-1" strike="noStrike">
              <a:solidFill>
                <a:srgbClr val="000000"/>
              </a:solidFill>
              <a:latin typeface="Arial"/>
            </a:endParaRPr>
          </a:p>
        </p:txBody>
      </p:sp>
      <p:sp>
        <p:nvSpPr>
          <p:cNvPr id="50" name="PlaceHolder 2"/>
          <p:cNvSpPr>
            <a:spLocks noGrp="1"/>
          </p:cNvSpPr>
          <p:nvPr>
            <p:ph/>
          </p:nvPr>
        </p:nvSpPr>
        <p:spPr>
          <a:xfrm>
            <a:off x="457200" y="1143000"/>
            <a:ext cx="8305920" cy="548640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иф о храбром Святославе – богатыре.</a:t>
            </a:r>
            <a:endParaRPr b="0" lang="en-US" sz="16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Жил на свете богатырь Святослав. Славился он своей силой, умом и обаянием. Святослав и его конь Ржавый не раз спасали Москву от нашествий врагов. Но новая напасть поджидала героев. Она была самой страшной из всех, с которыми сталкивались геро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Царь Ермак сидел на троне и злился: </a:t>
            </a:r>
            <a:r>
              <a:rPr b="0" lang="en" sz="1400" spc="-1" strike="noStrike">
                <a:solidFill>
                  <a:srgbClr val="000000"/>
                </a:solidFill>
                <a:latin typeface="Arial"/>
              </a:rPr>
              <a:t>«</a:t>
            </a:r>
            <a:r>
              <a:rPr b="0" lang="ru-RU" sz="1400" spc="-1" strike="noStrike">
                <a:solidFill>
                  <a:srgbClr val="000000"/>
                </a:solidFill>
                <a:latin typeface="Arial"/>
              </a:rPr>
              <a:t>Вот опять! Все счастливы, а мне от этого грустно. Не раз собирал я разбойников и посылал на Москву, но неприступна Москва, пока ее охраняет Святослав. Но теперь я знаю, что делать</a:t>
            </a:r>
            <a:r>
              <a:rPr b="0" lang="en"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Шел Ермак на самую высокую башню замка.</a:t>
            </a:r>
            <a:r>
              <a:rPr b="0" lang="en" sz="1400" spc="-1" strike="noStrike">
                <a:solidFill>
                  <a:srgbClr val="000000"/>
                </a:solidFill>
                <a:latin typeface="Arial"/>
              </a:rPr>
              <a:t> </a:t>
            </a:r>
            <a:r>
              <a:rPr b="0" lang="ru-RU" sz="1400" spc="-1" strike="noStrike">
                <a:solidFill>
                  <a:srgbClr val="000000"/>
                </a:solidFill>
                <a:latin typeface="Arial"/>
              </a:rPr>
              <a:t>Вскоре он оказался там и стал звать Перуна: </a:t>
            </a:r>
            <a:r>
              <a:rPr b="0" lang="en" sz="1400" spc="-1" strike="noStrike">
                <a:solidFill>
                  <a:srgbClr val="000000"/>
                </a:solidFill>
                <a:latin typeface="Arial"/>
              </a:rPr>
              <a:t>«</a:t>
            </a:r>
            <a:r>
              <a:rPr b="0" lang="ru-RU" sz="1400" spc="-1" strike="noStrike">
                <a:solidFill>
                  <a:srgbClr val="000000"/>
                </a:solidFill>
                <a:latin typeface="Arial"/>
              </a:rPr>
              <a:t>Помоги мне Перун, собери воинов, сразим вместе мы православный народ и сожжем дотла Москву</a:t>
            </a:r>
            <a:r>
              <a:rPr b="0" lang="en"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тветил Перун Ермаку и ударила  в башню молния! И увидел царь, как перед замком его появились несметные полчища воинов безликих, Перуном посланных.</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А Святослав с конем сидел на берегу реки и думал о своем. Но вдруг появились полчища безликих монстров, напали и связали героя. Напрягся Святослав, и лопнули веревки, не выдержав силы немереной. Вырвал богатырь дуб из земли и стал разбрасывать им недругов. Вскоре были разбиты монстры, но на другой стороне реки была еще одна армия. Еще больше врагов направлялись к Москве. Вскочил на Ржавого Святослав и поплыл через реку полноводную.</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какал он к врагам на защиту столицы, вынул свой лук и стал пускать стрелы во врагов. Один за другим враги падали, но вдруг увидел наш герой Ермака злого, и обнажил он клинок сво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рошло три дня, но не кончалась сеча великая. Не уступал Ермак Святославу. Но не выдержав силы соперника, выронил меч слабый Ермак. Не стал убивать Святослав противника, прогнал его с глаз долой. И рассыпалась армия нелюде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Долго праздновал победу наш герой. И много лет был мир и покой в Москв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d8ac81"/>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6840" y="456840"/>
            <a:ext cx="3048120" cy="5668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400" spc="-1" strike="noStrike">
                <a:solidFill>
                  <a:srgbClr val="000000"/>
                </a:solidFill>
                <a:latin typeface="Arial"/>
              </a:rPr>
              <a:t>Школ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звенел звонок,</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бегом все на урок!</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атематику учить,</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а природу повторить.</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звенел звонок опять,</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скорее все играть.</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чалась ведь перемен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 бывает веселе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е бегом туда, сюд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о игра прекращен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вук звонка зовет всегд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одител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ама на кухн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Я в коридор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апа на улиц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это не гор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ы - веселая семья,</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 грусти ни ты, ни я.</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 </a:t>
            </a:r>
            <a:endParaRPr b="0" lang="en-US" sz="1600" spc="-1" strike="noStrike">
              <a:solidFill>
                <a:srgbClr val="000000"/>
              </a:solidFill>
              <a:latin typeface="Arial"/>
            </a:endParaRPr>
          </a:p>
        </p:txBody>
      </p:sp>
      <p:sp>
        <p:nvSpPr>
          <p:cNvPr id="52" name=""/>
          <p:cNvSpPr/>
          <p:nvPr/>
        </p:nvSpPr>
        <p:spPr>
          <a:xfrm>
            <a:off x="3352680" y="609480"/>
            <a:ext cx="3276720" cy="548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о запасы бело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ступила зим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ра! Ура! Ур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обирая орехи, плод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е дружно трудились м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Шишки, семечки, гриб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е для матушки зим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кладовые мы несе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е запасы наш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 жалея ни о че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ружно спать мы иде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втра будет трудный ден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ужно выспаться скоре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 спорте</a:t>
            </a:r>
            <a:r>
              <a:rPr b="1"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егали на лыжах мы в лес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ыжи крепкие нас по лесу несу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нег скрипит под ним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сто блес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дуемся м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расавице-зим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p:txBody>
      </p:sp>
      <p:sp>
        <p:nvSpPr>
          <p:cNvPr id="53" name=""/>
          <p:cNvSpPr/>
          <p:nvPr/>
        </p:nvSpPr>
        <p:spPr>
          <a:xfrm>
            <a:off x="6400800" y="838080"/>
            <a:ext cx="251460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юл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юль-месяц любимый мо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дуюсь месяцу я своем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пусть будет солнц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пусть идут дожд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есяц любимый, ты подожд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p:txBody>
      </p:sp>
      <p:sp>
        <p:nvSpPr>
          <p:cNvPr id="54" name=""/>
          <p:cNvSpPr/>
          <p:nvPr/>
        </p:nvSpPr>
        <p:spPr>
          <a:xfrm>
            <a:off x="5943600" y="228600"/>
            <a:ext cx="2590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Рузина Карина</a:t>
            </a:r>
            <a:endParaRPr b="0" lang="en-US" sz="1600" spc="-1" strike="noStrike">
              <a:solidFill>
                <a:srgbClr val="000000"/>
              </a:solidFill>
              <a:latin typeface="Arial"/>
            </a:endParaRPr>
          </a:p>
        </p:txBody>
      </p:sp>
      <p:pic>
        <p:nvPicPr>
          <p:cNvPr id="55" name="" descr=""/>
          <p:cNvPicPr/>
          <p:nvPr/>
        </p:nvPicPr>
        <p:blipFill>
          <a:blip r:embed="rId1"/>
          <a:stretch/>
        </p:blipFill>
        <p:spPr>
          <a:xfrm>
            <a:off x="6172200" y="3733920"/>
            <a:ext cx="2819520" cy="212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99c0"/>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228600"/>
            <a:ext cx="3657600" cy="6400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е очень занимательные штуки</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венит звонок, начинается урок.</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тель входит в класс,</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ого смотрит он на нас.</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школе учат нас наукам-</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очень занимательным штукам:</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вадратный корень вычислят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ается </a:t>
            </a:r>
            <a:r>
              <a:rPr b="0" lang="en" sz="1200" spc="-1" strike="noStrike">
                <a:solidFill>
                  <a:srgbClr val="000000"/>
                </a:solidFill>
                <a:latin typeface="Arial"/>
              </a:rPr>
              <a:t>6 </a:t>
            </a:r>
            <a:r>
              <a:rPr b="0" lang="ru-RU" sz="1200" spc="-1" strike="noStrike">
                <a:solidFill>
                  <a:srgbClr val="000000"/>
                </a:solidFill>
                <a:latin typeface="Arial"/>
              </a:rPr>
              <a:t>или </a:t>
            </a:r>
            <a:r>
              <a:rPr b="0" lang="en" sz="1200" spc="-1" strike="noStrike">
                <a:solidFill>
                  <a:srgbClr val="000000"/>
                </a:solidFill>
                <a:latin typeface="Arial"/>
              </a:rPr>
              <a:t>5?</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 русского язык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ожный предме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учитель говорит: </a:t>
            </a:r>
            <a:r>
              <a:rPr b="0" lang="en" sz="1200" spc="-1" strike="noStrike">
                <a:solidFill>
                  <a:srgbClr val="000000"/>
                </a:solidFill>
                <a:latin typeface="Arial"/>
              </a:rPr>
              <a:t>« </a:t>
            </a:r>
            <a:r>
              <a:rPr b="0" lang="ru-RU" sz="1200" spc="-1" strike="noStrike">
                <a:solidFill>
                  <a:srgbClr val="000000"/>
                </a:solidFill>
                <a:latin typeface="Arial"/>
              </a:rPr>
              <a:t>Нет</a:t>
            </a:r>
            <a:r>
              <a:rPr b="0" lang="en"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ечно, ему легко судит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му только нас учит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школе учат нас наукам-</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очень занимательным штукам:</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фограммы, правил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т бы было правильно.</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рошо бы получать только пят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r>
              <a:rPr b="0" lang="ru-RU" sz="1200" spc="-1" strike="noStrike">
                <a:solidFill>
                  <a:srgbClr val="000000"/>
                </a:solidFill>
                <a:latin typeface="Arial"/>
              </a:rPr>
              <a:t> </a:t>
            </a:r>
            <a:r>
              <a:rPr b="1" lang="ru-RU" sz="1400" spc="-1" strike="noStrike">
                <a:solidFill>
                  <a:srgbClr val="000000"/>
                </a:solidFill>
                <a:latin typeface="Arial"/>
              </a:rPr>
              <a:t>Репортаж</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ревнования в самом разгар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ртсмены были все в удар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ельщик выпрыгнул с трибуны:</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льфист метает мячик в луны.</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ное поло – интереснейшая игр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же с мячом и ракеткой он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яч летает, как ядро к вражеским воротам.</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вратарь поймал его (отличное фото!)</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тбол, волейбол, баскетбол.</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ол!!!</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sp>
        <p:nvSpPr>
          <p:cNvPr id="57" name=""/>
          <p:cNvSpPr/>
          <p:nvPr/>
        </p:nvSpPr>
        <p:spPr>
          <a:xfrm>
            <a:off x="4419720" y="152280"/>
            <a:ext cx="2971800" cy="63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оя семья</a:t>
            </a:r>
            <a:r>
              <a:rPr b="1"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ивет на свете семь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ма, папа и 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еще у меня ес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 брата - Леша и Саш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ша любит хокке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грает по нескольку дне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ша обожает большой тенни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сиживает на площадке меся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ом приходит домо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сем какой-то чумно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па- программис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ма- тренер:</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енирует инвалидо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 был хороший тренин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т какая хорошая семь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ма, папа, братья и 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r>
              <a:rPr b="0" lang="ru-RU" sz="1200" spc="-1" strike="noStrike">
                <a:solidFill>
                  <a:srgbClr val="000000"/>
                </a:solidFill>
                <a:latin typeface="Arial"/>
              </a:rPr>
              <a:t> </a:t>
            </a:r>
            <a:r>
              <a:rPr b="1" lang="ru-RU" sz="1400" spc="-1" strike="noStrike">
                <a:solidFill>
                  <a:srgbClr val="000000"/>
                </a:solidFill>
                <a:latin typeface="Arial"/>
              </a:rPr>
              <a:t>*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рошо живетс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рошо поетс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тичка пой, жив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чешь семечки возьм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вистишь немножк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ядешь на лукошк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авка пусть расте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лнышко пече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ый хор собрался ту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лесочк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сть скорей цветы растут,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т и все тут, точк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6629400" y="228600"/>
            <a:ext cx="228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Остромогильский Аркади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75"/>
            </a:gs>
            <a:gs pos="100000">
              <a:srgbClr val="ccffff"/>
            </a:gs>
          </a:gsLst>
          <a:path path="rect">
            <a:fillToRect l="50000" t="50000" r="50000" b="50000"/>
          </a:path>
        </a:gradFill>
      </p:bgPr>
    </p:bg>
    <p:spTree>
      <p:nvGrpSpPr>
        <p:cNvPr id="1" name=""/>
        <p:cNvGrpSpPr/>
        <p:nvPr/>
      </p:nvGrpSpPr>
      <p:grpSpPr>
        <a:xfrm>
          <a:off x="0" y="0"/>
          <a:ext cx="0" cy="0"/>
          <a:chOff x="0" y="0"/>
          <a:chExt cx="0" cy="0"/>
        </a:xfrm>
      </p:grpSpPr>
      <p:pic>
        <p:nvPicPr>
          <p:cNvPr id="59" name="" descr=""/>
          <p:cNvPicPr/>
          <p:nvPr/>
        </p:nvPicPr>
        <p:blipFill>
          <a:blip r:embed="rId1"/>
          <a:srcRect l="0" t="0" r="0" b="3536"/>
          <a:stretch/>
        </p:blipFill>
        <p:spPr>
          <a:xfrm>
            <a:off x="105119640" y="106656120"/>
            <a:ext cx="10152000" cy="7054920"/>
          </a:xfrm>
          <a:prstGeom prst="rect">
            <a:avLst/>
          </a:prstGeom>
          <a:ln w="0">
            <a:noFill/>
          </a:ln>
        </p:spPr>
      </p:pic>
      <p:sp>
        <p:nvSpPr>
          <p:cNvPr id="60" name=""/>
          <p:cNvSpPr/>
          <p:nvPr/>
        </p:nvSpPr>
        <p:spPr>
          <a:xfrm>
            <a:off x="457200" y="457200"/>
            <a:ext cx="3048120" cy="58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400" spc="-1" strike="noStrike">
                <a:solidFill>
                  <a:srgbClr val="000000"/>
                </a:solidFill>
                <a:latin typeface="Arial"/>
              </a:rPr>
              <a:t>Школ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кола – место непросто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 есть много ребятн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ти бегают гурьбо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торожно там ход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 не только осторожнос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 и логика нуж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 мозги и все тако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огда не будет </a:t>
            </a:r>
            <a:r>
              <a:rPr b="0" lang="en" sz="1200" spc="-1" strike="noStrike">
                <a:solidFill>
                  <a:srgbClr val="000000"/>
                </a:solidFill>
                <a:latin typeface="Arial"/>
              </a:rPr>
              <a:t>«</a:t>
            </a:r>
            <a:r>
              <a:rPr b="0" lang="ru-RU" sz="1200" spc="-1" strike="noStrike">
                <a:solidFill>
                  <a:srgbClr val="000000"/>
                </a:solidFill>
                <a:latin typeface="Arial"/>
              </a:rPr>
              <a:t>два</a:t>
            </a:r>
            <a:r>
              <a:rPr b="0" lang="en"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матика и русски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зкультура и немецки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ография, английски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стишь все в рюкзак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жет сможешь, может не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у тогда найди отве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 </a:t>
            </a:r>
            <a:r>
              <a:rPr b="1" lang="ru-RU" sz="1400" spc="-1" strike="noStrike">
                <a:solidFill>
                  <a:srgbClr val="000000"/>
                </a:solidFill>
                <a:latin typeface="Arial"/>
              </a:rPr>
              <a:t>Семь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я мама мне подруг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ем хорошо друг друг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ро папу я не зна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д его я не видал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елись они недавн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еперь живу я с мамо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па-бедный, кое-ка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ивался там без на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все ж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люблю обои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дь если б не он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 я вот так бы не сидел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не писала бы стих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sp>
        <p:nvSpPr>
          <p:cNvPr id="61" name=""/>
          <p:cNvSpPr/>
          <p:nvPr/>
        </p:nvSpPr>
        <p:spPr>
          <a:xfrm>
            <a:off x="4419720" y="380880"/>
            <a:ext cx="2895480" cy="66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едвежий сон</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ришла к нам зим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а! Ура! Ура! Ур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в берлоге своей спл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апу теплую сос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цы прыгают, лисы бегаю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я ни о чем не веда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лая шерсть блестит от ине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все равно сплю мирно 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ду весны, когда можно буде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полю ходить, пчел своей лапой вороши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ду есть и жить сладко-сладк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не спать, как малыш в кроватк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друг страшный ветер загреме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у а я посильней захрапе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en" sz="1800" spc="-1" strike="noStrike">
                <a:solidFill>
                  <a:srgbClr val="000000"/>
                </a:solidFill>
                <a:latin typeface="Arial"/>
              </a:rPr>
              <a:t> </a:t>
            </a:r>
            <a:r>
              <a:rPr b="1" lang="en" sz="1400" spc="-1" strike="noStrike">
                <a:solidFill>
                  <a:srgbClr val="000000"/>
                </a:solidFill>
                <a:latin typeface="Arial"/>
              </a:rPr>
              <a:t>*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лейбол или теннис?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бирай поскоре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отом позовешь всех родных и друзе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беремся в лесу, как в былые год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тбол, бадминтон –тоже наши друзь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a:t>
            </a:r>
            <a:r>
              <a:rPr b="0" lang="ru-RU" sz="1200" spc="-1" strike="noStrike">
                <a:solidFill>
                  <a:srgbClr val="000000"/>
                </a:solidFill>
                <a:latin typeface="Arial"/>
              </a:rPr>
              <a:t>Кола</a:t>
            </a:r>
            <a:r>
              <a:rPr b="0" lang="en" sz="1200" spc="-1" strike="noStrike">
                <a:solidFill>
                  <a:srgbClr val="000000"/>
                </a:solidFill>
                <a:latin typeface="Arial"/>
              </a:rPr>
              <a:t>», «</a:t>
            </a:r>
            <a:r>
              <a:rPr b="0" lang="ru-RU" sz="1200" spc="-1" strike="noStrike">
                <a:solidFill>
                  <a:srgbClr val="000000"/>
                </a:solidFill>
                <a:latin typeface="Arial"/>
              </a:rPr>
              <a:t>Фанта</a:t>
            </a:r>
            <a:r>
              <a:rPr b="0" lang="en" sz="1200" spc="-1" strike="noStrike">
                <a:solidFill>
                  <a:srgbClr val="000000"/>
                </a:solidFill>
                <a:latin typeface="Arial"/>
              </a:rPr>
              <a:t>» </a:t>
            </a:r>
            <a:r>
              <a:rPr b="0" lang="ru-RU" sz="1200" spc="-1" strike="noStrike">
                <a:solidFill>
                  <a:srgbClr val="000000"/>
                </a:solidFill>
                <a:latin typeface="Arial"/>
              </a:rPr>
              <a:t>и </a:t>
            </a:r>
            <a:r>
              <a:rPr b="0" lang="en" sz="1200" spc="-1" strike="noStrike">
                <a:solidFill>
                  <a:srgbClr val="000000"/>
                </a:solidFill>
                <a:latin typeface="Arial"/>
              </a:rPr>
              <a:t>«</a:t>
            </a:r>
            <a:r>
              <a:rPr b="0" lang="ru-RU" sz="1200" spc="-1" strike="noStrike">
                <a:solidFill>
                  <a:srgbClr val="000000"/>
                </a:solidFill>
                <a:latin typeface="Arial"/>
              </a:rPr>
              <a:t>Спрайт</a:t>
            </a:r>
            <a:r>
              <a:rPr b="0" lang="en"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ямо льются реко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ыгранем - ка в футбо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ашу я руко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жет быть бадминтон?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кивну головой,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инаем игр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p:txBody>
      </p:sp>
      <p:sp>
        <p:nvSpPr>
          <p:cNvPr id="62" name=""/>
          <p:cNvSpPr/>
          <p:nvPr/>
        </p:nvSpPr>
        <p:spPr>
          <a:xfrm>
            <a:off x="6781680" y="380880"/>
            <a:ext cx="205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Озерова Арин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91b56c"/>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br>
              <a:rPr sz="4000"/>
            </a:br>
            <a:br>
              <a:rPr sz="4000"/>
            </a:br>
            <a:r>
              <a:rPr b="1" lang="ru-RU" sz="1400" spc="-1" strike="noStrike">
                <a:solidFill>
                  <a:srgbClr val="000000"/>
                </a:solidFill>
                <a:latin typeface="Arial"/>
              </a:rPr>
              <a:t>О том, как Илья Муромец искал свое счастье.</a:t>
            </a:r>
            <a:br>
              <a:rPr sz="1400"/>
            </a:br>
            <a:r>
              <a:rPr b="1" lang="en" sz="1400" spc="-1" strike="noStrike">
                <a:solidFill>
                  <a:srgbClr val="000000"/>
                </a:solidFill>
                <a:latin typeface="Arial"/>
              </a:rPr>
              <a:t> </a:t>
            </a:r>
            <a:br>
              <a:rPr sz="1400"/>
            </a:br>
            <a:r>
              <a:rPr b="0" lang="en" sz="4000" spc="-1" strike="noStrike">
                <a:solidFill>
                  <a:srgbClr val="000000"/>
                </a:solidFill>
                <a:latin typeface="Arial"/>
              </a:rPr>
              <a:t> </a:t>
            </a:r>
            <a:endParaRPr b="0" lang="en-US" sz="4000" spc="-1" strike="noStrike">
              <a:solidFill>
                <a:srgbClr val="000000"/>
              </a:solidFill>
              <a:latin typeface="Arial"/>
            </a:endParaRPr>
          </a:p>
        </p:txBody>
      </p:sp>
      <p:sp>
        <p:nvSpPr>
          <p:cNvPr id="64" name="PlaceHolder 2"/>
          <p:cNvSpPr>
            <a:spLocks noGrp="1"/>
          </p:cNvSpPr>
          <p:nvPr>
            <p:ph/>
          </p:nvPr>
        </p:nvSpPr>
        <p:spPr>
          <a:xfrm>
            <a:off x="456840" y="990360"/>
            <a:ext cx="3962520" cy="5562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дел Илья Муромец на печ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думал о времени старом.</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ражения, Змеи Горыныч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воины монголо—татары.</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о вот надоело ему наконец:</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a:t>
            </a:r>
            <a:r>
              <a:rPr b="0" lang="ru-RU" sz="1400" spc="-1" strike="noStrike">
                <a:solidFill>
                  <a:srgbClr val="000000"/>
                </a:solidFill>
                <a:latin typeface="Arial"/>
              </a:rPr>
              <a:t>Что за жизнь такая без боя</a:t>
            </a:r>
            <a:r>
              <a:rPr b="0" lang="en"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зял он меч свой и кистень</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вышел за порог дом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йн хотелось нашему герою!</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Шел Илья Муромец по троп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андиты сдавались без боя.</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икто не хотел лишиться своей головы</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т руки такого воин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третил герой сову ночную.</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a:t>
            </a:r>
            <a:r>
              <a:rPr b="0" lang="ru-RU" sz="1400" spc="-1" strike="noStrike">
                <a:solidFill>
                  <a:srgbClr val="000000"/>
                </a:solidFill>
                <a:latin typeface="Arial"/>
              </a:rPr>
              <a:t>В чем счастье?</a:t>
            </a:r>
            <a:r>
              <a:rPr b="0" lang="en" sz="1400" spc="-1" strike="noStrike">
                <a:solidFill>
                  <a:srgbClr val="000000"/>
                </a:solidFill>
                <a:latin typeface="Arial"/>
              </a:rPr>
              <a:t>»- </a:t>
            </a:r>
            <a:r>
              <a:rPr b="0" lang="ru-RU" sz="1400" spc="-1" strike="noStrike">
                <a:solidFill>
                  <a:srgbClr val="000000"/>
                </a:solidFill>
                <a:latin typeface="Arial"/>
              </a:rPr>
              <a:t>он говорит.</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a:t>
            </a:r>
            <a:r>
              <a:rPr b="0" lang="ru-RU" sz="1400" spc="-1" strike="noStrike">
                <a:solidFill>
                  <a:srgbClr val="000000"/>
                </a:solidFill>
                <a:latin typeface="Arial"/>
              </a:rPr>
              <a:t>Кто же не знает,- сказала сов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частье видеть ночью всегда</a:t>
            </a:r>
            <a:r>
              <a:rPr b="0" lang="en" sz="1400" spc="-1" strike="noStrike">
                <a:solidFill>
                  <a:srgbClr val="000000"/>
                </a:solidFill>
                <a:latin typeface="Arial"/>
              </a:rPr>
              <a:t>»</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 видел  Илья счастья в ноч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пошел он дальше чрез дебри лесны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друг видит, знакомый стоит.</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йчишка трусливы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лья говорит:</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чем счастье мой друг?</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том, чтоб не бояться никого,</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p:txBody>
      </p:sp>
      <p:sp>
        <p:nvSpPr>
          <p:cNvPr id="65" name=""/>
          <p:cNvSpPr/>
          <p:nvPr/>
        </p:nvSpPr>
        <p:spPr>
          <a:xfrm>
            <a:off x="4800600" y="1143000"/>
            <a:ext cx="3962520" cy="46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рабрым быть человеко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будешь счастлив навек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Ценил Илья храбрость в душе и сердц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о не видел он счастья и в это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о вот дошел Илья до деревн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жил там мирный народ.</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 знал он ни войн, ни сражени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люди добры были там во все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a:t>
            </a:r>
            <a:r>
              <a:rPr b="0" lang="ru-RU" sz="1400" spc="-1" strike="noStrike">
                <a:solidFill>
                  <a:srgbClr val="000000"/>
                </a:solidFill>
                <a:latin typeface="Arial"/>
              </a:rPr>
              <a:t>В чем счастье?- спросил Илья внов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частье в мир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иром правят ни деньги, ни сил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иром правит любов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нял герой наш, что счасть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и в ночи, ни в храброст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качествах прочи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частье в любв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остался Илья в той деревн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строил он  пир на весь мир!</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я там был, мед пиво пи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усам текло, а в рот не попал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520" y="380880"/>
            <a:ext cx="3581640" cy="6019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 школе</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годня понедельник,</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в школу я иду.</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физкультуре перво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ребятами бегу.</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осле физкультуры</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ов просто тьм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глийский и риторик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ведь ждут мен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в детстве ходят в школу,</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м нам она нужн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детям в нашем возраст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нь важн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ои родители!</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иву в семье прекрасно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де мама ,папа, 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словно одно цело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 лучшие друзь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й папа много знае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ет делать вс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ю сложную работу</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делает легко!</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мама добротою</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нежностью полн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сть иногда ругае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это все не зр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хорошо, что рядом</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 мною навсегд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бимые родител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ажу я твердо: </a:t>
            </a:r>
            <a:r>
              <a:rPr b="0" lang="en" sz="1200" spc="-1" strike="noStrike">
                <a:solidFill>
                  <a:srgbClr val="000000"/>
                </a:solidFill>
                <a:latin typeface="Arial"/>
              </a:rPr>
              <a:t>«</a:t>
            </a:r>
            <a:r>
              <a:rPr b="0" lang="ru-RU" sz="1200" spc="-1" strike="noStrike">
                <a:solidFill>
                  <a:srgbClr val="000000"/>
                </a:solidFill>
                <a:latin typeface="Arial"/>
              </a:rPr>
              <a:t>Да!</a:t>
            </a:r>
            <a:r>
              <a:rPr b="0" lang="en"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sp>
        <p:nvSpPr>
          <p:cNvPr id="67" name=""/>
          <p:cNvSpPr/>
          <p:nvPr/>
        </p:nvSpPr>
        <p:spPr>
          <a:xfrm>
            <a:off x="4191120" y="304920"/>
            <a:ext cx="4190760" cy="490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Жизнь в спорт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имой в хоккей играю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бята во двор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 шлемами и клюшкам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 весело в игр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летом на лужайк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грают все в футбо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каждый нападающи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ьет в ворота го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есть игра спокойна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шахматы любл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де каждую фигур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своему цен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ртивные заняти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бятам всем важн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ье, сила, ловкос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м в жизни так нужн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400" spc="-1" strike="noStrike">
                <a:solidFill>
                  <a:srgbClr val="000000"/>
                </a:solidFill>
                <a:latin typeface="Arial"/>
              </a:rPr>
              <a:t>Великан и гном</a:t>
            </a: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ел маленький гном и большой велика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и вдруг столкнулись, и гномик упа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лыш закричал: </a:t>
            </a:r>
            <a:r>
              <a:rPr b="0" lang="en" sz="1200" spc="-1" strike="noStrike">
                <a:solidFill>
                  <a:srgbClr val="000000"/>
                </a:solidFill>
                <a:latin typeface="Arial"/>
              </a:rPr>
              <a:t>«</a:t>
            </a:r>
            <a:r>
              <a:rPr b="0" lang="ru-RU" sz="1200" spc="-1" strike="noStrike">
                <a:solidFill>
                  <a:srgbClr val="000000"/>
                </a:solidFill>
                <a:latin typeface="Arial"/>
              </a:rPr>
              <a:t>Что не смотришь под ноги?</a:t>
            </a:r>
            <a:r>
              <a:rPr b="0" lang="en"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ликан же молчал, он высокий, как бог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a:t>
            </a:r>
            <a:r>
              <a:rPr b="0" lang="ru-RU" sz="1200" spc="-1" strike="noStrike">
                <a:solidFill>
                  <a:srgbClr val="000000"/>
                </a:solidFill>
                <a:latin typeface="Arial"/>
              </a:rPr>
              <a:t>Пускай ты высокий, громадный и сильны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слабым и низким не делай обидно!</a:t>
            </a:r>
            <a:r>
              <a:rPr b="0" lang="en"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sp>
        <p:nvSpPr>
          <p:cNvPr id="68" name=""/>
          <p:cNvSpPr/>
          <p:nvPr/>
        </p:nvSpPr>
        <p:spPr>
          <a:xfrm>
            <a:off x="5486400" y="5486400"/>
            <a:ext cx="2438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Шавкунов Алексе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456840"/>
            <a:ext cx="8229600" cy="5257800"/>
          </a:xfrm>
          <a:prstGeom prst="rect">
            <a:avLst/>
          </a:prstGeom>
          <a:noFill/>
          <a:ln w="0">
            <a:noFill/>
          </a:ln>
        </p:spPr>
        <p:txBody>
          <a:bodyPr lIns="90000" rIns="90000" tIns="46800" bIns="46800" anchor="t">
            <a:normAutofit fontScale="99000"/>
          </a:bodyPr>
          <a:p>
            <a:pPr marL="3394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400" spc="-1" strike="noStrike">
                <a:solidFill>
                  <a:srgbClr val="000000"/>
                </a:solidFill>
                <a:latin typeface="Arial"/>
              </a:rPr>
              <a:t>Запутанная история</a:t>
            </a:r>
            <a:endParaRPr b="0" lang="en-US" sz="1400" spc="-1" strike="noStrike">
              <a:solidFill>
                <a:srgbClr val="000000"/>
              </a:solidFill>
              <a:latin typeface="Arial"/>
            </a:endParaRPr>
          </a:p>
          <a:p>
            <a:pPr marL="3394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Шел </a:t>
            </a:r>
            <a:r>
              <a:rPr b="0" lang="en" sz="1200" spc="-1" strike="noStrike">
                <a:solidFill>
                  <a:srgbClr val="000000"/>
                </a:solidFill>
                <a:latin typeface="Arial"/>
              </a:rPr>
              <a:t>1646 </a:t>
            </a:r>
            <a:r>
              <a:rPr b="0" lang="ru-RU" sz="1200" spc="-1" strike="noStrike">
                <a:solidFill>
                  <a:srgbClr val="000000"/>
                </a:solidFill>
                <a:latin typeface="Arial"/>
              </a:rPr>
              <a:t>год. Тогда на Руси президентом был Царь Горох. Все шло хорошо, своим чередом. Парламент принимал отличные решения, народ был доволен. Но вдруг в один прекрасный летний день в город въехала большая черная телега. Она заправилась на местной заправке и остановилась у королевского дворца. Вроде бы все нормально. Но в этот же день из алмазного фонда был похищен желтый алмаз величиной со взрослый кулак, и в этот же чудесный день черная подозрительная телега скрылась.</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 это сложное, запутанное дело берется опытный сыщик Иван и его верный помощник Балда.</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у-с, и что мы имеем? - спросил Иван,— какие подозрительные типы были сегодня у Королевского Алмазного фонда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ели только одного, это был человек в плаще, на черной телеге, хотя нет, еще подходило два крестьянина, болтавших друг с другом.</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дем на место преступления, - решил Иван. По дороге они зашли на заправку, где видели черную телегу. Там ничего не нашли, кроме магнитофона, оставленного черным незнакомцем. Они включили его и услышали песню известной группы </a:t>
            </a:r>
            <a:r>
              <a:rPr b="0" lang="en" sz="1200" spc="-1" strike="noStrike">
                <a:solidFill>
                  <a:srgbClr val="000000"/>
                </a:solidFill>
                <a:latin typeface="Arial"/>
              </a:rPr>
              <a:t>«</a:t>
            </a:r>
            <a:r>
              <a:rPr b="0" lang="ru-RU" sz="1200" spc="-1" strike="noStrike">
                <a:solidFill>
                  <a:srgbClr val="000000"/>
                </a:solidFill>
                <a:latin typeface="Arial"/>
              </a:rPr>
              <a:t>Дедки</a:t>
            </a:r>
            <a:r>
              <a:rPr b="0" lang="en" sz="1200" spc="-1" strike="noStrike">
                <a:solidFill>
                  <a:srgbClr val="000000"/>
                </a:solidFill>
                <a:latin typeface="Arial"/>
              </a:rPr>
              <a:t>». </a:t>
            </a:r>
            <a:r>
              <a:rPr b="0" lang="ru-RU" sz="1200" spc="-1" strike="noStrike">
                <a:solidFill>
                  <a:srgbClr val="000000"/>
                </a:solidFill>
                <a:latin typeface="Arial"/>
              </a:rPr>
              <a:t>Обследовав магнитофон,  сыщики обнаружили отпечатки пальцев. И тут Иван вспомнил про крестьян. Пошли они в справочную службу и выяснилось, что один из них известный преступник Кощей, который делал фонограммы для разных групп, а вторым оказался Дон Кихот.</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прос показал, что они ничего не знают об алмазе, и сами следили за черным незнакомцем. И вот Иван и Балда сели на полицейских коньков—горбунков с мигалками, взяли конфетометы, стреляющие чупа—чупсами и бросились вслед за черным незнакомцем со скоростью, намного превышающей </a:t>
            </a:r>
            <a:r>
              <a:rPr b="0" lang="en" sz="1200" spc="-1" strike="noStrike">
                <a:solidFill>
                  <a:srgbClr val="000000"/>
                </a:solidFill>
                <a:latin typeface="Arial"/>
              </a:rPr>
              <a:t>100 </a:t>
            </a:r>
            <a:r>
              <a:rPr b="0" lang="ru-RU" sz="1200" spc="-1" strike="noStrike">
                <a:solidFill>
                  <a:srgbClr val="000000"/>
                </a:solidFill>
                <a:latin typeface="Arial"/>
              </a:rPr>
              <a:t>км/ч. Вы не удивляйтесь, ведь это коньки– горбунки модели </a:t>
            </a:r>
            <a:r>
              <a:rPr b="0" lang="en" sz="1200" spc="-1" strike="noStrike">
                <a:solidFill>
                  <a:srgbClr val="000000"/>
                </a:solidFill>
                <a:latin typeface="Arial"/>
              </a:rPr>
              <a:t>«</a:t>
            </a:r>
            <a:r>
              <a:rPr b="0" lang="ru-RU" sz="1200" spc="-1" strike="noStrike">
                <a:solidFill>
                  <a:srgbClr val="000000"/>
                </a:solidFill>
                <a:latin typeface="Arial"/>
              </a:rPr>
              <a:t>Феррари </a:t>
            </a:r>
            <a:r>
              <a:rPr b="0" lang="en" sz="1200" spc="-1" strike="noStrike">
                <a:solidFill>
                  <a:srgbClr val="000000"/>
                </a:solidFill>
                <a:latin typeface="Arial"/>
              </a:rPr>
              <a:t>1646» - </a:t>
            </a:r>
            <a:r>
              <a:rPr b="0" lang="ru-RU" sz="1200" spc="-1" strike="noStrike">
                <a:solidFill>
                  <a:srgbClr val="000000"/>
                </a:solidFill>
                <a:latin typeface="Arial"/>
              </a:rPr>
              <a:t>самые быстрые.</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нечно, они быстро догнали незнакомца, едущего по главной дороге. Оказалось, что черный незнакомец—это Соловей Разбойник, известный министр иностранных дел (интересно, зачем было устраивать этот маскарад?). В телеге не нашли алмаза…</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озникает вопрос—кто украл драгоценный  камень? Но тут из королевского дворца поступило сообщение: Царь Горох, страдающий лунатизмом (лунатик он был), ночью взял алмаз и положил его к себе под подушку, а уборщица, когда застилала кровать, увидела алмаз и поставила его на место. Хотя Ивану и Балде не удалось обнаружить алмаз (так как он не пропадал),  они арестовали Кощея и Дон Кихота.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еперь город спит спокойно и не боится, что их мельницу разрушит Дон Кихот, а известные певцы исполняют свои песни без фонограмм.                                                                                                                                                     </a:t>
            </a:r>
            <a:endParaRPr b="0" lang="en-US" sz="1200" spc="-1" strike="noStrike">
              <a:solidFill>
                <a:srgbClr val="000000"/>
              </a:solidFill>
              <a:latin typeface="Arial"/>
            </a:endParaRPr>
          </a:p>
        </p:txBody>
      </p:sp>
      <p:sp>
        <p:nvSpPr>
          <p:cNvPr id="70" name=""/>
          <p:cNvSpPr/>
          <p:nvPr/>
        </p:nvSpPr>
        <p:spPr>
          <a:xfrm>
            <a:off x="914400" y="5867280"/>
            <a:ext cx="358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Остромогильский Аркадий</a:t>
            </a:r>
            <a:endParaRPr b="0" lang="en-US" sz="1600" spc="-1" strike="noStrike">
              <a:solidFill>
                <a:srgbClr val="000000"/>
              </a:solidFill>
              <a:latin typeface="Arial"/>
            </a:endParaRPr>
          </a:p>
        </p:txBody>
      </p:sp>
      <p:pic>
        <p:nvPicPr>
          <p:cNvPr id="71" name="" descr=""/>
          <p:cNvPicPr/>
          <p:nvPr/>
        </p:nvPicPr>
        <p:blipFill>
          <a:blip r:embed="rId2"/>
          <a:stretch/>
        </p:blipFill>
        <p:spPr>
          <a:xfrm>
            <a:off x="6477120" y="5334120"/>
            <a:ext cx="2361960" cy="142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ya</cp:lastModifiedBy>
  <dcterms:modified xsi:type="dcterms:W3CDTF">2012-02-04T16:08:37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