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gif" ContentType="image/gif"/>
  <Override PartName="/ppt/media/image21.jpeg" ContentType="image/jpeg"/>
  <Override PartName="/ppt/media/image16.jpeg" ContentType="image/jpeg"/>
  <Override PartName="/ppt/media/image23.jpeg" ContentType="image/jpeg"/>
  <Override PartName="/ppt/media/image18.jpeg" ContentType="image/jpe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9C81D-4469-4567-B435-3AF751AB9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00141-A468-4707-B1A8-1A4143487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BFECF-8D99-422C-8F91-EA6C9536F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E4E91-62A1-4D6E-994B-A17E14A43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15B3C-114B-4A53-874D-F86DE32D8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5B6FD-F338-4E3C-B04C-8131DC568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8A516-C264-4BD1-879E-F7B9A676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4E0AB-06EE-40AA-9C9D-6EC5D7A6A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16C92-86DC-4BC1-85DF-556D24EEB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82BC-4215-47CA-A655-8CC4C5A68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C322-3AC8-4D33-9D6B-57DC5AE07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1F73A-9CEF-4C40-A22F-02FDEADD6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D21D-3492-4742-9DCF-DF1E3F04C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5027"/>
          <a:stretch/>
        </p:blipFill>
        <p:spPr>
          <a:xfrm>
            <a:off x="304920" y="609480"/>
            <a:ext cx="8686800" cy="5580360"/>
          </a:xfrm>
          <a:prstGeom prst="rect">
            <a:avLst/>
          </a:prstGeom>
          <a:ln w="0">
            <a:noFill/>
          </a:ln>
        </p:spPr>
      </p:pic>
      <p:sp>
        <p:nvSpPr>
          <p:cNvPr id="42" name=""/>
          <p:cNvSpPr txBox="1"/>
          <p:nvPr/>
        </p:nvSpPr>
        <p:spPr>
          <a:xfrm rot="20900400">
            <a:off x="837720" y="1600200"/>
            <a:ext cx="7236000" cy="1800360"/>
          </a:xfrm>
          <a:prstGeom prst="rect">
            <a:avLst/>
          </a:prstGeom>
        </p:spPr>
        <p:txBody>
          <a:bodyPr wrap="none" lIns="36360" rIns="3636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gradFill rotWithShape="0">
                  <a:gsLst>
                    <a:gs pos="0">
                      <a:srgbClr val="ffffff"/>
                    </a:gs>
                    <a:gs pos="100000">
                      <a:srgbClr val="ffffff"/>
                    </a:gs>
                  </a:gsLst>
                  <a:lin ang="5400000"/>
                </a:gradFill>
                <a:latin typeface="Times New Roman"/>
              </a:rPr>
              <a:t>Мечтатель</a:t>
            </a:r>
            <a:endParaRPr b="1" lang="en-US" sz="66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43" name=""/>
          <p:cNvSpPr txBox="1"/>
          <p:nvPr/>
        </p:nvSpPr>
        <p:spPr>
          <a:xfrm>
            <a:off x="4191120" y="4800600"/>
            <a:ext cx="2314440" cy="933480"/>
          </a:xfrm>
          <a:prstGeom prst="rect">
            <a:avLst/>
          </a:prstGeom>
        </p:spPr>
        <p:txBody>
          <a:bodyPr wrap="none" lIns="36360" rIns="3636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gradFill rotWithShape="0">
                  <a:gsLst>
                    <a:gs pos="0">
                      <a:srgbClr val="ffffff"/>
                    </a:gs>
                    <a:gs pos="100000">
                      <a:srgbClr val="ffffff"/>
                    </a:gs>
                  </a:gsLst>
                  <a:lin ang="5400000"/>
                </a:gradFill>
                <a:latin typeface="Times New Roman"/>
              </a:rPr>
              <a:t>выпуск 2</a:t>
            </a:r>
            <a:endParaRPr b="1" i="1" lang="en-US" sz="32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gradFill rotWithShape="0">
                  <a:gsLst>
                    <a:gs pos="0">
                      <a:srgbClr val="ffffff"/>
                    </a:gs>
                    <a:gs pos="100000">
                      <a:srgbClr val="ffffff"/>
                    </a:gs>
                  </a:gsLst>
                  <a:lin ang="5400000"/>
                </a:gradFill>
                <a:latin typeface="Times New Roman"/>
              </a:rPr>
              <a:t>декабрь 2009</a:t>
            </a:r>
            <a:endParaRPr b="1" i="1" lang="en-US" sz="32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6840" y="456840"/>
            <a:ext cx="8458200" cy="533412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орькая правд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ыпал первый снег. Звери укрываются в свои норы, медведь спрятался  в берлогу. Животные чуют сердцем, что вот-вот подморозит, день становится короче и вокруг все побелеет. Но эта история о друго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т бежит по лесной тропинке заяц по имени Кузя. Мать семейства Белянка послала сына за провизией. Зимой зайцам тяжело найти еду, а такому большому семейству, как у Кузи, тем более. Но вернемся к зайчонку; он уже пересек Лесную Лужайку, направился к Долине Белок. Долина называется так потому, что в этом месте везде ( на деревья и по земле) бегали  и прыгали белки. Туда Кузя и отправился. Но его постигла неудача– как он не искал, еды не нашел. Он тяжело вздохнул: </a:t>
            </a:r>
            <a:r>
              <a:rPr b="0" lang="en" sz="1400" spc="-1" strike="noStrike">
                <a:solidFill>
                  <a:srgbClr val="000000"/>
                </a:solidFill>
                <a:latin typeface="Arial"/>
              </a:rPr>
              <a:t>«</a:t>
            </a:r>
            <a:r>
              <a:rPr b="0" lang="ru-RU" sz="1400" spc="-1" strike="noStrike">
                <a:solidFill>
                  <a:srgbClr val="000000"/>
                </a:solidFill>
                <a:latin typeface="Arial"/>
              </a:rPr>
              <a:t>Где же мне найти еду? Мама будет сильно ругать… Эх, лучше бы пошел Афонька—у него и лапы сильнее, и любую работу он хорошо выполнит. Да-а-а..</a:t>
            </a:r>
            <a:r>
              <a:rPr b="0" lang="en"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йчонок загрустил и пошел домой, он уже замерз и даже не знал, где найти лакомый кусоче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у вот он стоит у родимой норки. Слышно, как Белянка отчитывает одного из братьев Кузи– Беляша. Видимо тот в чем-то сильно провинился. Кузя решил</a:t>
            </a:r>
            <a:r>
              <a:rPr b="0" lang="en" sz="1400" spc="-1" strike="noStrike">
                <a:solidFill>
                  <a:srgbClr val="000000"/>
                </a:solidFill>
                <a:latin typeface="Arial"/>
              </a:rPr>
              <a:t>: </a:t>
            </a:r>
            <a:r>
              <a:rPr b="0" lang="ru-RU" sz="1400" spc="-1" strike="noStrike">
                <a:solidFill>
                  <a:srgbClr val="000000"/>
                </a:solidFill>
                <a:latin typeface="Arial"/>
              </a:rPr>
              <a:t>если ругают Беляша, то пусть поругают и его– тогда два брата вместе пожалуются на судьб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Медленно он вошел в норку. Мать отвлеклась, посмотрела на разочарованного сына. А беляш, воспользовавшись моментом, удрал– не хотел привлекать внимание. Первая мысль Кузи– сейчас начнется… Но Белянка даже не думала ругать зайчонка, она крепко его обняла и поцеловала в серую макушк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0" lang="ru-RU" sz="1400" spc="-1" strike="noStrike">
                <a:solidFill>
                  <a:srgbClr val="000000"/>
                </a:solidFill>
                <a:latin typeface="Arial"/>
              </a:rPr>
              <a:t>Мама… Прости…,- всхлипнул Кузя,- я не нашел еды.</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0" lang="ru-RU" sz="1400" spc="-1" strike="noStrike">
                <a:solidFill>
                  <a:srgbClr val="000000"/>
                </a:solidFill>
                <a:latin typeface="Arial"/>
              </a:rPr>
              <a:t>Я поняла, мой милый сыночек. Но я не ругаю тебя, ты честно признался. Не то, что некоторые ( Белянка бросила взгляд на Беляша).Главное, что ты признался, а не скрыл от меня правду. Лучше горькая правда, чем сладкая ложь. Не так ли, ребята</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pic>
        <p:nvPicPr>
          <p:cNvPr id="76" name="" descr=""/>
          <p:cNvPicPr/>
          <p:nvPr/>
        </p:nvPicPr>
        <p:blipFill>
          <a:blip r:embed="rId1"/>
          <a:stretch/>
        </p:blipFill>
        <p:spPr>
          <a:xfrm>
            <a:off x="1676520" y="5257800"/>
            <a:ext cx="2209680" cy="1467000"/>
          </a:xfrm>
          <a:prstGeom prst="rect">
            <a:avLst/>
          </a:prstGeom>
          <a:ln w="0">
            <a:noFill/>
          </a:ln>
        </p:spPr>
      </p:pic>
      <p:sp>
        <p:nvSpPr>
          <p:cNvPr id="77" name=""/>
          <p:cNvSpPr/>
          <p:nvPr/>
        </p:nvSpPr>
        <p:spPr>
          <a:xfrm>
            <a:off x="5334120" y="57150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Рузина Кари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304920"/>
            <a:ext cx="4114800" cy="5821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1600" spc="-1" strike="noStrike">
                <a:solidFill>
                  <a:srgbClr val="000000"/>
                </a:solidFill>
                <a:latin typeface="Arial"/>
              </a:rPr>
              <a:t>Ко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ежал на крыше черный ко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иженный и злобный,</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то полюбит, кто пойме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 этот кот бездомный.</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ежит на крыше черный ко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ижен он и жалок,</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оть кто—то может быть пойме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дом кота к себе возьме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 </a:t>
            </a:r>
            <a:endParaRPr b="0" lang="en-US" sz="1600" spc="-1" strike="noStrike">
              <a:solidFill>
                <a:srgbClr val="000000"/>
              </a:solidFill>
              <a:latin typeface="Arial"/>
            </a:endParaRPr>
          </a:p>
        </p:txBody>
      </p:sp>
      <p:sp>
        <p:nvSpPr>
          <p:cNvPr id="79" name=""/>
          <p:cNvSpPr/>
          <p:nvPr/>
        </p:nvSpPr>
        <p:spPr>
          <a:xfrm>
            <a:off x="684360" y="3569040"/>
            <a:ext cx="2401200" cy="27392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етит луна качаетс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улице темн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етит луна качаетс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светит мне в окн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я лежу и думаю</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олночной тишин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 том, что скоро выраст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очень грустно мн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5737680" y="1788840"/>
            <a:ext cx="2745360" cy="4137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ще одна звездоч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ще один газовый ша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ала одна он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икто не увидел падень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етящийся шарик упал,</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игде не виден пожа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процессы горень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Я сам как звез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аду и никто не замет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то и не вспомнит, чт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ыл я и сделал я чт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то не узн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 зверь человека замен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то и не вспомн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изкое наше родств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 </a:t>
            </a:r>
            <a:endParaRPr b="0" lang="en-US" sz="1600" spc="-1" strike="noStrike">
              <a:solidFill>
                <a:srgbClr val="000000"/>
              </a:solidFill>
              <a:latin typeface="Arial"/>
            </a:endParaRPr>
          </a:p>
        </p:txBody>
      </p:sp>
      <p:pic>
        <p:nvPicPr>
          <p:cNvPr id="81" name="" descr=""/>
          <p:cNvPicPr/>
          <p:nvPr/>
        </p:nvPicPr>
        <p:blipFill>
          <a:blip r:embed="rId2">
            <a:lum bright="6000"/>
          </a:blip>
          <a:stretch/>
        </p:blipFill>
        <p:spPr>
          <a:xfrm>
            <a:off x="3505320" y="380880"/>
            <a:ext cx="2357280" cy="1930680"/>
          </a:xfrm>
          <a:prstGeom prst="rect">
            <a:avLst/>
          </a:prstGeom>
          <a:ln w="0">
            <a:noFill/>
          </a:ln>
        </p:spPr>
      </p:pic>
      <p:sp>
        <p:nvSpPr>
          <p:cNvPr id="82" name=""/>
          <p:cNvSpPr/>
          <p:nvPr/>
        </p:nvSpPr>
        <p:spPr>
          <a:xfrm>
            <a:off x="6248520" y="8380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амышанов Антон</a:t>
            </a:r>
            <a:endParaRPr b="0" lang="en-US" sz="1600" spc="-1" strike="noStrike">
              <a:solidFill>
                <a:srgbClr val="000000"/>
              </a:solidFill>
              <a:latin typeface="Arial"/>
            </a:endParaRPr>
          </a:p>
        </p:txBody>
      </p:sp>
      <p:sp>
        <p:nvSpPr>
          <p:cNvPr id="83" name=""/>
          <p:cNvSpPr/>
          <p:nvPr/>
        </p:nvSpPr>
        <p:spPr>
          <a:xfrm>
            <a:off x="1676520" y="61722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Максимов Пет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56565"/>
            </a:gs>
            <a:gs pos="100000">
              <a:srgbClr val="dddddd"/>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380520"/>
            <a:ext cx="3276720" cy="5745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снова дождь застучал по стекл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 окном темнот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 стеной тиши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опять не усн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хочу погуля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этот дождь, темнот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хочу прийти на рассвет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то держит мен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пускает мен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ведь звезды уже и не светя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будильник смотр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т четыре ут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опять поспать не успел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 окном не светло,</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душе так темно!</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от страха песню запел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чего я боюс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мноты? Иль ут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понять этого не хотел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е уже все равно,</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ть мне не суждено,</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эту ночь я в душе повзрослел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85" name=""/>
          <p:cNvSpPr/>
          <p:nvPr/>
        </p:nvSpPr>
        <p:spPr>
          <a:xfrm>
            <a:off x="4038480" y="304920"/>
            <a:ext cx="3200400" cy="31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a:t>
            </a:r>
            <a:r>
              <a:rPr b="1" lang="en"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сна нет и настроен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рода плачет, плачу 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т во мне даже вдохновен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антазии, добра, теп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морю в ок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ам пустот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мама сп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мне не до с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жду утра от самой ноч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липаются мои глаз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дни теперь стали короч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снова болит голо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rcRect l="0" t="0" r="0" b="4349"/>
          <a:stretch/>
        </p:blipFill>
        <p:spPr>
          <a:xfrm>
            <a:off x="4572000" y="3733920"/>
            <a:ext cx="2943360" cy="1522440"/>
          </a:xfrm>
          <a:prstGeom prst="rect">
            <a:avLst/>
          </a:prstGeom>
          <a:ln w="0">
            <a:noFill/>
          </a:ln>
        </p:spPr>
      </p:pic>
      <p:sp>
        <p:nvSpPr>
          <p:cNvPr id="87" name=""/>
          <p:cNvSpPr/>
          <p:nvPr/>
        </p:nvSpPr>
        <p:spPr>
          <a:xfrm>
            <a:off x="5105520" y="6019920"/>
            <a:ext cx="30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Озерова Ари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52280" y="762120"/>
            <a:ext cx="8839440" cy="5497560"/>
          </a:xfrm>
          <a:prstGeom prst="rect">
            <a:avLst/>
          </a:prstGeom>
          <a:ln w="0">
            <a:noFill/>
          </a:ln>
        </p:spPr>
      </p:pic>
      <p:sp>
        <p:nvSpPr>
          <p:cNvPr id="89" name="PlaceHolder 1"/>
          <p:cNvSpPr>
            <a:spLocks noGrp="1"/>
          </p:cNvSpPr>
          <p:nvPr>
            <p:ph/>
          </p:nvPr>
        </p:nvSpPr>
        <p:spPr>
          <a:xfrm>
            <a:off x="456840" y="990360"/>
            <a:ext cx="8381880" cy="510516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ролевство вежливых сл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ли- были вежливые слова. Жили они в своём королевстве по соседству с грубыми словами. Грубые и вежливые были полными противоположностями. Грубые были злыми и жестокими, а вежливые- добрыми и великодушным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I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 словами добрый царь Пожалуйста. Он был хорошим правителем и делал много добра своим слугам. Но однажды к царю пришло письмо от правителя грубых слов Урода. Письмо гласил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адкий пожалуйста! Нам, грубым словам, надоело, что нами правят. Мы все собираемся всем войском выступить и напасть на ваши войска!»        Урод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en" sz="1200" spc="-1" strike="noStrike">
                <a:solidFill>
                  <a:srgbClr val="000000"/>
                </a:solidFill>
                <a:latin typeface="Arial"/>
              </a:rPr>
              <a:t>II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ве армии встали друг против друга и сошлись в великом бою. Лились слова: урод, гад, сдохни, пожалуйста, простите, спасибо. Но сила была на стороне злых солдат- грубиянов. Армия вежливых слов отступила. Замок короля взяли в осаду! Ворота содрогались от ударов противника, но генерал войска не унывал.</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I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жалуйста с отборными солдатами вышел через тайный ход и направились к тылу врага. Грубияны настолько увлеклись боем, что не заметили, как сзади напали наши. Спереди открылись ворота в замок, и оттуда хлынули вежливые слова. Вскоре вражеской армии пришлось отступи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лого Урода посадили в тюрьму, а приближённых в каретах повезли по их городам. С тех пор вежливые слова всегда главнее грубы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90" name=""/>
          <p:cNvSpPr/>
          <p:nvPr/>
        </p:nvSpPr>
        <p:spPr>
          <a:xfrm>
            <a:off x="5867280" y="304920"/>
            <a:ext cx="259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Максимов Пет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80520"/>
            <a:ext cx="3276720" cy="574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ли-были кошка с мышко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ли-были Кошка с Мышко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ли они друзьями слишк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 пошли они гул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грибы пособира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друг откуда ни возьмис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явился месяц!</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сь Кошка с Мышко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угались, даже слишк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удо! Не бывало вед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го, чтобы месяц среди дн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лнце днём, ночью лу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и должно быть всегд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ь прошёл - опять же чуд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сяц есть, а солнца не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понятно вдруг подружка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шли они к Кукушк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кушка умная был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честью и славой гост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ла о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яснила им Кукушк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ё светят прожектор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ьм такой снимают новы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лнце, Месяц и Лу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и сказочке конец,</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кто слушал- молодец</a:t>
            </a:r>
            <a:r>
              <a:rPr b="0" lang="en"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92" name=""/>
          <p:cNvSpPr/>
          <p:nvPr/>
        </p:nvSpPr>
        <p:spPr>
          <a:xfrm>
            <a:off x="3733920" y="3733920"/>
            <a:ext cx="312408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Щен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ждик капает по старой крыш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круг тем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чего не слыш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 в деревне весь пром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 не видно залитый огоро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друг, слышен собачий ла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ит щено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спаса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ленький он, совсем еще крошк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м еды ему немножк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м воды и спать улож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сразу засн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маме покаж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pic>
        <p:nvPicPr>
          <p:cNvPr id="93" name="" descr=""/>
          <p:cNvPicPr/>
          <p:nvPr/>
        </p:nvPicPr>
        <p:blipFill>
          <a:blip r:embed="rId2"/>
          <a:stretch/>
        </p:blipFill>
        <p:spPr>
          <a:xfrm>
            <a:off x="4038480" y="457200"/>
            <a:ext cx="2590920" cy="2987640"/>
          </a:xfrm>
          <a:prstGeom prst="rect">
            <a:avLst/>
          </a:prstGeom>
          <a:ln w="0">
            <a:noFill/>
          </a:ln>
        </p:spPr>
      </p:pic>
      <p:sp>
        <p:nvSpPr>
          <p:cNvPr id="94" name=""/>
          <p:cNvSpPr/>
          <p:nvPr/>
        </p:nvSpPr>
        <p:spPr>
          <a:xfrm>
            <a:off x="7162920" y="21337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Рузина Кари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099c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066320"/>
            <a:ext cx="3657600" cy="53341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400" spc="-1" strike="noStrike">
                <a:solidFill>
                  <a:srgbClr val="000000"/>
                </a:solidFill>
                <a:latin typeface="Arial"/>
              </a:rPr>
              <a:t>Снежинк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нежинка легкая лети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рит, несется ввыс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нас вдруг солнце засвети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скроется во мглу, как рыс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жу я у окна, смотрю на снежинк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на красива и прекрас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 легкая пушинк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етит</a:t>
            </a:r>
            <a:r>
              <a:rPr b="0" lang="en" sz="1400" spc="-1" strike="noStrike">
                <a:solidFill>
                  <a:srgbClr val="000000"/>
                </a:solidFill>
                <a:latin typeface="Arial"/>
              </a:rPr>
              <a:t>, </a:t>
            </a:r>
            <a:r>
              <a:rPr b="0" lang="ru-RU" sz="1400" spc="-1" strike="noStrike">
                <a:solidFill>
                  <a:srgbClr val="000000"/>
                </a:solidFill>
                <a:latin typeface="Arial"/>
              </a:rPr>
              <a:t>блестит и не боитс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едь этой светлою зимо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на летит к себе домо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000000"/>
                </a:solidFill>
                <a:latin typeface="Arial"/>
              </a:rPr>
              <a:t>               </a:t>
            </a:r>
            <a:r>
              <a:rPr b="1" lang="en" sz="1400" spc="-1" strike="noStrike">
                <a:solidFill>
                  <a:srgbClr val="000000"/>
                </a:solidFill>
                <a:latin typeface="Arial"/>
              </a:rPr>
              <a: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имой природа замерзае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ревья все покрыты льдо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будет солнце, все растае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ступит жизнь круго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дет капель, пойдут ручь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будут течь везде он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верята кружатся круго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я люблю свой лес и дом.</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96" name=""/>
          <p:cNvSpPr/>
          <p:nvPr/>
        </p:nvSpPr>
        <p:spPr>
          <a:xfrm>
            <a:off x="838080" y="30492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Сальников Спартак</a:t>
            </a:r>
            <a:endParaRPr b="0" lang="en-US" sz="1600" spc="-1" strike="noStrike">
              <a:solidFill>
                <a:srgbClr val="000000"/>
              </a:solidFill>
              <a:latin typeface="Arial"/>
            </a:endParaRPr>
          </a:p>
        </p:txBody>
      </p:sp>
      <p:sp>
        <p:nvSpPr>
          <p:cNvPr id="97" name=""/>
          <p:cNvSpPr/>
          <p:nvPr/>
        </p:nvSpPr>
        <p:spPr>
          <a:xfrm>
            <a:off x="4495680" y="380880"/>
            <a:ext cx="3886200" cy="42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400" spc="-1" strike="noStrike">
                <a:solidFill>
                  <a:srgbClr val="000000"/>
                </a:solidFill>
                <a:latin typeface="Arial"/>
              </a:rPr>
              <a:t>Ле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ихо-тихо лес шум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лышно, как ручей жур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далеке пароход гуд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 веселый и задорны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яц по полю беж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ядом с лесом, на полянк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ая пчел жужж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Зимний д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треннее солнце светит мне в ок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ошла к окошку я , а там белым бел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асота такая, радостно взгляну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стою смотрю я, не могу засну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негири на ветках прыгают, пою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достно и весело все зи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гости жду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98" name=""/>
          <p:cNvSpPr/>
          <p:nvPr/>
        </p:nvSpPr>
        <p:spPr>
          <a:xfrm>
            <a:off x="4952880" y="5486400"/>
            <a:ext cx="3048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онова Мар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4e4e4"/>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685440"/>
            <a:ext cx="8229600" cy="525780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алодар</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400" spc="-1" strike="noStrike">
                <a:solidFill>
                  <a:srgbClr val="000000"/>
                </a:solidFill>
                <a:latin typeface="Arial"/>
              </a:rPr>
              <a:t>Взрыв адронного коллайдера привел к образованию черной дыры на планете Земля. Многие люди улетели на Марс и Венеру, многие погибли, а некоторые стали мутант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се это было еще в те времена, когда солнце было красным… После взрыва на Земле оказалось несколько сотен мутантов и их предводитель Перун, появившийся из огня и пепла. Мутанты были жаро и холодоустойчивы и не нуждались в воздухе. У них были жесткие нравы, и они очень любили убивать людей, прилетавших к ним на переговоры. Коалиция межпланетного человечества выбрала Салодара—сильного и храброго воина с серьезными намерениями уничтожить Перуна и его кровожадную банд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чью Салодар высадился на Землю и пошел к жилищу Перуна—Злобной Горе. Шел он двенадцать дней и ночей подряд, и , наконец, увидел логово врага. Задача Салодара состояла в убийстве Перуна и уничтожении Земли. Но пробраться внутрь жилища было очень сложно, вокруг Горы сновали мутант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алодар пробрался внутрь и остался незамеченным, но Перун уже знал о его приближении и о то, что если его испугается самый храбрый воин, то он станет бессмертны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алодар зашел в комнату и увидел дракона, но не испугался, а даже осмелел, подошел к дракону и ударил его сильным кулаком в сердце. Тогда дракон превратился в огромного слона, но герой отрубил ему хобот. Из слона Перун превратился во льва, но Салодар свернул ему шею, лев превратился в крокодила, потом в мангуста, ужа, мышь и, наконец, совсем исчез, но на шум сбежались мутанты. Тогда Салодар завалил</a:t>
            </a:r>
            <a:r>
              <a:rPr b="0" lang="en" sz="1400" spc="-1" strike="noStrike">
                <a:solidFill>
                  <a:srgbClr val="000000"/>
                </a:solidFill>
                <a:latin typeface="Arial"/>
              </a:rPr>
              <a:t> </a:t>
            </a:r>
            <a:r>
              <a:rPr b="0" lang="ru-RU" sz="1400" spc="-1" strike="noStrike">
                <a:solidFill>
                  <a:srgbClr val="000000"/>
                </a:solidFill>
                <a:latin typeface="Arial"/>
              </a:rPr>
              <a:t>вход камнями. Мутанты пытались пробиться, но не смогли. Тогда герой установил бомбу и начал ждать космолета. Космолет прилетел и Салодар сел внутрь. Нажав заветную кнопку, взорвав Землю,         Салодар улетел. Дома он получил награду от межпланетной коалиции человечества, а планета Земля больше не существовал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pic>
        <p:nvPicPr>
          <p:cNvPr id="100" name="" descr=""/>
          <p:cNvPicPr/>
          <p:nvPr/>
        </p:nvPicPr>
        <p:blipFill>
          <a:blip r:embed="rId1"/>
          <a:stretch/>
        </p:blipFill>
        <p:spPr>
          <a:xfrm>
            <a:off x="6781680" y="5388120"/>
            <a:ext cx="1752840" cy="1469880"/>
          </a:xfrm>
          <a:prstGeom prst="rect">
            <a:avLst/>
          </a:prstGeom>
          <a:ln w="0">
            <a:noFill/>
          </a:ln>
        </p:spPr>
      </p:pic>
      <p:sp>
        <p:nvSpPr>
          <p:cNvPr id="101" name=""/>
          <p:cNvSpPr/>
          <p:nvPr/>
        </p:nvSpPr>
        <p:spPr>
          <a:xfrm>
            <a:off x="5486400" y="380880"/>
            <a:ext cx="2895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амышанов Анто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75"/>
            </a:gs>
            <a:gs pos="100000">
              <a:srgbClr val="cc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80520"/>
            <a:ext cx="3429000" cy="574524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Море</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оре… Синий цвет вдали,</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етер подгоняет в море корабли.</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ни глянь, струится светлая лазурь.</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вет везде ложится и не видно бурь.</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 краблем струится синяя струя,</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тихонько злится море на меня.</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Весна</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лкий дождь за окном,</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ёрно-белое кругом.</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ёрно-белые деревья</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ловно выкрашены пастелью.</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вот солнце уже сияет,</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 весна пришла в наш дом,</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ё расцветает кругом.</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ивный запах раздаётся,</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душе моей поётся.</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т до лета недалече,</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сяц май сейчас уж нынче.</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шумели небеса,</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шумели древеса,</a:t>
            </a:r>
            <a:br>
              <a:rPr sz="1400"/>
            </a:br>
            <a:r>
              <a:rPr b="0" lang="ru-RU" sz="1400" spc="-1" strike="noStrike">
                <a:solidFill>
                  <a:srgbClr val="000000"/>
                </a:solidFill>
                <a:latin typeface="Arial"/>
              </a:rPr>
              <a:t>Вот уж первая роса,</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ивная пора– весна.</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103" name=""/>
          <p:cNvSpPr/>
          <p:nvPr/>
        </p:nvSpPr>
        <p:spPr>
          <a:xfrm>
            <a:off x="4572000" y="3429000"/>
            <a:ext cx="3962520" cy="31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елоснежные шапки г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неются вдал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 хочется, как хочет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сть на корабл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елых-белых обла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лететь в страну любв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ветлых, светлых теплых сн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вдруг исполнятся он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друг кто-нибудь, вдруг кто-нибуд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арит мне билет на обла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елоснежные шапки г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неются вдал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3886200" y="914400"/>
            <a:ext cx="3505320" cy="22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лышится шум водопа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утешественник едет впере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т уж Канада! Кана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улко гудит парохо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вот он уж в жаркой пустын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отсюда он рвется дом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корей же, скорей же в Росси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край подмосковный родн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105" name=""/>
          <p:cNvSpPr/>
          <p:nvPr/>
        </p:nvSpPr>
        <p:spPr>
          <a:xfrm>
            <a:off x="6477120" y="380880"/>
            <a:ext cx="228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стромогильский Аркад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1b591"/>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876560" y="609480"/>
            <a:ext cx="3809880" cy="551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ет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смотрю из окн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поминаю лет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убая рек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терялась где-т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 окном кружит кра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менные со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лето ем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арило но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рываю глаз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ова те же краск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их небес бирюз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ревенской сказк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 зеленым листом</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емляничек капл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берез хоровод</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олосатых платья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pic>
        <p:nvPicPr>
          <p:cNvPr id="107" name="" descr=""/>
          <p:cNvPicPr/>
          <p:nvPr/>
        </p:nvPicPr>
        <p:blipFill>
          <a:blip r:embed="rId1"/>
          <a:stretch/>
        </p:blipFill>
        <p:spPr>
          <a:xfrm>
            <a:off x="609480" y="1828800"/>
            <a:ext cx="3581640" cy="30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46"/>
            </a:gs>
            <a:gs pos="50000">
              <a:srgbClr val="ffff99"/>
            </a:gs>
            <a:gs pos="100000">
              <a:srgbClr val="75754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456840"/>
            <a:ext cx="8229600" cy="472428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ликий Илья и Даждьбог</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древние времена славяне верили в богов и почитали их. Это было тогда, когда Ярило светил очень ярко. Люди очень почитали Ярило. Он был для них самый важный бог. Ярило давал урожай, всё оживало после зимы. Но вот наступило время Даждьбога. В этот же день пошёл сильный ливень, и люди не стали возносить ему подарки, жертвы. Он на них очень разозлился и стал пускать громы и молнии, и град. Весь урожай погиб. Люди боролись с этим два месяца, восхваляли его, но ничего не вышло. Тогда великий воин Илья захотел это остановить. Ему дали самый дорогой перстень в мире: он был украшен золотом, серебром и алмазами. И Илья отправился на небо, ему предстоял дальний путь: пойти в страну Гренландию, забраться по огромному стволу на небо, победить стражника и отдать перстень Даждьбог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еликий Илья пошёл в Гренландию, он шёл туда пятнадцать дней. Там был огромнейший зелёный толстый ствол, по которому надо было забраться. Илья лез очень долго и наконец добрался. Наверху ему встретился большой стражник. Илья начал с ним говорить и заговорил настолько, что тот упал в обморок. Его надо было победить умом. Вдалеке Илья увидел четыре трона, на них восседали Ярило, Хорс, Даждьбог и Сварог, они были очень похожи, но один из них был грустный и сероватый. Илья понял, что это и есть Даждьбог. Он вознёс ему перстень, и он сразу обрадовался. В этот же миг на земле засветило солнце, появилась радуга, стало тепло. С этого момента люди стали восхвалять Даждьбога. Урожай вырос уже на второй день. Когда Илья вернулся, его все обняли и поблагодарили за огромную услугу. Даждьбог стал одним из важнейших богов у славян.</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109" name=""/>
          <p:cNvSpPr/>
          <p:nvPr/>
        </p:nvSpPr>
        <p:spPr>
          <a:xfrm>
            <a:off x="5791320" y="5562720"/>
            <a:ext cx="2819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Сальников Спарта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100000">
              <a:srgbClr val="3399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914040"/>
            <a:ext cx="3886200" cy="5211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важаемые читател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Мы приглашаем вас в удивительный мир наших литературных произведени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В тихий зимний вечер они согреют вашу душу, наполнят ее своим теплом и светом.</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Мир сказочных грез и фантазий добавит множество ярких красок вашему настроению.</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 новых встреч!</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45" name=""/>
          <p:cNvSpPr/>
          <p:nvPr/>
        </p:nvSpPr>
        <p:spPr>
          <a:xfrm>
            <a:off x="4572000" y="4267080"/>
            <a:ext cx="3809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втор иде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итель русского языка и литератур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зурова Е.А</a:t>
            </a:r>
            <a:r>
              <a:rPr b="1"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лавный редактор</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ромогильский Аркад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ворческая групп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ащиеся 6 В класса</a:t>
            </a:r>
            <a:endParaRPr b="0" lang="en-US" sz="1600" spc="-1" strike="noStrike">
              <a:solidFill>
                <a:srgbClr val="000000"/>
              </a:solidFill>
              <a:latin typeface="Arial"/>
            </a:endParaRPr>
          </a:p>
        </p:txBody>
      </p:sp>
      <p:pic>
        <p:nvPicPr>
          <p:cNvPr id="46" name="" descr=""/>
          <p:cNvPicPr/>
          <p:nvPr/>
        </p:nvPicPr>
        <p:blipFill>
          <a:blip r:embed="rId1"/>
          <a:stretch/>
        </p:blipFill>
        <p:spPr>
          <a:xfrm>
            <a:off x="105732360" y="106980120"/>
            <a:ext cx="9144000" cy="6335640"/>
          </a:xfrm>
          <a:prstGeom prst="rect">
            <a:avLst/>
          </a:prstGeom>
          <a:ln w="0">
            <a:noFill/>
          </a:ln>
        </p:spPr>
      </p:pic>
      <p:pic>
        <p:nvPicPr>
          <p:cNvPr id="47" name="" descr=""/>
          <p:cNvPicPr/>
          <p:nvPr/>
        </p:nvPicPr>
        <p:blipFill>
          <a:blip r:embed="rId2"/>
          <a:stretch/>
        </p:blipFill>
        <p:spPr>
          <a:xfrm>
            <a:off x="105884640" y="107132400"/>
            <a:ext cx="9144000" cy="6335640"/>
          </a:xfrm>
          <a:prstGeom prst="rect">
            <a:avLst/>
          </a:prstGeom>
          <a:ln w="0">
            <a:noFill/>
          </a:ln>
        </p:spPr>
      </p:pic>
      <p:pic>
        <p:nvPicPr>
          <p:cNvPr id="48" name="" descr=""/>
          <p:cNvPicPr/>
          <p:nvPr/>
        </p:nvPicPr>
        <p:blipFill>
          <a:blip r:embed="rId3"/>
          <a:stretch/>
        </p:blipFill>
        <p:spPr>
          <a:xfrm>
            <a:off x="106036920" y="107284680"/>
            <a:ext cx="9144000" cy="6336000"/>
          </a:xfrm>
          <a:prstGeom prst="rect">
            <a:avLst/>
          </a:prstGeom>
          <a:ln w="0">
            <a:noFill/>
          </a:ln>
        </p:spPr>
      </p:pic>
      <p:pic>
        <p:nvPicPr>
          <p:cNvPr id="49" name="" descr=""/>
          <p:cNvPicPr/>
          <p:nvPr/>
        </p:nvPicPr>
        <p:blipFill>
          <a:blip r:embed="rId4"/>
          <a:stretch/>
        </p:blipFill>
        <p:spPr>
          <a:xfrm>
            <a:off x="106189560" y="107437320"/>
            <a:ext cx="9144000" cy="6335640"/>
          </a:xfrm>
          <a:prstGeom prst="rect">
            <a:avLst/>
          </a:prstGeom>
          <a:ln w="0">
            <a:noFill/>
          </a:ln>
        </p:spPr>
      </p:pic>
      <p:pic>
        <p:nvPicPr>
          <p:cNvPr id="50" name="" descr=""/>
          <p:cNvPicPr/>
          <p:nvPr/>
        </p:nvPicPr>
        <p:blipFill>
          <a:blip r:embed="rId5"/>
          <a:stretch/>
        </p:blipFill>
        <p:spPr>
          <a:xfrm>
            <a:off x="106341840" y="107589600"/>
            <a:ext cx="9144000" cy="6335640"/>
          </a:xfrm>
          <a:prstGeom prst="rect">
            <a:avLst/>
          </a:prstGeom>
          <a:ln w="0">
            <a:noFill/>
          </a:ln>
        </p:spPr>
      </p:pic>
      <p:pic>
        <p:nvPicPr>
          <p:cNvPr id="51" name="" descr=""/>
          <p:cNvPicPr/>
          <p:nvPr/>
        </p:nvPicPr>
        <p:blipFill>
          <a:blip r:embed="rId6"/>
          <a:stretch/>
        </p:blipFill>
        <p:spPr>
          <a:xfrm>
            <a:off x="5105520" y="380880"/>
            <a:ext cx="2752560" cy="353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ab8b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990360"/>
            <a:ext cx="3657600" cy="51354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Жил-был Кощ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л-был Кощ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было у него много вещ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Волги» до «Феррар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почки и аквариу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адьба и старый сара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думал он, что это ра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м Кикимора приходи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щея к выводу приводи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а жениться, а то вес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роюсь тиною я здес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шёл в агентство наш Кощ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говорит: «Давай жену ты мне ищ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покрасивей, постройн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готовила, да повкусн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была лучше Дэмми Мур!</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 соединил нас сам Амур!»</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ошо, но вот пот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ложи нам миллион.</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ва наша це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не изменится он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ли Кощеюшке жен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не красавицу, и не уродин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щей на нее разорил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даже тапочек лишил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pic>
        <p:nvPicPr>
          <p:cNvPr id="111" name="" descr=""/>
          <p:cNvPicPr/>
          <p:nvPr/>
        </p:nvPicPr>
        <p:blipFill>
          <a:blip r:embed="rId1"/>
          <a:stretch/>
        </p:blipFill>
        <p:spPr>
          <a:xfrm>
            <a:off x="4800600" y="1752480"/>
            <a:ext cx="3429000" cy="3230640"/>
          </a:xfrm>
          <a:prstGeom prst="rect">
            <a:avLst/>
          </a:prstGeom>
          <a:ln w="0">
            <a:noFill/>
          </a:ln>
        </p:spPr>
      </p:pic>
      <p:sp>
        <p:nvSpPr>
          <p:cNvPr id="112" name=""/>
          <p:cNvSpPr/>
          <p:nvPr/>
        </p:nvSpPr>
        <p:spPr>
          <a:xfrm>
            <a:off x="4952880" y="685800"/>
            <a:ext cx="3505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Джинчарадзе Нон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6840" y="1676520"/>
            <a:ext cx="2438280" cy="4449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  *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агают солдат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дорогам войн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 тяжки их будни,</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евожны их сн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верьте, защитники</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усской земли</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аш подвиг и смелость</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м очень нужн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усть дети смеются,</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усть солнце – наш друг!</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усть мирное неб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радость вокруг!</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114" name=""/>
          <p:cNvSpPr/>
          <p:nvPr/>
        </p:nvSpPr>
        <p:spPr>
          <a:xfrm>
            <a:off x="304920" y="45720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Шавкунов Алексей</a:t>
            </a:r>
            <a:endParaRPr b="0" lang="en-US" sz="1600" spc="-1" strike="noStrike">
              <a:solidFill>
                <a:srgbClr val="000000"/>
              </a:solidFill>
              <a:latin typeface="Arial"/>
            </a:endParaRPr>
          </a:p>
        </p:txBody>
      </p:sp>
      <p:pic>
        <p:nvPicPr>
          <p:cNvPr id="115" name="" descr=""/>
          <p:cNvPicPr/>
          <p:nvPr/>
        </p:nvPicPr>
        <p:blipFill>
          <a:blip r:embed="rId1"/>
          <a:stretch/>
        </p:blipFill>
        <p:spPr>
          <a:xfrm>
            <a:off x="2895480" y="990720"/>
            <a:ext cx="2860920" cy="5486400"/>
          </a:xfrm>
          <a:prstGeom prst="rect">
            <a:avLst/>
          </a:prstGeom>
          <a:ln w="0">
            <a:noFill/>
          </a:ln>
        </p:spPr>
      </p:pic>
      <p:sp>
        <p:nvSpPr>
          <p:cNvPr id="116" name=""/>
          <p:cNvSpPr/>
          <p:nvPr/>
        </p:nvSpPr>
        <p:spPr>
          <a:xfrm>
            <a:off x="5867280" y="609480"/>
            <a:ext cx="2925720" cy="38102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400" spc="-1" strike="noStrike">
                <a:solidFill>
                  <a:srgbClr val="000000"/>
                </a:solidFill>
                <a:latin typeface="Arial"/>
              </a:rPr>
              <a:t>Солда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шел на войну солда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н был всем родной, как бра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 не вернулся с войны гер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кинул мир, не пришел дом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 мать его ждет, зов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н вольный, как ветер, идет впере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 нет на пути теперь прегра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н тверд как ска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Наш солдат.</a:t>
            </a:r>
            <a:endParaRPr b="0" lang="en-US" sz="1400" spc="-1" strike="noStrike">
              <a:solidFill>
                <a:srgbClr val="000000"/>
              </a:solidFill>
              <a:latin typeface="Arial"/>
            </a:endParaRPr>
          </a:p>
        </p:txBody>
      </p:sp>
      <p:sp>
        <p:nvSpPr>
          <p:cNvPr id="117" name=""/>
          <p:cNvSpPr/>
          <p:nvPr/>
        </p:nvSpPr>
        <p:spPr>
          <a:xfrm>
            <a:off x="6019920" y="52578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ириллова Али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75"/>
            </a:gs>
            <a:gs pos="100000">
              <a:srgbClr val="ccffff"/>
            </a:gs>
          </a:gsLst>
          <a:lin ang="5400000"/>
        </a:gradFill>
      </p:bgPr>
    </p:bg>
    <p:spTree>
      <p:nvGrpSpPr>
        <p:cNvPr id="1" name=""/>
        <p:cNvGrpSpPr/>
        <p:nvPr/>
      </p:nvGrpSpPr>
      <p:grpSpPr>
        <a:xfrm>
          <a:off x="0" y="0"/>
          <a:ext cx="0" cy="0"/>
          <a:chOff x="0" y="0"/>
          <a:chExt cx="0" cy="0"/>
        </a:xfrm>
      </p:grpSpPr>
      <p:sp>
        <p:nvSpPr>
          <p:cNvPr id="118" name=""/>
          <p:cNvSpPr/>
          <p:nvPr/>
        </p:nvSpPr>
        <p:spPr>
          <a:xfrm>
            <a:off x="533520" y="380880"/>
            <a:ext cx="3124080" cy="62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ренд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л да был Беренд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миллиона люд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ошо ж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уж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 банк деньги полож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элторы пришл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гроб жизни ему должн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чего у них н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 сне слышат стук мон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рендей их рассуд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м он дело объясн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казал, чтобы он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вчерашнего ут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сегодняшнего дн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му копейку принесл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же издал он ука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оторому копейк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ребро, хоть золотейк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речь пуще своих гла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потерю, за отдач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другую неудач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елел из дома выгн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ё забрать и сильно рыкну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том ещё привыкну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день так обиж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тогда пошла молв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 копейку надо ночь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встать была по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3809880" y="609480"/>
            <a:ext cx="3353040" cy="5759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чтоб кто и не увиде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ь себе, да под подушк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риэлторы пошл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царю-батюшке пришл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если ему копейк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олотую телогрейк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рендей дал им ука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вязи с которым в тот же ча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няли их из дом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али бочки с их посол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ирали их «Тойот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гров, кошек, бегемот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кодилов и слон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жирафов полный р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ь молодость сво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ого я не прош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на месте Беренде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бы так же поступ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во пить не предлагал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ёду мало наливал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тям много не даю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усло подаю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рендей же долго ж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 жил и не туж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ё денег в банк влож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померно он зажил</a:t>
            </a:r>
            <a:r>
              <a:rPr b="0" lang="ru-RU" sz="1200" spc="-1" strike="noStrike">
                <a:solidFill>
                  <a:srgbClr val="0066ff"/>
                </a:solidFill>
                <a:latin typeface="Arial"/>
              </a:rPr>
              <a:t>!</a:t>
            </a:r>
            <a:endParaRPr b="0" lang="en-US" sz="1200" spc="-1" strike="noStrike">
              <a:solidFill>
                <a:srgbClr val="000000"/>
              </a:solidFill>
              <a:latin typeface="Arial"/>
            </a:endParaRPr>
          </a:p>
        </p:txBody>
      </p:sp>
      <p:sp>
        <p:nvSpPr>
          <p:cNvPr id="120" name=""/>
          <p:cNvSpPr/>
          <p:nvPr/>
        </p:nvSpPr>
        <p:spPr>
          <a:xfrm>
            <a:off x="6477120" y="4572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амышанов Анто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0c073"/>
            </a:gs>
          </a:gsLst>
          <a:path path="rect">
            <a:fillToRect l="50000" t="50000" r="50000" b="50000"/>
          </a:path>
        </a:gradFill>
      </p:bgPr>
    </p:bg>
    <p:spTree>
      <p:nvGrpSpPr>
        <p:cNvPr id="1" name=""/>
        <p:cNvGrpSpPr/>
        <p:nvPr/>
      </p:nvGrpSpPr>
      <p:grpSpPr>
        <a:xfrm>
          <a:off x="0" y="0"/>
          <a:ext cx="0" cy="0"/>
          <a:chOff x="0" y="0"/>
          <a:chExt cx="0" cy="0"/>
        </a:xfrm>
      </p:grpSpPr>
      <p:sp>
        <p:nvSpPr>
          <p:cNvPr id="121" name=""/>
          <p:cNvSpPr/>
          <p:nvPr/>
        </p:nvSpPr>
        <p:spPr>
          <a:xfrm>
            <a:off x="609480" y="533520"/>
            <a:ext cx="3124440" cy="51814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евочка хотела улете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небес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 ей твердил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е верь ты в чудес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на, раскинув ру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друг зажглась как звезд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 исчезла навсегд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Лишь небо и земл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ели ее в последний раз.</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пал первый сне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нежинки падают во св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се кругом белым  - бел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се у всех хорош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вый год! Новый го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сем подарки нам нес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ченья и конф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Елку новогоднюю и сне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Чая и метел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общем с праздником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с всех!</a:t>
            </a:r>
            <a:endParaRPr b="0" lang="en-US" sz="1400" spc="-1" strike="noStrike">
              <a:solidFill>
                <a:srgbClr val="000000"/>
              </a:solidFill>
              <a:latin typeface="Arial"/>
            </a:endParaRPr>
          </a:p>
        </p:txBody>
      </p:sp>
      <p:sp>
        <p:nvSpPr>
          <p:cNvPr id="122" name=""/>
          <p:cNvSpPr/>
          <p:nvPr/>
        </p:nvSpPr>
        <p:spPr>
          <a:xfrm>
            <a:off x="5638680" y="1447920"/>
            <a:ext cx="2340000" cy="1224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ru-RU" sz="1600" spc="-1" strike="noStrike">
                <a:solidFill>
                  <a:srgbClr val="000000"/>
                </a:solidFill>
                <a:latin typeface="Times New Roman"/>
              </a:rPr>
              <a:t>Бабочк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нятся бабочки цветны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нится радуга во сн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е хватает солнца, свет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Я скучаю по весне.</a:t>
            </a:r>
            <a:endParaRPr b="0" lang="en-US" sz="1400" spc="-1" strike="noStrike">
              <a:solidFill>
                <a:srgbClr val="000000"/>
              </a:solidFill>
              <a:latin typeface="Arial"/>
            </a:endParaRPr>
          </a:p>
        </p:txBody>
      </p:sp>
      <p:pic>
        <p:nvPicPr>
          <p:cNvPr id="123" name="" descr=""/>
          <p:cNvPicPr/>
          <p:nvPr/>
        </p:nvPicPr>
        <p:blipFill>
          <a:blip r:embed="rId1">
            <a:lum bright="6000"/>
          </a:blip>
          <a:stretch/>
        </p:blipFill>
        <p:spPr>
          <a:xfrm>
            <a:off x="4495680" y="2819520"/>
            <a:ext cx="3814920" cy="3492360"/>
          </a:xfrm>
          <a:prstGeom prst="rect">
            <a:avLst/>
          </a:prstGeom>
          <a:ln w="0">
            <a:noFill/>
          </a:ln>
        </p:spPr>
      </p:pic>
      <p:sp>
        <p:nvSpPr>
          <p:cNvPr id="124" name=""/>
          <p:cNvSpPr/>
          <p:nvPr/>
        </p:nvSpPr>
        <p:spPr>
          <a:xfrm>
            <a:off x="6095880" y="4572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Андреева Софья</a:t>
            </a:r>
            <a:endParaRPr b="0" lang="en-US" sz="1600" spc="-1" strike="noStrike">
              <a:solidFill>
                <a:srgbClr val="000000"/>
              </a:solidFill>
              <a:latin typeface="Arial"/>
            </a:endParaRPr>
          </a:p>
        </p:txBody>
      </p:sp>
      <p:sp>
        <p:nvSpPr>
          <p:cNvPr id="125" name=""/>
          <p:cNvSpPr/>
          <p:nvPr/>
        </p:nvSpPr>
        <p:spPr>
          <a:xfrm>
            <a:off x="685800" y="586728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Глаголева Анастас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457200"/>
            <a:ext cx="8534160" cy="51055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тория о встрече героев сказок Шарля Перр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днажды шёл по лесу Мальчик-с-пальчик и тут набрёл на странный дворец. Он и не знал, что в этом замке живёт злой Людоед. Мальчику стало интересно, кто же там живёт, и он постучал в дверь.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то там</a:t>
            </a:r>
            <a:r>
              <a:rPr b="0" lang="en-US" sz="1400" spc="-1" strike="noStrike">
                <a:solidFill>
                  <a:srgbClr val="000000"/>
                </a:solidFill>
                <a:latin typeface="Times New Roman"/>
              </a:rPr>
              <a:t>?</a:t>
            </a:r>
            <a:r>
              <a:rPr b="0" lang="ru-RU" sz="1400" spc="-1" strike="noStrike">
                <a:solidFill>
                  <a:srgbClr val="000000"/>
                </a:solidFill>
                <a:latin typeface="Times New Roman"/>
              </a:rPr>
              <a:t>»- воскликнул громовой голос. Не дождавшись ответа, Людоед открыл дверь. Он радушно ввёл Мальчика-с-пальчика внутрь и предложил ему сесть за стол и поесть. На столе Людоеда стояло много яств: и телёнок, 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 только Мальчик-с-пальчик принялся за еду, как под ним провалился пол, он свалился в камеру и потерял созна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Мальчик открыл глаза и увидел вокруг знакомые лица: Кот в сапогах, Золушка, Синяя Борода и Красная Шапочка. Мальчик-с-пальчик попросил каждого, кто здесь очутился, рассказать свои истории. Выяснилось, что все они попались в одну и ту же ловушку. Друзья стали думать, как сбежать. У Кота в сапогах созрела прекрасная мысль. Он когтём стал ковырять в замке. Замок поддался. Герои выбежали из камеры и стали искать путь наверх.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А Людоед тем временем схватил нож и пошёл вниз, в камеру. Но никого не увидел там. Тут Синяя борода достал саблю и кинулся на Людоеда. Завязался бой. Кот в сапогах и Синяя борода напирали на Людоеда, а тем временем сзади подошёл Мальчик-с-пальчик. Он схватил мешок и надел его на голову Людоед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Злодей был побеждён. Людоеда положили в камеру и заперли там. Герои сбежали из замка и с тех пор жили вместе.</a:t>
            </a:r>
            <a:endParaRPr b="0" lang="en-US" sz="1400" spc="-1" strike="noStrike">
              <a:solidFill>
                <a:srgbClr val="000000"/>
              </a:solidFill>
              <a:latin typeface="Arial"/>
            </a:endParaRPr>
          </a:p>
        </p:txBody>
      </p:sp>
      <p:pic>
        <p:nvPicPr>
          <p:cNvPr id="127" name="" descr=""/>
          <p:cNvPicPr/>
          <p:nvPr/>
        </p:nvPicPr>
        <p:blipFill>
          <a:blip r:embed="rId2"/>
          <a:stretch/>
        </p:blipFill>
        <p:spPr>
          <a:xfrm>
            <a:off x="685800" y="5029200"/>
            <a:ext cx="3429000" cy="1593720"/>
          </a:xfrm>
          <a:prstGeom prst="rect">
            <a:avLst/>
          </a:prstGeom>
          <a:ln w="0">
            <a:noFill/>
          </a:ln>
        </p:spPr>
      </p:pic>
      <p:sp>
        <p:nvSpPr>
          <p:cNvPr id="128" name=""/>
          <p:cNvSpPr/>
          <p:nvPr/>
        </p:nvSpPr>
        <p:spPr>
          <a:xfrm>
            <a:off x="5562720" y="57913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Максимов Пет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52280" y="533520"/>
            <a:ext cx="8763120" cy="5790960"/>
          </a:xfrm>
          <a:prstGeom prst="rect">
            <a:avLst/>
          </a:prstGeom>
          <a:noFill/>
          <a:ln w="0">
            <a:noFill/>
          </a:ln>
        </p:spPr>
        <p:txBody>
          <a:bodyPr lIns="90000" rIns="90000" tIns="46800" bIns="46800" anchor="t">
            <a:normAutofit fontScale="98000"/>
          </a:bodyPr>
          <a:p>
            <a:pPr marL="3358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Жила —была девочка</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endParaRPr b="0" lang="en-US" sz="10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0" lang="ru-RU" sz="1200" spc="-1" strike="noStrike">
                <a:solidFill>
                  <a:srgbClr val="000000"/>
                </a:solidFill>
                <a:latin typeface="Arial"/>
              </a:rPr>
              <a:t>Жила-была девочка .Не красавица, и не уродина. Звали ее Аня. Училась она в 7 классе. Однажды у нее выпала ресница.</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en" sz="1200" spc="-1" strike="noStrike">
                <a:solidFill>
                  <a:srgbClr val="000000"/>
                </a:solidFill>
                <a:latin typeface="Arial"/>
              </a:rPr>
              <a:t>-</a:t>
            </a:r>
            <a:r>
              <a:rPr b="0" lang="ru-RU" sz="1200" spc="-1" strike="noStrike">
                <a:solidFill>
                  <a:srgbClr val="000000"/>
                </a:solidFill>
                <a:latin typeface="Arial"/>
              </a:rPr>
              <a:t>Анюта если очень захочешь, любое желание исполнится!- как -то сказала ей мама.</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en" sz="1200" spc="-1" strike="noStrike">
                <a:solidFill>
                  <a:srgbClr val="000000"/>
                </a:solidFill>
                <a:latin typeface="Arial"/>
              </a:rPr>
              <a:t>-</a:t>
            </a:r>
            <a:r>
              <a:rPr b="0" lang="ru-RU" sz="1200" spc="-1" strike="noStrike">
                <a:solidFill>
                  <a:srgbClr val="000000"/>
                </a:solidFill>
                <a:latin typeface="Arial"/>
              </a:rPr>
              <a:t>Если очень захочу, любое желание исполнится,- пролепетала Аня три раза.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Аня положила на указательный палец ресницу и прошептала:</a:t>
            </a:r>
            <a:r>
              <a:rPr b="0" lang="en" sz="1200" spc="-1" strike="noStrike">
                <a:solidFill>
                  <a:srgbClr val="000000"/>
                </a:solidFill>
                <a:latin typeface="Arial"/>
              </a:rPr>
              <a:t>”</a:t>
            </a:r>
            <a:r>
              <a:rPr b="0" lang="ru-RU" sz="1200" spc="-1" strike="noStrike">
                <a:solidFill>
                  <a:srgbClr val="000000"/>
                </a:solidFill>
                <a:latin typeface="Arial"/>
              </a:rPr>
              <a:t>Хочу стать самой красивой из нашей школы.</a:t>
            </a:r>
            <a:r>
              <a:rPr b="0" lang="en" sz="1200" spc="-1" strike="noStrike">
                <a:solidFill>
                  <a:srgbClr val="000000"/>
                </a:solidFill>
                <a:latin typeface="Arial"/>
              </a:rPr>
              <a:t>»</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Вскоре наступил вечер и Аня легла спать. На утро она проснулась очень бодрая. Встала с кровати сонно потянулась и собралась уже идти умываться и просто приросла к месту. Из зеркала на нее смотрела ослепительная красотка!</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ветло- русые локоны спускались чуть ниже плеч. Голубые глаза, вокруг которых были очень длинные ресницы , смотрели на нее. Малиновые пухлые губы были распахнуты, как будто красавица была чем -то испугана. Аня моргнула и охнула от испуга! Теперь из зеркала на нее  смотрела страшная Баба– Яга! Аня моргнула еще раз, но ничего не изменилось. Потом Аня заметила, что и ее комната изменилась. Комната была похожа на какой-то склеп с тиной и мхом! Аня выбежала на улицу, но там все было так же ужасно, а рядом с  избушкой на курьих ножках стояла ступа и метла. Вскоре к избушке подлетел дракон, а на нем сидел какой– то скелетик. Да это же Кощей Бессмертный!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вет, Баба- Ягоня!- прокричал скелет.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Здравствуй,– сказала уже не Аня, а Баба– Ягоня.</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Ой подожди. Мне тут Колобок по аське стучится, да стучится уже до полусмерти довел!</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Ага, я заметила.</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Поехали со мной в </a:t>
            </a:r>
            <a:r>
              <a:rPr b="0" lang="en" sz="1200" spc="-1" strike="noStrike">
                <a:solidFill>
                  <a:srgbClr val="000000"/>
                </a:solidFill>
                <a:latin typeface="Arial"/>
              </a:rPr>
              <a:t>“</a:t>
            </a:r>
            <a:r>
              <a:rPr b="0" lang="ru-RU" sz="1200" spc="-1" strike="noStrike">
                <a:solidFill>
                  <a:srgbClr val="000000"/>
                </a:solidFill>
                <a:latin typeface="Arial"/>
              </a:rPr>
              <a:t>Макдоналдс</a:t>
            </a:r>
            <a:r>
              <a:rPr b="0" lang="en" sz="1200" spc="-1" strike="noStrike">
                <a:solidFill>
                  <a:srgbClr val="000000"/>
                </a:solidFill>
                <a:latin typeface="Arial"/>
              </a:rPr>
              <a:t>”</a:t>
            </a:r>
            <a:r>
              <a:rPr b="0" lang="ru-RU" sz="1200" spc="-1" strike="noStrike">
                <a:solidFill>
                  <a:srgbClr val="000000"/>
                </a:solidFill>
                <a:latin typeface="Arial"/>
              </a:rPr>
              <a:t>!- сказал Кощей.</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Поехали,– и тут Кощей спрыгнул с дракона и пошел за ворота  дома.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Эй, костлявый, ты куда</a:t>
            </a:r>
            <a:r>
              <a:rPr b="0" lang="en" sz="1200" spc="-1" strike="noStrike">
                <a:solidFill>
                  <a:srgbClr val="000000"/>
                </a:solidFill>
                <a:latin typeface="Arial"/>
              </a:rPr>
              <a:t>?</a:t>
            </a:r>
            <a:r>
              <a:rPr b="0" lang="ru-RU" sz="1200" spc="-1" strike="noStrike">
                <a:solidFill>
                  <a:srgbClr val="000000"/>
                </a:solidFill>
                <a:latin typeface="Arial"/>
              </a:rPr>
              <a:t>- крикнула Баба– Ягоня.</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Да дракон это для виду, а так я на </a:t>
            </a:r>
            <a:r>
              <a:rPr b="0" lang="en" sz="1200" spc="-1" strike="noStrike">
                <a:solidFill>
                  <a:srgbClr val="000000"/>
                </a:solidFill>
                <a:latin typeface="Arial"/>
              </a:rPr>
              <a:t>“</a:t>
            </a:r>
            <a:r>
              <a:rPr b="0" lang="ru-RU" sz="1200" spc="-1" strike="noStrike">
                <a:solidFill>
                  <a:srgbClr val="000000"/>
                </a:solidFill>
                <a:latin typeface="Arial"/>
              </a:rPr>
              <a:t>Волге</a:t>
            </a:r>
            <a:r>
              <a:rPr b="0" lang="en" sz="1200" spc="-1" strike="noStrike">
                <a:solidFill>
                  <a:srgbClr val="000000"/>
                </a:solidFill>
                <a:latin typeface="Arial"/>
              </a:rPr>
              <a:t>” </a:t>
            </a:r>
            <a:r>
              <a:rPr b="0" lang="ru-RU" sz="1200" spc="-1" strike="noStrike">
                <a:solidFill>
                  <a:srgbClr val="000000"/>
                </a:solidFill>
                <a:latin typeface="Arial"/>
              </a:rPr>
              <a:t>езжу.</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Вскоре они доехали до </a:t>
            </a:r>
            <a:r>
              <a:rPr b="0" lang="en" sz="1200" spc="-1" strike="noStrike">
                <a:solidFill>
                  <a:srgbClr val="000000"/>
                </a:solidFill>
                <a:latin typeface="Arial"/>
              </a:rPr>
              <a:t>“</a:t>
            </a:r>
            <a:r>
              <a:rPr b="0" lang="ru-RU" sz="1200" spc="-1" strike="noStrike">
                <a:solidFill>
                  <a:srgbClr val="000000"/>
                </a:solidFill>
                <a:latin typeface="Arial"/>
              </a:rPr>
              <a:t>Макдоналдса</a:t>
            </a:r>
            <a:r>
              <a:rPr b="0" lang="en" sz="1200" spc="-1" strike="noStrike">
                <a:solidFill>
                  <a:srgbClr val="000000"/>
                </a:solidFill>
                <a:latin typeface="Arial"/>
              </a:rPr>
              <a:t>”.</a:t>
            </a:r>
            <a:r>
              <a:rPr b="0" lang="ru-RU" sz="1200" spc="-1" strike="noStrike">
                <a:solidFill>
                  <a:srgbClr val="000000"/>
                </a:solidFill>
                <a:latin typeface="Arial"/>
              </a:rPr>
              <a:t>Там стояла куча всякой нечисти: кикиморы, лешие, водяные, домовые и прочие страшил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щей заказал два Лягушкобургера и одну пачку Мышнагентсов.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Через несколько недель после их знакомства Кощей сказал:</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аба– Ягоня, я люблю тебя! Выходи за меня замуж!</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го ли думала Ягоня и потом ответила:</a:t>
            </a:r>
            <a:r>
              <a:rPr b="0" lang="en" sz="1200" spc="-1" strike="noStrike">
                <a:solidFill>
                  <a:srgbClr val="000000"/>
                </a:solidFill>
                <a:latin typeface="Arial"/>
              </a:rPr>
              <a:t> “</a:t>
            </a:r>
            <a:r>
              <a:rPr b="0" lang="ru-RU" sz="1200" spc="-1" strike="noStrike">
                <a:solidFill>
                  <a:srgbClr val="000000"/>
                </a:solidFill>
                <a:latin typeface="Arial"/>
              </a:rPr>
              <a:t>Да!</a:t>
            </a:r>
            <a:r>
              <a:rPr b="0" lang="en" sz="1200" spc="-1" strike="noStrike">
                <a:solidFill>
                  <a:srgbClr val="000000"/>
                </a:solidFill>
                <a:latin typeface="Arial"/>
              </a:rPr>
              <a:t>»</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        </a:t>
            </a:r>
            <a:r>
              <a:rPr b="0" lang="en" sz="1200" spc="-1" strike="noStrike">
                <a:solidFill>
                  <a:srgbClr val="000000"/>
                </a:solidFill>
                <a:latin typeface="Arial"/>
              </a:rPr>
              <a:t> </a:t>
            </a:r>
            <a:r>
              <a:rPr b="0" lang="ru-RU" sz="1200" spc="-1" strike="noStrike">
                <a:solidFill>
                  <a:srgbClr val="000000"/>
                </a:solidFill>
                <a:latin typeface="Arial"/>
              </a:rPr>
              <a:t>И жили они долго и счастливо.</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130" name=""/>
          <p:cNvSpPr/>
          <p:nvPr/>
        </p:nvSpPr>
        <p:spPr>
          <a:xfrm>
            <a:off x="5257800" y="6248520"/>
            <a:ext cx="342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Джинчарадзе Нон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5e"/>
            </a:gs>
            <a:gs pos="100000">
              <a:srgbClr val="ccffcc"/>
            </a:gs>
          </a:gsLst>
          <a:lin ang="5400000"/>
        </a:gradFill>
      </p:bgPr>
    </p:bg>
    <p:spTree>
      <p:nvGrpSpPr>
        <p:cNvPr id="1" name=""/>
        <p:cNvGrpSpPr/>
        <p:nvPr/>
      </p:nvGrpSpPr>
      <p:grpSpPr>
        <a:xfrm>
          <a:off x="0" y="0"/>
          <a:ext cx="0" cy="0"/>
          <a:chOff x="0" y="0"/>
          <a:chExt cx="0" cy="0"/>
        </a:xfrm>
      </p:grpSpPr>
      <p:sp>
        <p:nvSpPr>
          <p:cNvPr id="131" name=""/>
          <p:cNvSpPr/>
          <p:nvPr/>
        </p:nvSpPr>
        <p:spPr>
          <a:xfrm>
            <a:off x="304920" y="457200"/>
            <a:ext cx="2971800" cy="57592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Настроение природ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рода печалит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ждь идё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рода веселит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 солнце печё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рода весною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Так хорош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то плачет от радост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ша душ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 хочется прыг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м и скак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Только природе совс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е меш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Если получит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 нам повезё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То нас в друз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рода возьмёт</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Осен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от и осень наступи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 тепло по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 прогноз погод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м  мороз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е сулит пока.</a:t>
            </a:r>
            <a:endParaRPr b="0" lang="en-US" sz="1400" spc="-1" strike="noStrike">
              <a:solidFill>
                <a:srgbClr val="000000"/>
              </a:solidFill>
              <a:latin typeface="Arial"/>
            </a:endParaRPr>
          </a:p>
        </p:txBody>
      </p:sp>
      <p:sp>
        <p:nvSpPr>
          <p:cNvPr id="132" name=""/>
          <p:cNvSpPr/>
          <p:nvPr/>
        </p:nvSpPr>
        <p:spPr>
          <a:xfrm>
            <a:off x="3809880" y="914400"/>
            <a:ext cx="2916360" cy="2195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Arial"/>
              </a:rPr>
              <a:t>Декабр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 улице декабр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олшебная по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Хоровод ведут снежин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 нам гулять по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Хватай скорее сан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адись на ни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ружо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авай кататься с гор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 прекрасный вечерок.</a:t>
            </a:r>
            <a:endParaRPr b="0" lang="en-US" sz="1400" spc="-1" strike="noStrike">
              <a:solidFill>
                <a:srgbClr val="000000"/>
              </a:solidFill>
              <a:latin typeface="Arial"/>
            </a:endParaRPr>
          </a:p>
        </p:txBody>
      </p:sp>
      <p:pic>
        <p:nvPicPr>
          <p:cNvPr id="133" name="" descr=""/>
          <p:cNvPicPr/>
          <p:nvPr/>
        </p:nvPicPr>
        <p:blipFill>
          <a:blip r:embed="rId1"/>
          <a:stretch/>
        </p:blipFill>
        <p:spPr>
          <a:xfrm>
            <a:off x="3886200" y="4191120"/>
            <a:ext cx="3886200" cy="1996920"/>
          </a:xfrm>
          <a:prstGeom prst="rect">
            <a:avLst/>
          </a:prstGeom>
          <a:ln w="0">
            <a:noFill/>
          </a:ln>
        </p:spPr>
      </p:pic>
      <p:sp>
        <p:nvSpPr>
          <p:cNvPr id="134" name=""/>
          <p:cNvSpPr/>
          <p:nvPr/>
        </p:nvSpPr>
        <p:spPr>
          <a:xfrm>
            <a:off x="6248520" y="76212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Скопцов Евген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a3cc"/>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5334120" y="1295280"/>
            <a:ext cx="3119400" cy="464832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ух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явилась мух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комнате у на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хотела мух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меня напас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летела пап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новенький жил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летела в мами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зовый бук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мотрела мух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комнате ок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 что в этом толк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ам стекл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видала мух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ход на балк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летела мух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свой любимый до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36" name=""/>
          <p:cNvSpPr/>
          <p:nvPr/>
        </p:nvSpPr>
        <p:spPr>
          <a:xfrm>
            <a:off x="609480" y="3352680"/>
            <a:ext cx="2667240" cy="2514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Любимый меся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Любимый месяц мой– апрел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есны– начало робко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венит прозрачная капел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солнце светит желто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азеленеет все вокру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счастье увеличитс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йдем со мн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ой верный дру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едь лето уже близится</a:t>
            </a:r>
            <a:endParaRPr b="0" lang="en-US" sz="1400" spc="-1" strike="noStrike">
              <a:solidFill>
                <a:srgbClr val="000000"/>
              </a:solidFill>
              <a:latin typeface="Arial"/>
            </a:endParaRPr>
          </a:p>
        </p:txBody>
      </p:sp>
      <p:sp>
        <p:nvSpPr>
          <p:cNvPr id="137" name=""/>
          <p:cNvSpPr/>
          <p:nvPr/>
        </p:nvSpPr>
        <p:spPr>
          <a:xfrm>
            <a:off x="6095880" y="609480"/>
            <a:ext cx="2667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Шавкунов Алексей</a:t>
            </a:r>
            <a:endParaRPr b="0" lang="en-US" sz="1600" spc="-1" strike="noStrike">
              <a:solidFill>
                <a:srgbClr val="000000"/>
              </a:solidFill>
              <a:latin typeface="Arial"/>
            </a:endParaRPr>
          </a:p>
        </p:txBody>
      </p:sp>
      <p:sp>
        <p:nvSpPr>
          <p:cNvPr id="138" name=""/>
          <p:cNvSpPr/>
          <p:nvPr/>
        </p:nvSpPr>
        <p:spPr>
          <a:xfrm>
            <a:off x="3429000" y="49528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ванчук Назарий</a:t>
            </a:r>
            <a:endParaRPr b="0" lang="en-US" sz="1600" spc="-1" strike="noStrike">
              <a:solidFill>
                <a:srgbClr val="000000"/>
              </a:solidFill>
              <a:latin typeface="Arial"/>
            </a:endParaRPr>
          </a:p>
        </p:txBody>
      </p:sp>
      <p:sp>
        <p:nvSpPr>
          <p:cNvPr id="139" name=""/>
          <p:cNvSpPr/>
          <p:nvPr/>
        </p:nvSpPr>
        <p:spPr>
          <a:xfrm>
            <a:off x="609480" y="762120"/>
            <a:ext cx="3124440" cy="20872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дойду я к окн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смотрю на лун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ажгу я свеч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молитву прочт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Чтоб солнце на свете вечно светил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Чтоб правильный выбор оно осветил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Луну я об этом мол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И эту планету люблю!</a:t>
            </a:r>
            <a:endParaRPr b="0" lang="en-US" sz="1400" spc="-1" strike="noStrike">
              <a:solidFill>
                <a:srgbClr val="000000"/>
              </a:solidFill>
              <a:latin typeface="Arial"/>
            </a:endParaRPr>
          </a:p>
        </p:txBody>
      </p:sp>
      <p:sp>
        <p:nvSpPr>
          <p:cNvPr id="140" name=""/>
          <p:cNvSpPr/>
          <p:nvPr/>
        </p:nvSpPr>
        <p:spPr>
          <a:xfrm>
            <a:off x="3581280" y="762120"/>
            <a:ext cx="1524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рассова Ольг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2d2a8"/>
            </a:gs>
          </a:gsLst>
          <a:path path="rect">
            <a:fillToRect l="50000" t="50000" r="50000" b="50000"/>
          </a:path>
        </a:gradFill>
      </p:bgPr>
    </p:bg>
    <p:spTree>
      <p:nvGrpSpPr>
        <p:cNvPr id="1" name=""/>
        <p:cNvGrpSpPr/>
        <p:nvPr/>
      </p:nvGrpSpPr>
      <p:grpSpPr>
        <a:xfrm>
          <a:off x="0" y="0"/>
          <a:ext cx="0" cy="0"/>
          <a:chOff x="0" y="0"/>
          <a:chExt cx="0" cy="0"/>
        </a:xfrm>
      </p:grpSpPr>
      <p:sp>
        <p:nvSpPr>
          <p:cNvPr id="141" name=""/>
          <p:cNvSpPr/>
          <p:nvPr/>
        </p:nvSpPr>
        <p:spPr>
          <a:xfrm>
            <a:off x="3429000" y="533520"/>
            <a:ext cx="5410080" cy="60958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Times New Roman"/>
              </a:rPr>
              <a:t>Вежливость Нового год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остите и Извините летали от человека к человеку в метро, в час пик. А в это же время, в тёплой копании друзей, готовящихся к Новому Году, летали вежливые слова Спасибо и Пожалуйста. Но вот в метро и закончилась толкучка и Простите и Извините полетели в автобус, где уже находились Спасибо и Пожалуйста. Первым влетел в автобус Извини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Спасибо, Пожалуйста, приве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Тут влетел Простите:</a:t>
            </a:r>
            <a:br>
              <a:rPr sz="1600"/>
            </a:br>
            <a:r>
              <a:rPr b="0" lang="en-US" sz="1600" spc="-1" strike="noStrike">
                <a:solidFill>
                  <a:srgbClr val="000000"/>
                </a:solidFill>
                <a:latin typeface="Times New Roman"/>
              </a:rPr>
              <a:t>     -Извините, Спасибо, Пожалуйста, здравствуй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И тут часы пробили двенадцать. Людей в автобусе уже не было, а по городу носилось троекратное Ура. Оно поднимало всем настроение, радовало детей и взрослых и объявляло победу Нового Года над Старым. Под крики Ура Новый Год надевал корону короля, а старый уходил и забирал с собой всё зло, наделанное им. Старый Год оставался только в воспоминаниях людей и в оставленном хорошем настроении, в добре и вежливых словах он оставлял свой след.</a:t>
            </a:r>
            <a:endParaRPr b="0" lang="en-US" sz="1600" spc="-1" strike="noStrike">
              <a:solidFill>
                <a:srgbClr val="000000"/>
              </a:solidFill>
              <a:latin typeface="Arial"/>
            </a:endParaRPr>
          </a:p>
        </p:txBody>
      </p:sp>
      <p:pic>
        <p:nvPicPr>
          <p:cNvPr id="142" name="" descr=""/>
          <p:cNvPicPr/>
          <p:nvPr/>
        </p:nvPicPr>
        <p:blipFill>
          <a:blip r:embed="rId1"/>
          <a:stretch/>
        </p:blipFill>
        <p:spPr>
          <a:xfrm>
            <a:off x="380880" y="1676520"/>
            <a:ext cx="2895840" cy="2165400"/>
          </a:xfrm>
          <a:prstGeom prst="rect">
            <a:avLst/>
          </a:prstGeom>
          <a:ln w="0">
            <a:noFill/>
          </a:ln>
        </p:spPr>
      </p:pic>
      <p:sp>
        <p:nvSpPr>
          <p:cNvPr id="143" name=""/>
          <p:cNvSpPr/>
          <p:nvPr/>
        </p:nvSpPr>
        <p:spPr>
          <a:xfrm>
            <a:off x="457200" y="52578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амышанов Анто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a3cca3"/>
            </a:gs>
          </a:gsLst>
          <a:path path="rect">
            <a:fillToRect l="50000" t="50000" r="50000" b="50000"/>
          </a:path>
        </a:gradFill>
      </p:bgPr>
    </p:bg>
    <p:spTree>
      <p:nvGrpSpPr>
        <p:cNvPr id="1" name=""/>
        <p:cNvGrpSpPr/>
        <p:nvPr/>
      </p:nvGrpSpPr>
      <p:grpSpPr>
        <a:xfrm>
          <a:off x="0" y="0"/>
          <a:ext cx="0" cy="0"/>
          <a:chOff x="0" y="0"/>
          <a:chExt cx="0" cy="0"/>
        </a:xfrm>
      </p:grpSpPr>
      <p:sp>
        <p:nvSpPr>
          <p:cNvPr id="144" name=""/>
          <p:cNvSpPr/>
          <p:nvPr/>
        </p:nvSpPr>
        <p:spPr>
          <a:xfrm>
            <a:off x="1295280" y="990720"/>
            <a:ext cx="7086600" cy="56386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любимый меся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кабрь—это первый месяц зимы. В этом месяце дети отправляют письма Деду Морозу, а </a:t>
            </a:r>
            <a:r>
              <a:rPr b="0" lang="en-US" sz="1800" spc="-1" strike="noStrike">
                <a:solidFill>
                  <a:srgbClr val="000000"/>
                </a:solidFill>
                <a:latin typeface="Arial"/>
              </a:rPr>
              <a:t>31 </a:t>
            </a:r>
            <a:r>
              <a:rPr b="0" lang="ru-RU" sz="1800" spc="-1" strike="noStrike">
                <a:solidFill>
                  <a:srgbClr val="000000"/>
                </a:solidFill>
                <a:latin typeface="Arial"/>
              </a:rPr>
              <a:t>декабря празднуют Новый Год, получают подар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конце декабря начинаются новогодние каникулы. Земля покрывается белым покрывалом. На деревьях уже совсем нет листочков. Реки и озера покрываются льдом. Дети достают коньки, лыжи, санки и ледянки. В декабре день становится короче, и раньше темне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мой любимый меся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Всех читателей поздравляе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с наступающим Новым Годо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Желаем Вам удачи и творчески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успехов в новом </a:t>
            </a:r>
            <a:r>
              <a:rPr b="0" i="1" lang="en-US" sz="1800" spc="-1" strike="noStrike">
                <a:solidFill>
                  <a:srgbClr val="0000ff"/>
                </a:solidFill>
                <a:latin typeface="Arial"/>
              </a:rPr>
              <a:t>2010 </a:t>
            </a:r>
            <a:r>
              <a:rPr b="0" i="1" lang="ru-RU" sz="1800" spc="-1" strike="noStrike">
                <a:solidFill>
                  <a:srgbClr val="0000ff"/>
                </a:solidFill>
                <a:latin typeface="Arial"/>
              </a:rPr>
              <a:t>год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ff"/>
                </a:solidFill>
                <a:latin typeface="Arial"/>
              </a:rPr>
              <a:t>Творческая</a:t>
            </a:r>
            <a:r>
              <a:rPr b="1" i="1" lang="ru-RU" sz="1600" spc="-1" strike="noStrike">
                <a:solidFill>
                  <a:srgbClr val="0000ff"/>
                </a:solidFill>
                <a:latin typeface="Arial"/>
              </a:rPr>
              <a:t> </a:t>
            </a:r>
            <a:r>
              <a:rPr b="0" i="1" lang="ru-RU" sz="1600" spc="-1" strike="noStrike">
                <a:solidFill>
                  <a:srgbClr val="0000ff"/>
                </a:solidFill>
                <a:latin typeface="Arial"/>
              </a:rPr>
              <a:t>группа </a:t>
            </a:r>
            <a:endParaRPr b="0" lang="en-US" sz="1600" spc="-1" strike="noStrike">
              <a:solidFill>
                <a:srgbClr val="000000"/>
              </a:solidFill>
              <a:latin typeface="Arial"/>
            </a:endParaRPr>
          </a:p>
        </p:txBody>
      </p:sp>
      <p:sp>
        <p:nvSpPr>
          <p:cNvPr id="145" name=""/>
          <p:cNvSpPr/>
          <p:nvPr/>
        </p:nvSpPr>
        <p:spPr>
          <a:xfrm>
            <a:off x="6095880" y="3808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Андреева Софь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533160"/>
            <a:ext cx="2590920" cy="5592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1400" spc="-1" strike="noStrike">
                <a:solidFill>
                  <a:srgbClr val="000000"/>
                </a:solidFill>
                <a:latin typeface="Arial"/>
              </a:rPr>
              <a:t>Осень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Дождь идет за окном,</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темно кругом-</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 осень грустит</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понятно о чем.</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ет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Летом слышно пенье птиц,</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абочки порхают,</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красивые цвет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поле расцветают.</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pic>
        <p:nvPicPr>
          <p:cNvPr id="53" name="" descr=""/>
          <p:cNvPicPr/>
          <p:nvPr/>
        </p:nvPicPr>
        <p:blipFill>
          <a:blip r:embed="rId2"/>
          <a:stretch/>
        </p:blipFill>
        <p:spPr>
          <a:xfrm>
            <a:off x="2895480" y="914400"/>
            <a:ext cx="3359160" cy="4343400"/>
          </a:xfrm>
          <a:prstGeom prst="rect">
            <a:avLst/>
          </a:prstGeom>
          <a:ln w="0">
            <a:noFill/>
          </a:ln>
        </p:spPr>
      </p:pic>
      <p:sp>
        <p:nvSpPr>
          <p:cNvPr id="54" name=""/>
          <p:cNvSpPr/>
          <p:nvPr/>
        </p:nvSpPr>
        <p:spPr>
          <a:xfrm>
            <a:off x="6324480" y="838080"/>
            <a:ext cx="2514600" cy="527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им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нежная зме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Белая позем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утит ветер до ут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вонкой снег метелк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стала зимняя по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телица гуля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нежинки словно круже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 окнами порхаю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с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Весенний д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Цветет сир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ландыш расцвета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если осень на двор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ого не быва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нь длинный и светлы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весною прише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темный, коротк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уда-то уше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55" name=""/>
          <p:cNvSpPr/>
          <p:nvPr/>
        </p:nvSpPr>
        <p:spPr>
          <a:xfrm>
            <a:off x="2895480" y="5943600"/>
            <a:ext cx="3200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стромогильский Аркад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8caf8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990720"/>
            <a:ext cx="6248520" cy="5486400"/>
          </a:xfrm>
          <a:prstGeom prst="rect">
            <a:avLst/>
          </a:prstGeom>
          <a:noFill/>
          <a:ln w="0">
            <a:noFill/>
          </a:ln>
        </p:spPr>
        <p:txBody>
          <a:bodyPr lIns="90000" rIns="90000" tIns="46800" bIns="46800" anchor="t">
            <a:normAutofit fontScale="99000"/>
          </a:bodyPr>
          <a:p>
            <a:pPr marL="33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обик</a:t>
            </a:r>
            <a:endParaRPr b="0" lang="en-US" sz="1400" spc="-1" strike="noStrike">
              <a:solidFill>
                <a:srgbClr val="000000"/>
              </a:solidFill>
              <a:latin typeface="Arial"/>
            </a:endParaRPr>
          </a:p>
          <a:p>
            <a:pPr marL="33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Часть </a:t>
            </a:r>
            <a:r>
              <a:rPr b="0" i="1" lang="en" sz="1400" spc="-1" strike="noStrike">
                <a:solidFill>
                  <a:srgbClr val="000000"/>
                </a:solidFill>
                <a:latin typeface="Arial"/>
              </a:rPr>
              <a:t>1</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одном далеком городе, хотя не таком уж далеком– в Москве, жил Бобик. Бобик был собакой, обыкновенной дворняжкой, хотя его никто не спрашивал, хочет ли он этого. Да и кто бы спросил, ведь Бобик не умел говорить.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И вот однажды, в одно воскресное утро, пес прогуливался по главной площади, а точнее по Красной. Он без всякого интереса смотрел на голубей, улетающих в небо, поесть ему было что (вчера он стащил с прилавка большую сардельку). В душе Бобик  очень, очень хотел стать милицейской собакой– ищейкой, но случая все еще не представилось. Но вдруг…</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Бобик увидел на лапе какой-то галки что-то блеснуло. Кольцо! Он прокрутил  повторно в голове информацию: </a:t>
            </a:r>
            <a:r>
              <a:rPr b="0" lang="en" sz="1400" spc="-1" strike="noStrike">
                <a:solidFill>
                  <a:srgbClr val="000000"/>
                </a:solidFill>
                <a:latin typeface="Arial"/>
              </a:rPr>
              <a:t>«</a:t>
            </a:r>
            <a:r>
              <a:rPr b="0" lang="ru-RU" sz="1400" spc="-1" strike="noStrike">
                <a:solidFill>
                  <a:srgbClr val="000000"/>
                </a:solidFill>
                <a:latin typeface="Arial"/>
              </a:rPr>
              <a:t>Если я поймаю эту галку и отнесу кольцо в милицию, меня примут ищейкой!</a:t>
            </a:r>
            <a:r>
              <a:rPr b="0" lang="en" sz="1400" spc="-1" strike="noStrike">
                <a:solidFill>
                  <a:srgbClr val="000000"/>
                </a:solidFill>
                <a:latin typeface="Arial"/>
              </a:rPr>
              <a:t>» </a:t>
            </a:r>
            <a:r>
              <a:rPr b="0" lang="ru-RU" sz="1400" spc="-1" strike="noStrike">
                <a:solidFill>
                  <a:srgbClr val="000000"/>
                </a:solidFill>
                <a:latin typeface="Arial"/>
              </a:rPr>
              <a:t>Да, вот такие мысли носились у Бобика в голове. Но постойте, он уже поймал галку!..</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тащив зубами кольцо, счастливая собака уже бежала к двери милиции. Сначала его не хотели пускать, но когда милиционеры увидели кольцо в зубах у дворняжки, сразу все поняли.</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Бобик гордо выложил на стол кольцо, и его тут же записали в ищейки и кличку дали другую Ключ, потому что имя Бобик собака отказывалась носить.</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ак сбылась мечта Бобика, простите Ключа. Он со своим напарником подполковником Шариковым раскрыл немало преступлений, но это уже другая история...</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pic>
        <p:nvPicPr>
          <p:cNvPr id="57" name="" descr=""/>
          <p:cNvPicPr/>
          <p:nvPr/>
        </p:nvPicPr>
        <p:blipFill>
          <a:blip r:embed="rId1"/>
          <a:stretch/>
        </p:blipFill>
        <p:spPr>
          <a:xfrm>
            <a:off x="6705720" y="1143000"/>
            <a:ext cx="2157120" cy="2900520"/>
          </a:xfrm>
          <a:prstGeom prst="rect">
            <a:avLst/>
          </a:prstGeom>
          <a:ln w="0">
            <a:noFill/>
          </a:ln>
        </p:spPr>
      </p:pic>
      <p:sp>
        <p:nvSpPr>
          <p:cNvPr id="58" name=""/>
          <p:cNvSpPr/>
          <p:nvPr/>
        </p:nvSpPr>
        <p:spPr>
          <a:xfrm>
            <a:off x="5334120" y="533520"/>
            <a:ext cx="32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стромогильский Аркад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ec69e"/>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52280"/>
            <a:ext cx="8305920" cy="6477120"/>
          </a:xfrm>
          <a:prstGeom prst="rect">
            <a:avLst/>
          </a:prstGeom>
          <a:noFill/>
          <a:ln w="0">
            <a:noFill/>
          </a:ln>
        </p:spPr>
        <p:txBody>
          <a:bodyPr lIns="90000" rIns="90000" tIns="46800" bIns="46800" anchor="t">
            <a:normAutofit fontScale="99000"/>
          </a:bodyPr>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юч</a:t>
            </a: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Часть </a:t>
            </a:r>
            <a:r>
              <a:rPr b="0" i="1" lang="en" sz="1200" spc="-1" strike="noStrike">
                <a:solidFill>
                  <a:srgbClr val="000000"/>
                </a:solidFill>
                <a:latin typeface="Arial"/>
              </a:rPr>
              <a:t>2</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нажды в Санкт—Петербурге, а точнее в Эрмитаже был самый обыкновенный день. Но даже в самые обыкновенные будние дни случаются необычные вещи. Ну так вот в этот самый обычный день пропала картина Шишкина </a:t>
            </a:r>
            <a:r>
              <a:rPr b="0" lang="en" sz="1200" spc="-1" strike="noStrike">
                <a:solidFill>
                  <a:srgbClr val="000000"/>
                </a:solidFill>
                <a:latin typeface="Arial"/>
              </a:rPr>
              <a:t>«</a:t>
            </a:r>
            <a:r>
              <a:rPr b="0" lang="ru-RU" sz="1200" spc="-1" strike="noStrike">
                <a:solidFill>
                  <a:srgbClr val="000000"/>
                </a:solidFill>
                <a:latin typeface="Arial"/>
              </a:rPr>
              <a:t>Мишки в лесу</a:t>
            </a:r>
            <a:r>
              <a:rPr b="0" lang="en" sz="1200" spc="-1" strike="noStrike">
                <a:solidFill>
                  <a:srgbClr val="000000"/>
                </a:solidFill>
                <a:latin typeface="Arial"/>
              </a:rPr>
              <a:t>». </a:t>
            </a:r>
            <a:r>
              <a:rPr b="0" lang="ru-RU" sz="1200" spc="-1" strike="noStrike">
                <a:solidFill>
                  <a:srgbClr val="000000"/>
                </a:solidFill>
                <a:latin typeface="Arial"/>
              </a:rPr>
              <a:t>К счастью, в то время по улицам второй столицы России прогуливались подполковник Шариков со своей ищейкой Ключом. Они тут же отправились на место преступления. Преступать закон люди обычно не решаются, но есть такие, которым все равно. И эти люди– жулики. Именно такого жулика и требовалось найти.</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Эрмитаже с самого прихода подполковника начались странные вещи: во-первых как-то сами собой обнаружились следы от ботинок огромного размера и странной формы. Во-вторых</a:t>
            </a:r>
            <a:r>
              <a:rPr b="0" lang="en" sz="1200" spc="-1" strike="noStrike">
                <a:solidFill>
                  <a:srgbClr val="000000"/>
                </a:solidFill>
                <a:latin typeface="Arial"/>
              </a:rPr>
              <a:t> </a:t>
            </a:r>
            <a:r>
              <a:rPr b="0" lang="ru-RU" sz="1200" spc="-1" strike="noStrike">
                <a:solidFill>
                  <a:srgbClr val="000000"/>
                </a:solidFill>
                <a:latin typeface="Arial"/>
              </a:rPr>
              <a:t>касса музея почему-то не была украдена. В-третьих замок был сорван, а не открыт отмычкой. Все эти странные факты копошились в голове у подполковника. Выскакивало то одно почему, то другое.</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конце напряженной умственной работы Шариков решил применить проверенный способ– пустить Ключа по следу. Клюю, переполненный предвкушениями погони, так резко дернул за поводок, что подполковник не удержался на ногах, упал. Срочно вызвали скорую помощь. Медицинское обследование показало перелом ноги. Расследование Шариков вести не мог, но он не отчаивался, полагаясь на чутье верной собаки.</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а не пришлось просить дважды. Умная собака сразу бросилась по следу, догонять похитителей.</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голове у Ключа летал рой мыслей: кто похититель? Много их? Зачем украли картину? И еще много, много разных пчел, кусавших любопытство Ключа. Но погоня продолжалась. Ключ быстро и верно продвигался по следу, а точнее– к лесу. Очень скоро он выяснил, что загадочные следы ведут в чащу. Долго Ключ пробирался сквозь заросли малины и принюхивался. Вдруг он уловил какой-то очень знакомый запах. Пес долго вспоминал свою юность и наконец вспомнил. Когда он был щенком, маленьким несмышленым Бобиком, он очень любил ходить в зоопарк, смотреть на медведей, но потом, когда мишки сбежали, интерес сразу пропал. И вот сейчас Ключ все понял. Он рванул сквозь заросли и увидел полянку, наполовину заросшую малиной и занятую огромной берлогой.</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сле осмотра пыльной берлоги Ключ убедился, что хозяев нет дома. Но зато он обнаружил то, что искал– драгоценную картину. Но просто так забрать картину и уйти было не в его правилах. Он сел и стал ждать И вот через несколько часов около входа в берлогу послышались грузные шаги хозяев. Увидев постороннего мишки всполошились, но Ключ объяснил, конечно на своем зверином языке, что картину нельзя было брать. На это самый старший из мишек ответил: </a:t>
            </a:r>
            <a:r>
              <a:rPr b="0" lang="en" sz="1200" spc="-1" strike="noStrike">
                <a:solidFill>
                  <a:srgbClr val="000000"/>
                </a:solidFill>
                <a:latin typeface="Arial"/>
              </a:rPr>
              <a:t>«</a:t>
            </a:r>
            <a:r>
              <a:rPr b="0" lang="ru-RU" sz="1200" spc="-1" strike="noStrike">
                <a:solidFill>
                  <a:srgbClr val="000000"/>
                </a:solidFill>
                <a:latin typeface="Arial"/>
              </a:rPr>
              <a:t>Просто очень хотелось посмотреть на других медведей. В наших-то дебрях они не водятся.</a:t>
            </a:r>
            <a:r>
              <a:rPr b="0" lang="en" sz="1200" spc="-1" strike="noStrike">
                <a:solidFill>
                  <a:srgbClr val="000000"/>
                </a:solidFill>
                <a:latin typeface="Arial"/>
              </a:rPr>
              <a:t>» </a:t>
            </a:r>
            <a:r>
              <a:rPr b="0" lang="ru-RU" sz="1200" spc="-1" strike="noStrike">
                <a:solidFill>
                  <a:srgbClr val="000000"/>
                </a:solidFill>
                <a:latin typeface="Arial"/>
              </a:rPr>
              <a:t>И второй медведь добавил</a:t>
            </a:r>
            <a:r>
              <a:rPr b="0" lang="en" sz="1200" spc="-1" strike="noStrike">
                <a:solidFill>
                  <a:srgbClr val="000000"/>
                </a:solidFill>
                <a:latin typeface="Arial"/>
              </a:rPr>
              <a:t>:”</a:t>
            </a:r>
            <a:r>
              <a:rPr b="0" lang="ru-RU" sz="1200" spc="-1" strike="noStrike">
                <a:solidFill>
                  <a:srgbClr val="000000"/>
                </a:solidFill>
                <a:latin typeface="Arial"/>
              </a:rPr>
              <a:t> хотелось вспомнить молодость, а то уж мы и забыли, как жить. После миски с едой в зоопарке даже малину рвать сложно.</a:t>
            </a:r>
            <a:r>
              <a:rPr b="0" lang="en" sz="1200" spc="-1" strike="noStrike">
                <a:solidFill>
                  <a:srgbClr val="000000"/>
                </a:solidFill>
                <a:latin typeface="Arial"/>
              </a:rPr>
              <a:t>» </a:t>
            </a:r>
            <a:r>
              <a:rPr b="0" lang="ru-RU" sz="1200" spc="-1" strike="noStrike">
                <a:solidFill>
                  <a:srgbClr val="000000"/>
                </a:solidFill>
                <a:latin typeface="Arial"/>
              </a:rPr>
              <a:t>Весь этот недолгий разговор происходил на зверином языке.</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 </a:t>
            </a:r>
            <a:r>
              <a:rPr b="0" lang="ru-RU" sz="1200" spc="-1" strike="noStrike">
                <a:solidFill>
                  <a:srgbClr val="000000"/>
                </a:solidFill>
                <a:latin typeface="Arial"/>
              </a:rPr>
              <a:t>И вот через несколько часов после этого звериного разговора, Ключ уже стоял у дверей родной милиции и осторожно держал </a:t>
            </a:r>
            <a:r>
              <a:rPr b="0" lang="en" sz="1200" spc="-1" strike="noStrike">
                <a:solidFill>
                  <a:srgbClr val="000000"/>
                </a:solidFill>
                <a:latin typeface="Arial"/>
              </a:rPr>
              <a:t>«</a:t>
            </a:r>
            <a:r>
              <a:rPr b="0" lang="ru-RU" sz="1200" spc="-1" strike="noStrike">
                <a:solidFill>
                  <a:srgbClr val="000000"/>
                </a:solidFill>
                <a:latin typeface="Arial"/>
              </a:rPr>
              <a:t>Мишек</a:t>
            </a:r>
            <a:r>
              <a:rPr b="0" lang="en" sz="1200" spc="-1" strike="noStrike">
                <a:solidFill>
                  <a:srgbClr val="000000"/>
                </a:solidFill>
                <a:latin typeface="Arial"/>
              </a:rPr>
              <a:t>» (</a:t>
            </a:r>
            <a:r>
              <a:rPr b="0" lang="ru-RU" sz="1200" spc="-1" strike="noStrike">
                <a:solidFill>
                  <a:srgbClr val="000000"/>
                </a:solidFill>
                <a:latin typeface="Arial"/>
              </a:rPr>
              <a:t>естественно на картине</a:t>
            </a:r>
            <a:r>
              <a:rPr b="0" lang="en" sz="1200" spc="-1" strike="noStrike">
                <a:solidFill>
                  <a:srgbClr val="000000"/>
                </a:solidFill>
                <a:latin typeface="Arial"/>
              </a:rPr>
              <a:t>) </a:t>
            </a:r>
            <a:r>
              <a:rPr b="0" lang="ru-RU" sz="1200" spc="-1" strike="noStrike">
                <a:solidFill>
                  <a:srgbClr val="000000"/>
                </a:solidFill>
                <a:latin typeface="Arial"/>
              </a:rPr>
              <a:t>в зубах.</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сле этого случая Ключа все за уважали, а подполковника Шарикова повысили, чтобы произносить было короче– полковник.</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ерез несколько дней в российскую милицию поступило сообщение из Парижа– из парижского музея пропала драгоценная золотая статуэтка, а это новое приключение Ключа и Шарикова.</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733920" y="456840"/>
            <a:ext cx="4952880" cy="566892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казка про вежливые сло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Жили-были вежливые слова. Они всегда говорили:«Пожалуйста» или «Спасибо». Но однажды к ним пришли грубые слова и стали они вместе жить. После этого вежливые слова стали грубыми. Теперь они говорили:«Отдай мне сейчас же!» или «Уйди вон!». Помочь вежливым словам мог только волшебник, который жил на краю океа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И вот грубые слова(те, которые были вежливыми) отправились к волшебнику. Они поднимались в горы, переплывали моря и ночевали в лесу. Как-то раз одно грубое слово спотыкнулось и повисло на краю горы. Никто не хотел помогать ему. Слово просило:«Ты! Помоги мне!»,но никто не подходил. И тут слово вспомнило что есть вежливые слова. «Пожалуйста, помогите мне!»-сказало слово. Все сразу же кинулись помогать слову. И вот все грубые слова превратились обратно в вежливые слова. Они все вместе пошли в свою страну и выгнали все грубые слова. Теперь они как и прежде общаются вежливо и даже волшебник был не</a:t>
            </a:r>
            <a:r>
              <a:rPr b="0" lang="en" sz="1400" spc="-1" strike="noStrike">
                <a:solidFill>
                  <a:srgbClr val="000000"/>
                </a:solidFill>
                <a:latin typeface="Arial"/>
              </a:rPr>
              <a:t> </a:t>
            </a:r>
            <a:r>
              <a:rPr b="0" lang="ru-RU" sz="1400" spc="-1" strike="noStrike">
                <a:solidFill>
                  <a:srgbClr val="000000"/>
                </a:solidFill>
                <a:latin typeface="Arial"/>
              </a:rPr>
              <a:t>нужен им!</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 </a:t>
            </a:r>
            <a:endParaRPr b="0" lang="en-US" sz="1600" spc="-1" strike="noStrike">
              <a:solidFill>
                <a:srgbClr val="000000"/>
              </a:solidFill>
              <a:latin typeface="Arial"/>
            </a:endParaRPr>
          </a:p>
        </p:txBody>
      </p:sp>
      <p:pic>
        <p:nvPicPr>
          <p:cNvPr id="61" name="" descr=""/>
          <p:cNvPicPr/>
          <p:nvPr/>
        </p:nvPicPr>
        <p:blipFill>
          <a:blip r:embed="rId1"/>
          <a:stretch/>
        </p:blipFill>
        <p:spPr>
          <a:xfrm>
            <a:off x="380880" y="990720"/>
            <a:ext cx="3492720" cy="4680000"/>
          </a:xfrm>
          <a:prstGeom prst="rect">
            <a:avLst/>
          </a:prstGeom>
          <a:ln w="0">
            <a:noFill/>
          </a:ln>
        </p:spPr>
      </p:pic>
      <p:sp>
        <p:nvSpPr>
          <p:cNvPr id="62" name=""/>
          <p:cNvSpPr/>
          <p:nvPr/>
        </p:nvSpPr>
        <p:spPr>
          <a:xfrm>
            <a:off x="4724280" y="5791320"/>
            <a:ext cx="358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олбина Светла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6840" y="380520"/>
            <a:ext cx="2895480" cy="57452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1200" spc="-1" strike="noStrike">
                <a:solidFill>
                  <a:srgbClr val="000000"/>
                </a:solidFill>
                <a:latin typeface="Arial"/>
              </a:rPr>
              <a:t>* *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ноябрь, осени— конец.</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ревья за окном качаются…</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  снег, то дождь,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настроенья нет,</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крываюсь от всего печально.</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эта слякоть скоро ведь пройдет?</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сле уже будет Новый год?!</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ей бы…</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о нем мечтаю.</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авиться от осени желаю.</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2800" spc="-1" strike="noStrike">
                <a:solidFill>
                  <a:srgbClr val="000000"/>
                </a:solidFill>
                <a:latin typeface="Arial"/>
              </a:rPr>
              <a:t> </a:t>
            </a:r>
            <a:r>
              <a:rPr b="0" lang="ru-RU" sz="1200" spc="-1" strike="noStrike">
                <a:solidFill>
                  <a:srgbClr val="000000"/>
                </a:solidFill>
                <a:latin typeface="Arial"/>
              </a:rPr>
              <a:t>* *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ёт урок,</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венит звонок,</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род весь вылетает.</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то потом</a:t>
            </a:r>
            <a:r>
              <a:rPr b="0" lang="en"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вопрос.</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м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стествознанье!</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64" name=""/>
          <p:cNvSpPr/>
          <p:nvPr/>
        </p:nvSpPr>
        <p:spPr>
          <a:xfrm>
            <a:off x="4648320" y="3429000"/>
            <a:ext cx="312408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уна одиноко светит в ок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дождь ко мне в гости стучит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давно в гости ждала е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форточка вдруг отворит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стра качнула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рдце шатнуло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ул через форточку вете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встала с постел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ышла на кухн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чальной мыслью о лет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дь летом тепл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рошо,  хорош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зимой как-то не очен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вернулась к себе и закрыла ок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жалея о том, что тут осен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pic>
        <p:nvPicPr>
          <p:cNvPr id="65" name="" descr=""/>
          <p:cNvPicPr/>
          <p:nvPr/>
        </p:nvPicPr>
        <p:blipFill>
          <a:blip r:embed="rId2"/>
          <a:stretch/>
        </p:blipFill>
        <p:spPr>
          <a:xfrm>
            <a:off x="4191120" y="609480"/>
            <a:ext cx="2003400" cy="2671920"/>
          </a:xfrm>
          <a:prstGeom prst="rect">
            <a:avLst/>
          </a:prstGeom>
          <a:ln w="0">
            <a:noFill/>
          </a:ln>
        </p:spPr>
      </p:pic>
      <p:sp>
        <p:nvSpPr>
          <p:cNvPr id="66" name=""/>
          <p:cNvSpPr/>
          <p:nvPr/>
        </p:nvSpPr>
        <p:spPr>
          <a:xfrm>
            <a:off x="6629400" y="53352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Озерова Ари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304920" y="380880"/>
            <a:ext cx="3429000" cy="566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щ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лава </a:t>
            </a:r>
            <a:r>
              <a:rPr b="1" i="1" lang="en" sz="1200" spc="-1" strike="noStrike">
                <a:solidFill>
                  <a:srgbClr val="000000"/>
                </a:solidFill>
                <a:latin typeface="Arial"/>
              </a:rPr>
              <a:t>1 (</a:t>
            </a:r>
            <a:r>
              <a:rPr b="1" i="1" lang="ru-RU" sz="1200" spc="-1" strike="noStrike">
                <a:solidFill>
                  <a:srgbClr val="000000"/>
                </a:solidFill>
                <a:latin typeface="Arial"/>
              </a:rPr>
              <a:t>Предисловие</a:t>
            </a:r>
            <a:r>
              <a:rPr b="1" i="1" lang="e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л да был олигарх Кощ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л он лишь из старых мощ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ег было у него не сче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забыл он, что такое добро и че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другом государств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л да был кот черной маст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хозяин его—купе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много у него ове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государь в государстве т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храбадт Демидро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мудрый султан был о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а в третьем государств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было никаких напаст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в мире все жил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овсем не тужил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ире жили три царств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й, не царства, а государств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лучилась бе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разрушила мир о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3200400" y="1219320"/>
            <a:ext cx="2971800" cy="438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лава </a:t>
            </a:r>
            <a:r>
              <a:rPr b="1" i="1" lang="en" sz="1200" spc="-1" strike="noStrike">
                <a:solidFill>
                  <a:srgbClr val="0000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щей—большой любителей звер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ржал у себя он зм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особенным был га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не птица, он не звер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дракон—Горыныч Зм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он пожег селен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сталось больше прер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одна лишь пустош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слышал о том Кощ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любил таких звер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решил во что бы то ни стал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ть огненного га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д прошел, другой ид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 кончался в бочке ме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прибыл гоне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авный малый, молоде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бщить о т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Горыныч схваче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в зверинец Кощеев посаже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Кощей решил его посет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за Змеем послед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pic>
        <p:nvPicPr>
          <p:cNvPr id="69" name="" descr=""/>
          <p:cNvPicPr/>
          <p:nvPr/>
        </p:nvPicPr>
        <p:blipFill>
          <a:blip r:embed="rId2"/>
          <a:stretch/>
        </p:blipFill>
        <p:spPr>
          <a:xfrm>
            <a:off x="6095880" y="2438280"/>
            <a:ext cx="2667240" cy="2649600"/>
          </a:xfrm>
          <a:prstGeom prst="rect">
            <a:avLst/>
          </a:prstGeom>
          <a:ln w="0">
            <a:noFill/>
          </a:ln>
        </p:spPr>
      </p:pic>
      <p:sp>
        <p:nvSpPr>
          <p:cNvPr id="70" name=""/>
          <p:cNvSpPr/>
          <p:nvPr/>
        </p:nvSpPr>
        <p:spPr>
          <a:xfrm>
            <a:off x="6400800" y="4572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Болотный Гле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5e6c7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56840"/>
            <a:ext cx="2743200" cy="5668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1400" spc="-1" strike="noStrike">
                <a:solidFill>
                  <a:srgbClr val="000000"/>
                </a:solidFill>
                <a:latin typeface="Arial"/>
              </a:rPr>
              <a:t>Колыбельная</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аю-баю, спи, девчонк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аю-баю, спи, малыш!</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оя милая Тасенк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ы в кроватке сладко спишь.</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аю-баю, спи, малютк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лазки ясные закрой,</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усть ночные феи чутк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храняют твой покой.</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усть тебе приснится чуд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волшебная стран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тебя баюкать будут</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везды, тучки и лун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72" name=""/>
          <p:cNvSpPr/>
          <p:nvPr/>
        </p:nvSpPr>
        <p:spPr>
          <a:xfrm>
            <a:off x="6248520" y="457200"/>
            <a:ext cx="2666880" cy="438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нашем классе спозаранк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чинается иг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то, кому расскажет что-т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тересное с ут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Женя—Маше, Маша—Све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вета—Оле, Оля – вс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говоры, пересуд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узнаем без пробл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ут заходит педаго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a:t>
            </a:r>
            <a:r>
              <a:rPr b="0" lang="ru-RU" sz="1400" spc="-1" strike="noStrike">
                <a:solidFill>
                  <a:srgbClr val="000000"/>
                </a:solidFill>
                <a:latin typeface="Arial"/>
              </a:rPr>
              <a:t>Кто не выучил уро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о арабский Эмира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зантию и Багда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учить тот сможет пя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сможет мне сказ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 сыграл вчера Аршави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то в воротах был у нас?</a:t>
            </a:r>
            <a:r>
              <a:rPr b="0" lang="e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немел в восторге клас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pic>
        <p:nvPicPr>
          <p:cNvPr id="73" name="" descr=""/>
          <p:cNvPicPr/>
          <p:nvPr/>
        </p:nvPicPr>
        <p:blipFill>
          <a:blip r:embed="rId1"/>
          <a:stretch/>
        </p:blipFill>
        <p:spPr>
          <a:xfrm>
            <a:off x="2895480" y="2362320"/>
            <a:ext cx="3149640" cy="2076480"/>
          </a:xfrm>
          <a:prstGeom prst="rect">
            <a:avLst/>
          </a:prstGeom>
          <a:ln w="0">
            <a:noFill/>
          </a:ln>
        </p:spPr>
      </p:pic>
      <p:sp>
        <p:nvSpPr>
          <p:cNvPr id="74" name=""/>
          <p:cNvSpPr/>
          <p:nvPr/>
        </p:nvSpPr>
        <p:spPr>
          <a:xfrm>
            <a:off x="5715000" y="541008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тепанова Агла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ya</cp:lastModifiedBy>
  <dcterms:modified xsi:type="dcterms:W3CDTF">2012-02-04T18:33:2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