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6F5-395E-4EBF-B550-12387B6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4C2-14B7-48AF-B843-5222B01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F1E-A0A7-4224-A507-C69D4CAD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94D-0292-4FE0-99BA-32B113BC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7EBF-9929-4331-AA94-FFF75619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1CB-B1E7-4375-B688-7D279A3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269D-F4F8-4DAE-AA6C-69F0EC5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5140-7156-4122-B73B-0D8F903B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E31-6920-4A47-8541-0BE71AD5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9012-3E8A-4539-9586-075E6A44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ECD4-EC36-4137-93A8-A4E00F7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B38-044D-4B34-9C8A-5F09C74E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9567-BD61-49A9-95C5-6F6C00E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6A0A-8D2C-470B-922A-F6C5F5F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4E2F-B152-4E46-9391-0417A4FC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AD0E-5363-4B23-8354-39C53201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6A5-1645-4A88-8818-DFAFE998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2D3-C12D-40E4-B88E-02F9D137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B42-7C60-4235-A942-4A66A81F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3EF-96A8-4408-B500-DB711EA5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6FC-3F63-47E8-8C74-A1A9A99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406-EF57-4113-B2DA-0E61E72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CA5-D32C-4408-AC21-3BD601D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390-EB58-4125-8C9C-7C3EB81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E15-D814-4FDD-B45B-C66821C0FF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75C-D195-4F44-99FE-00A638C90E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827360"/>
            <a:ext cx="84582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Arial Black"/>
              </a:rPr>
              <a:t>Нетрадиционная техника рисования в детском саду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187280" y="260280"/>
            <a:ext cx="72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716000" y="4292280"/>
            <a:ext cx="424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дготовил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Студентка Лаврентьева Н.Д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Группа 085713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116000" y="6165720"/>
            <a:ext cx="6335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539640" y="928800"/>
            <a:ext cx="57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« ...Детский рисунок, процесс рисования - это частица духовной жизни ребенка. Дети не просто переносят на бумагу что-то из окружающего мира, а живут в этом мире, входят в него, как творцы красоты, наслаждаются этой красотой.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. Л. Сухомлинск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ccffcc"/>
                </a:solidFill>
                <a:latin typeface="Arial Black"/>
              </a:rPr>
              <a:t>Каждый ребенок по своей природе – творец. Но, как правило, его творческие возможности находятся в скрытом состоянии и не всегда полностью реализуются. Создавая условия, побуждающие ребенка к занятиям искусством, можно раскрыть эти дремлющие до поры до времени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14" descr="PC110189"/>
          <p:cNvPicPr/>
          <p:nvPr/>
        </p:nvPicPr>
        <p:blipFill>
          <a:blip r:embed="rId1"/>
          <a:stretch/>
        </p:blipFill>
        <p:spPr>
          <a:xfrm rot="4532400">
            <a:off x="5763960" y="238140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PC110190"/>
          <p:cNvPicPr/>
          <p:nvPr/>
        </p:nvPicPr>
        <p:blipFill>
          <a:blip r:embed="rId2"/>
          <a:stretch/>
        </p:blipFill>
        <p:spPr>
          <a:xfrm rot="1458000">
            <a:off x="6516360" y="4436640"/>
            <a:ext cx="2076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539640" y="610200"/>
            <a:ext cx="86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ЧЕБНО-ТВОРЧЕСКИЙ ЭТАП ОБУЧ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 Black"/>
              </a:rPr>
              <a:t>Больше красок, хороших и разных Если смазать ладошку краской, то она оставит на бумаге интересный отпечаток, в котором можно увидеть различные удивительные образы. Наши ладошки умеют превращаться в солнышко. Раскройте ладонь, а выпрямленные пальцы раздвиньте в стороны. Теперь соедините пальцы вместе. Вот какой получился заборчик! А если чуть отодвинуть большой палец в сторону, а остальные раздвинуть, рука превратится в симпатичного ежика. Остается дорисовать грибок, который заботливый папа тащит в норку, да еще не забыть про лапки, глаз и носик зверька. И бабочка полетит, и цветочек будет радовать своими лепестками, и слон, и рыбка, и многое другое можно нафантазировать вместе малышо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 Black"/>
              </a:rPr>
              <a:t>Во время рисования пальцами рук ребенок получает необыкновенно чувственное наслаждение при тактильных контактах с краской, бумагой, водой. Что бы получить например “Радужную рыбку»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 Black"/>
              </a:rPr>
              <a:t>обмакнем подушечку большого пальца в приготовленную на палитре краску разных цветов. Сделаем отпечаток. Кончиком пальчика изобразим хвостик. Глаз отпечатаем тупым концом карандаша, обмакнув его черную краску. А что бы получить“ Цветок”, то указательным пальчиком отпечатываем лепестки, мизинцем серединку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250920" y="638640"/>
            <a:ext cx="8569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Рисуем необычными предметами.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Обычно рисование ассоциируется у нас с кисточкой или карандашом. Но рисовать можно чем угодно: пальцами, перышком, ватной палочкой, ниткой, поролоновой губкой. Такое рисование полезно для развития нестандартного мышления юного художника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Пальчик вместо кисти. Вот взять, например, палец. Его можно обмакнуть в краску и рисовать линии. Это будет и дождь, и травка, и волны, и ветки деревьев. А можно ставить цветные точки. Так можно нарисовать пушистого цыпленка, или одуванчик, или листья на деревьях. А можно изобразить осеннее дерево сразу всей пятерней. Намажем подушечки пальцев красками разных цветов (желтой, красной, зеленой, коричневой) и станем “топать” ими по веткам нарисованного дерева. Вот вам и разноцветный осенний наряд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Поролоновые узоры.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Из поролоновой губки можно вырезать геометрические фигурки. Получится замечательный инструмент для создания всевозможных орнаментов. Нужно только обмакивать штампы в разведенную краску и прикладывать к бумаге. Рисуя орнаментные узоры, малыш не только развивается эстетически. Он учится ориентироваться на листе бумаги, тренируется в составлении логических последовательностей, получает первое представление о симметрии. Для того чтобы печатание фигурок приобрело какой-то смысл, предложите малышу украсить орнаментом бумажную тарелку, вырезанную из картона вазу, платьице нарисованной куклы. Можно нарисовать поролоном ягодки рябины и алую землянику, бусы на шее у девочки и яркий хвост петуха. Главное, чтобы процесс творчества нравился, вызывал эмоциональный отклик у юного художника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и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з</a:t>
            </a:r>
            <a:r>
              <a:rPr b="0" lang="ru-RU" sz="2000" spc="-1" strike="noStrike">
                <a:solidFill>
                  <a:srgbClr val="ccffcc"/>
                </a:solidFill>
                <a:latin typeface="Arial Black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ff99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9966"/>
                </a:solidFill>
                <a:latin typeface="Arial Black"/>
              </a:rPr>
              <a:t>т</a:t>
            </a:r>
            <a:r>
              <a:rPr b="0" lang="ru-RU" sz="2000" spc="-1" strike="noStrike">
                <a:solidFill>
                  <a:srgbClr val="ff6600"/>
                </a:solidFill>
                <a:latin typeface="Arial Black"/>
              </a:rPr>
              <a:t>у</a:t>
            </a: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д</a:t>
            </a: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Р</a:t>
            </a: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и</a:t>
            </a:r>
            <a:r>
              <a:rPr b="0" lang="ru-RU" sz="4400" spc="-1" strike="noStrike">
                <a:solidFill>
                  <a:srgbClr val="ccffcc"/>
                </a:solidFill>
                <a:latin typeface="Arial Black"/>
              </a:rPr>
              <a:t>С</a:t>
            </a: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</a:t>
            </a:r>
            <a:r>
              <a:rPr b="0" lang="ru-RU" sz="4400" spc="-1" strike="noStrike">
                <a:solidFill>
                  <a:srgbClr val="ff99ff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66ff66"/>
                </a:solidFill>
                <a:latin typeface="Arial Black"/>
              </a:rPr>
              <a:t>Ш</a:t>
            </a: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к</a:t>
            </a: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7" descr="P1200092"/>
          <p:cNvPicPr/>
          <p:nvPr/>
        </p:nvPicPr>
        <p:blipFill>
          <a:blip r:embed="rId1"/>
          <a:stretch/>
        </p:blipFill>
        <p:spPr>
          <a:xfrm rot="19989000">
            <a:off x="468360" y="2133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P1200093"/>
          <p:cNvPicPr/>
          <p:nvPr/>
        </p:nvPicPr>
        <p:blipFill>
          <a:blip r:embed="rId2"/>
          <a:stretch/>
        </p:blipFill>
        <p:spPr>
          <a:xfrm rot="21081600">
            <a:off x="5219280" y="4149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PC110197"/>
          <p:cNvPicPr/>
          <p:nvPr/>
        </p:nvPicPr>
        <p:blipFill>
          <a:blip r:embed="rId3"/>
          <a:stretch/>
        </p:blipFill>
        <p:spPr>
          <a:xfrm rot="1405800">
            <a:off x="3276360" y="184428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PC110193"/>
          <p:cNvPicPr/>
          <p:nvPr/>
        </p:nvPicPr>
        <p:blipFill>
          <a:blip r:embed="rId4"/>
          <a:stretch/>
        </p:blipFill>
        <p:spPr>
          <a:xfrm rot="19794600">
            <a:off x="2340000" y="4149360"/>
            <a:ext cx="250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79280" y="660600"/>
            <a:ext cx="6048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Нитки и ниточки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При помощи обычных шерстяных ниток можно создавать очень интересные рисунки-сюрпризы. Такая техника называется ниткопись. Для этого возьмите лист бумаги или картона, сложите его пополам. Конец шерстяной нитки на 10 см опустите в гуашь, затем зажмите окрашенную нитку между согнутой бумагой и поводите ею там. Убираем нитку, разворачиваем бумагу и удивляемся вместе с ребенком необычному сочетанию линий и мазков. Можно одновременно окрасить несколько ниток разными цветами и получить многоцветную абракадабру. Рассмотрите вместе с детьми получившееся изображение, подумайте, на что оно похоже, дайте ему название. Может, это фейерверк или цветной луг, или просто хорошее настроение?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Нитками можно рисовать и иначе. Отрежьте шерстяную нитку длиной около 20 см, окуните ее в краску и дайте ребенку. Пусть он водит ниткой по листу бумаги, как ему захочется. Затем то же самое проделайте с другой ниткой и новой краской. На листе останутся разноцветные линии, зигзаги, разводы. Словом, красивая абстракция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8" descr="P3120148"/>
          <p:cNvPicPr/>
          <p:nvPr/>
        </p:nvPicPr>
        <p:blipFill>
          <a:blip r:embed="rId1"/>
          <a:stretch/>
        </p:blipFill>
        <p:spPr>
          <a:xfrm rot="1811400">
            <a:off x="6372000" y="2781360"/>
            <a:ext cx="2447640" cy="1800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P3120149"/>
          <p:cNvPicPr/>
          <p:nvPr/>
        </p:nvPicPr>
        <p:blipFill>
          <a:blip r:embed="rId2"/>
          <a:stretch/>
        </p:blipFill>
        <p:spPr>
          <a:xfrm rot="20109600">
            <a:off x="6372360" y="4653000"/>
            <a:ext cx="23716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79280" y="910800"/>
            <a:ext cx="590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Волшебные рисунк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Разве отыщется на свете ребенок, не любящий волшебство? А такой малыш, который отказался бы собственноручно нарисовать волшебный рисунок? Конечно, нет! Для такого волшебства нам понадобится лист бумаги, свеча или сухой кусочек мыла и краски. Сначала рисуем на белой бумаге свечкой какой-нибудь рисунок. Рисовать бесцветным по белому не просто, но самые простые силуэты малышу вполне по силам: солнышко, елочка, домик, цветочек. Самые маленькие волшебники могут просто почеркать свечей по бумаге. Теперь набираем на широкую кисть или ватный тампон побольше краски и покрываем ею нашу бумагу. Как по волшебству, рисунок проявляется на фоне краски. Это связано с тем, что краска не ложится на жирный контур. Такой вид рисования обычно приводит детвору в восторг. И они готовы творить чудеса снова и снова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Picture 8" descr="PC110196"/>
          <p:cNvPicPr/>
          <p:nvPr/>
        </p:nvPicPr>
        <p:blipFill>
          <a:blip r:embed="rId1"/>
          <a:stretch/>
        </p:blipFill>
        <p:spPr>
          <a:xfrm rot="1680000">
            <a:off x="6011640" y="3213000"/>
            <a:ext cx="26622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539640" y="711360"/>
            <a:ext cx="70581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«Пальчики-палитра»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рисование пальчиком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Под рукой нет кисточки? Не беда! Один палец обмакнем в красную краску, другой – в синюю, третий – в желтую… Чем не палитра!..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Это не сложная, но очень интересная техника, которая очень понравится детям всех возрастов. Они рисуют с большим удовольствием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Обучение пальчиковому рисованию идет в несколько этапов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Вначале дети рисуют одним пальчиком, затем несколькими. На этом этапе происходит знакомство с цветом, формой, ритмом и положением в пространстве. Мы украшаем бабочек, рыбок и полянку такими элементами, как точки, мазки, спирал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На втором этапе дети учатся смешивать краски. Каждый пальчик обмакивают в разные краски и накладывают цвета на цвет. В результате смешивания цветов дети добиваются нужного оттенка. Например, с детьми средней группы мы рисовали «пушистого мишку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К подготовительной группе дети уже свободно владеют «пальчиковой техникой» и сами придумывают темы для рисования, используя в сюжете, такие приемы как тычок, мазок, смешивание красок. «Пальчиковым методом» дети рисовали сюжеты к сказке Аксакова «Аленький цветочек». Работы получились очень удачны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539640" y="1066680"/>
            <a:ext cx="60454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Рисование восковыми мелками, свечой и акварелью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Такой способ издавна использовался народными мастерицами при расписывании пасхальных яиц. В этой технике мы рисовали на тему «Вологодские кружева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Также  используется и  новая техника рисования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как </a:t>
            </a: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граттаж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Интересно в этой технике прошли занятия на темы: «Ночной город», «Цветы в вазе», «Бабочки», «Рыбка в аквариуме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Black"/>
              </a:rPr>
              <a:t>Мазковая живопись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Arial Black"/>
              </a:rPr>
              <a:t>Рисовать мазками детям очень нравится. Работы получаются насыщенные, интересные. Не у всех детей получается правильный мазок. У кого-то он очень длинный, у кого-то просто похож на примакивание. Поэтому рекомендуется больше рисовать в свободное время на такие темы: «Травка», «Елочка» и т.п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Picture 8" descr="P1200094"/>
          <p:cNvPicPr/>
          <p:nvPr/>
        </p:nvPicPr>
        <p:blipFill>
          <a:blip r:embed="rId1"/>
          <a:stretch/>
        </p:blipFill>
        <p:spPr>
          <a:xfrm>
            <a:off x="6732720" y="2565360"/>
            <a:ext cx="200952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PC110194"/>
          <p:cNvPicPr/>
          <p:nvPr/>
        </p:nvPicPr>
        <p:blipFill>
          <a:blip r:embed="rId2"/>
          <a:stretch/>
        </p:blipFill>
        <p:spPr>
          <a:xfrm rot="1161600">
            <a:off x="5940000" y="5084280"/>
            <a:ext cx="1440000" cy="1368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4" descr="PC110195"/>
          <p:cNvPicPr/>
          <p:nvPr/>
        </p:nvPicPr>
        <p:blipFill>
          <a:blip r:embed="rId3"/>
          <a:stretch/>
        </p:blipFill>
        <p:spPr>
          <a:xfrm rot="4401000">
            <a:off x="7029000" y="3996000"/>
            <a:ext cx="1512720" cy="10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5:34:07Z</dcterms:created>
  <dc:creator>-</dc:creator>
  <dc:description/>
  <dc:language>en-US</dc:language>
  <cp:lastModifiedBy>Ogomor XP v7.12</cp:lastModifiedBy>
  <dcterms:modified xsi:type="dcterms:W3CDTF">2011-03-22T18:28:46Z</dcterms:modified>
  <cp:revision>3</cp:revision>
  <dc:subject/>
  <dc:title>Нетрадиционная техника рисования в детском саду.</dc:title>
</cp:coreProperties>
</file>