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B3C-8EE2-4D31-93F7-2743C699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C17-7B75-4A11-A4D0-B61C252D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0E1-8E48-41C5-B7E1-86B16CA4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C8E-EF91-4C9B-9DC2-FDC1CC0A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871-E917-4684-A3D5-C058E664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68C-7F3D-48F6-913E-5C19C8E2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CD7-62EE-4621-AC18-E1CD2A7D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727-0E21-42DB-B0B6-7C6555D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50D-094E-4AE8-98F4-29DBECA7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A72-AD29-40BC-A6B0-193B39A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B73-687B-47A3-8FC4-65AE890B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A5F-D850-4003-8679-D3C5DFB2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3655-5470-4C32-9F52-0282DA4C7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зование и наука в Азербайдж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ервой полови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лие исторических фактов и событий не могло не послужить поводом для создания ряда исторических трудов. Видными историками того времени бы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ерим ага Шекиханов. Он являлся сыном последнего шекинского ханстве. В 1829 году написал «Историю шекинских ханов» на тюркс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 Мирза Адыгез бек. В 1845 году им была написана «Карабах-наме», где он рассказывает про политические события ханства, время правления Панахали хана и Ибрагимхалил х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. Мирза Джамал. Он написал труд про историю Карабахского ханства в 1847 году. Здесь им затрагивались не только политические события, также были описаны факты из социально-обществен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 Искендер бек Гаджинский. Им был написан труд «Жизнь Фатали хана Губинского», где была подробно описана деятельность губинского хан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5400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басгулу ага Бакиханов. Отцом его был Мирза Мухамме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бакинский хан, т. е. Бакиханов был знатного происхождения. Им был написан труд «Гюлистани-Ирам» в 1841 году. История здесь была представлена в целостном виде, подвержена периодизации, написана на научной основе. Бакиханов охватывает историю Аз-на с древнейшего этапа и до Гюлистанского догов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усской Академии наук данный труд высоко оценили, но печатать отказались, Бакиханову пришлось издавать его отрывками. В целом виде книга увидела свет в 1923 году – на тюрском языке, в 1926 году – на рус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1876320" cy="29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http//photoload.ru/data/62/a7/e2/62a7e2da310bdb98fb0b60102a6876e2.jpg"/>
          <p:cNvPicPr/>
          <p:nvPr/>
        </p:nvPicPr>
        <p:blipFill>
          <a:blip r:embed="rId2"/>
          <a:stretch/>
        </p:blipFill>
        <p:spPr>
          <a:xfrm>
            <a:off x="6300720" y="3573360"/>
            <a:ext cx="2016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токоведы – это ученые, которые изучают быт, историю, культуру, традиции восточных народов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за Джафар Топчибашев родился в Гяндже. Он преподавал в Петербургском университете. Был главой факультета персидской лит-ры. Он назначался главной отдела нумизматики Российского Археологического общества, членом Британск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 были переведены «Крымские сонаты», он написал «Персидскую хрестоматию», «Историю монголов с древнейшего периода и до Теймурленга». Была учреждена премия его имени, которая выдавалась студентам за лучшие научные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1003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140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за Казимбек преподавал в Казанском университете, когда перещел в Петербургский, в 1853 году создал факультета востоковедения, став первым деканом. Ему принадлежат труды «Мюридизм и Шамиль», «Мифология персов у Фирдоуси», «Баб и бабиды»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за Казимбек в совершенстве владел наряду с восточными языками, немецким, английским и французским, являлся членом Королевского общества Великобри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284720" y="3141720"/>
            <a:ext cx="40482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лософ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ю общественной мысли в Аз-не способствовали Мирза Шафи Вазех и Бакиханов. Бакиханову принадлежит труд «Улучшение нравов». Он уделяет внимание психологии, этикету и философии. А Мирза Шафи Вазех считал важным свободу личности и познание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ый толчок наблюдался и в развитии географии. Замечательный и очень разносторонний человек Аббасгулу ага Бакиханов и в этой области проявил себя. Ему принадлежат работы «Общая география» и «Кашф-уль-Гараиб». Во втором он затрагивает тему открытия Америки Колум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ным географом был Гаджи Зейналабдин Ширвани, который посвятил окола 40 лет своей жизни путешествиям. Им написаны «Путешествие в райский сад» и «Сад путешеств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ч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2 году как листок-приложение к «Тифлисским ведомостям» был выпущен «Татар хеберлери» на азерб. языке. Но здесь печатались всякие официальные документы, законодательные акты и распоряжения относительно Кавказа. В 1841-46 годах в качестве спецвыпуска к «Закавказскому вестнику» издавали «Вести по эту сторону Кавказ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58 году в Шамахе функционировали две типографии, но печатать азерб. лит-ру на азерб. еще не было возмо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ш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вековое ашугское искусство и в 19 веке не утратило своей популярности. Известностью пользовались ашуг Муса, ашуг Пери, ашуг Раджаб, ашуг Гусейн и другие. Они сочиняли баяты, теджнисы, гошма, герайлы. Создавались ими различные дастаны, в которых отображались мечты, нужды, чаяния простого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76720" y="333000"/>
            <a:ext cx="5410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ным сатириком того времени был Касум бек Закир, высмеивавший бюрократический устрой, самоуправство чинов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66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3280" y="404640"/>
            <a:ext cx="4043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за Шафи Вазех родился в Гяндже, одно время был писарем у Пюсте ханум, дочери Джавад хана. Его учеником был Ахун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фи  владел искусством каллиграфии «настали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вшийся с ним немец Боденштедт опубликовал его стихи в Германии, но увидев, какую огромную популярность они завоевали, присвоил их себе. Но это не могло сильно навредить такой талантливой личности Ваз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3152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41036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зеху принадлежат стихи «Вопросы-ответы», «Дервиш», «Теймур», «Саади и шах» и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03640" y="189000"/>
            <a:ext cx="331488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427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28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вшийся с ним немец Боденштедт опубликовал его стихи в Германии, но увидев, какую огромную популярность они завоевали, присвоил их себе. Но это не могло сильно навредить такой талантливой личности Ваз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1771560" cy="2381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Ìîçàè÷íîå ïàííî ïîñâÿùåííîå Ì.Ø.Âàçåõó "/>
          <p:cNvPicPr/>
          <p:nvPr/>
        </p:nvPicPr>
        <p:blipFill>
          <a:blip r:embed="rId2"/>
          <a:stretch/>
        </p:blipFill>
        <p:spPr>
          <a:xfrm>
            <a:off x="4211640" y="4076640"/>
            <a:ext cx="2665440" cy="252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Ïàìÿòíèê Ì.Ø.Âàçåõó"/>
          <p:cNvPicPr/>
          <p:nvPr/>
        </p:nvPicPr>
        <p:blipFill>
          <a:blip r:embed="rId3"/>
          <a:stretch/>
        </p:blipFill>
        <p:spPr>
          <a:xfrm>
            <a:off x="6659640" y="260280"/>
            <a:ext cx="2114640" cy="2809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667640" y="3573360"/>
            <a:ext cx="1209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4259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басгулу аги Бакиханова. Он был известен как лирический поэт, печатался под псевдонимом Гудси. Его перу принадлежат «Среди грузин», «Обращение к тебризскому люду», «Зеркало лиц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1197000"/>
            <a:ext cx="230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46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телем жанра художественной прозы нового типа был Исмаил бек Куткашенлы. Ему принадлежит рассказ «Рашид бек и Саадат хану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Файл:Ismayil-bek.JPG"/>
          <p:cNvPicPr/>
          <p:nvPr/>
        </p:nvPicPr>
        <p:blipFill>
          <a:blip r:embed="rId1"/>
          <a:stretch/>
        </p:blipFill>
        <p:spPr>
          <a:xfrm>
            <a:off x="4857840" y="33336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к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лось декоративное, изобразительное и прикладное искусство. Особо популярно стало исполнительское искусство (ханенделик). Создание мугамных меджлисов стало уже традицией. Самым известных ханенде был Саттар. Он даже выступал в салоне благотворительного общества на концерте известного итальянского дирижера Тифлисского театра Малаголли в 1847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17 году на ноты была переложена «Иранская песня Фатали Дербентского», в 1834 году «Галанын дибинд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83844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812000" y="260280"/>
            <a:ext cx="990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835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за Гадим Иревани сначала славился в области вышивки и изобразительного искусства, а потом перешел на портреты. Он даже работал при реставрации дворца Сардара в Ирев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хаммед Рза Иревани написал картину «Выздоровление инвалида», хранящуюся в Эрмита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амахе Касум бек амбар превратил в здание театра, где наряду с партером были и л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89720" y="981000"/>
            <a:ext cx="3554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1860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48-51 году мастер Ганбар и его ученики реставрировали дворец Шекинских ханов. Архитектура Шамахи, Нухи, Шуши шла вперед, видоизменялся облик городов, а Гянджа сохраняла свой прежни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53000" y="0"/>
            <a:ext cx="359100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3492360" cy="3141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439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492000" y="549360"/>
            <a:ext cx="50612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вой половине 19 века Россия отставала от других европейских стран в области просвещения. В Северном Азербайджане образованию не уделяли должное внимание. Оно носило сословны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м образование получали в мектебах и медр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30 году в Шуше была создана первая уездная ш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49 году был создан Кавказский учебный округ, включивший в себя и Северный Аз-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ой ступенью образования были  «сельские школы», а дальше шли уездные школы, гимназии, университеты, высшие технические учил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Азербайджанская школа в Шуше. Рисунок В.В.Верещагина."/>
          <p:cNvPicPr/>
          <p:nvPr/>
        </p:nvPicPr>
        <p:blipFill>
          <a:blip r:embed="rId1"/>
          <a:stretch/>
        </p:blipFill>
        <p:spPr>
          <a:xfrm>
            <a:off x="0" y="907920"/>
            <a:ext cx="3397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19280" y="260280"/>
            <a:ext cx="5267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53 году был принят новый устав, по которому в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854 году в Губе и  Ордубаде, а в 1856 году в Ленкоране были созданы одноклассные начальные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ю распространения просвещения было образовать будущих чиновников для работы в различных учреждениях края. Т. е. Россия преследовала свои колониальные интере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854 году в Шамахе создали четырехклассное высшее училище, но после землетрясения 1859 года оно было перенесено в Б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857320" cy="259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1905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24000" y="404640"/>
            <a:ext cx="43052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ный научный деятель Бакиханов в 1832 году представил проект создания светских мусульманских школ барону Розену, но он его отвер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ная в 1801 году при мечети Ибрагим хана школа профункционировала до второй половины 19 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5048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0" y="333360"/>
            <a:ext cx="40528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и начали издаваться к конце 30-х годов. Дементьеву принадлежат «Басни и повести», «Образцы писем», «Тюркско-татарский алфавит». А Мирза Казимбек – видный востоковед, написал «Грамматику Тюрско-татарского языка», опубликованную в 1839 году. За научную ценность труда ему была присуждена Демидовская пре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2800440" cy="383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4365720"/>
            <a:ext cx="1800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4546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удагову принадлежит «Алфавит тюркско-татарского язык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50 году преподаватели Тифлисской гимназии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азех и Григорьев составили «Китаби-тюр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25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ербайджанцы были слабо вовлечены в обучение в уездных школах, к тому же царское правительство желало иметь преданных и верных себе священнослужителей из местного населения, поэтому решили открыть мусульманские школы. Русские хотели углубить раскол не только между христианской и мусульманской религиями, но и между ветвями самого ислама. Так в Тифлисе они создали школы с шиитским и суннитским направлением по отд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целом русские не уделяли внимания просвещению азербайджанцев, позволяли большинству населения оставаться безграмотным. Любые нововведения в области просвещения всегда преследовали их колониальные выг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6:00:09Z</dcterms:created>
  <dc:creator>Seving Safaraliyeva </dc:creator>
  <dc:description/>
  <dc:language>en-US</dc:language>
  <cp:lastModifiedBy>Seving Safaraliyeva </cp:lastModifiedBy>
  <dcterms:modified xsi:type="dcterms:W3CDTF">2011-10-16T07:30:41Z</dcterms:modified>
  <cp:revision>4</cp:revision>
  <dc:subject/>
  <dc:title>Образование и наука в Азербайджане</dc:title>
</cp:coreProperties>
</file>