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A01-BF57-42F0-BFFC-89DDCB45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A1C-8FF3-432F-B5A9-127809D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469-C933-4135-8A80-00F4036E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D46-2485-4EB1-A936-BB43D87C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4CE-35D7-4F5C-9658-6925585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FC2-2CC2-4DE2-99BE-62C97051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521-B75B-4FE0-A207-6D43867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2C5-8F41-4AB0-BA2E-F83C6A5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9FD-80FC-4843-98F3-1FAF8BC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214-8746-4EF7-AE5A-26DF294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532-2A9D-42CC-8F9A-F3B04A7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2E4-1CD3-4F20-A9CC-B1606E0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B43-AA5A-4DB8-9ED2-BE7609F60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E1C-D511-4004-87E2-F560EA6BE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УДА ПРИШЛА </a:t>
            </a: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АЗБ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4824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выполнена ученицей 3 «Б»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«Лицей № 37» Фрунзенского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а Сарат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овой Елизаве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оводитель: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зина Елена Вале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 же это произош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B4E-F432-446D-AF1A-462550B3E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34136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древний способ письма появился, как рассказ в карти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2205000"/>
            <a:ext cx="734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еке до н.э. в Древнем Египте, а потом в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еке в Древнем Китае возникает другой способ пись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832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ЕРОГЛИ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еченный на кам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2000" y="981000"/>
            <a:ext cx="2520720" cy="38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-1773" r="38095" b="0"/>
          <a:stretch/>
        </p:blipFill>
        <p:spPr>
          <a:xfrm>
            <a:off x="324000" y="2565360"/>
            <a:ext cx="2087280" cy="407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627280" y="3141720"/>
            <a:ext cx="3240000" cy="313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6299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ревний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486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ревний Еги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276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ревний Еги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35404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2520720" cy="194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717640" cy="203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940360" y="1484280"/>
            <a:ext cx="2627280" cy="198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843280" y="4508640"/>
            <a:ext cx="3097080" cy="200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012000" y="3860640"/>
            <a:ext cx="2682720" cy="2013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278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ра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37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и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6165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32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2997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589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здание славянской азбу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816360" cy="489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-10039" t="5175" r="0" b="18874"/>
          <a:stretch/>
        </p:blipFill>
        <p:spPr>
          <a:xfrm>
            <a:off x="4284720" y="1557360"/>
            <a:ext cx="4676760" cy="468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16360" y="1268280"/>
            <a:ext cx="42498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89440" cy="277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3778200" cy="287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692360" y="3068640"/>
            <a:ext cx="2876400" cy="345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2522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Я буквы зна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048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456000" cy="3084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227640" y="765000"/>
            <a:ext cx="2330640" cy="252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2952720" cy="2027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348000" y="1557360"/>
            <a:ext cx="2448000" cy="417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664240" y="3213000"/>
            <a:ext cx="3071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56:11Z</dcterms:created>
  <dc:creator>nscool_25</dc:creator>
  <dc:description>http://aida.ucoz.ru</dc:description>
  <dc:language>en-US</dc:language>
  <cp:lastModifiedBy>Лена</cp:lastModifiedBy>
  <dcterms:modified xsi:type="dcterms:W3CDTF">2012-02-04T17:02:39Z</dcterms:modified>
  <cp:revision>6</cp:revision>
  <dc:subject/>
  <dc:title>ОТКУДА ПРИШЛА АЗБУКА</dc:title>
</cp:coreProperties>
</file>