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429-5B52-4981-B224-3F422167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19A-CC6F-4830-9D46-31C70DFD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5573-2BAA-41B9-BE66-185C45D4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368-3CF2-4089-BED3-07D599F9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2B01-2AAF-4141-A2B2-FA86A789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F344-DA1A-4619-A168-38AD6561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1E1E-EB8C-4BD1-8E1A-48F7265E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2CD7-53F6-4832-8729-CCBD5178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28EE-403B-47BE-B90C-415AB184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92ED-8E72-4147-A030-E7E2462A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7A3B-C3D6-4922-9F9E-FCB593B3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E519-5C6B-4D5C-AE3B-B9249335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3A69-A2C5-429F-83D8-897B5A41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B9FA-CDC5-467E-9542-B3F6DF20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EFA1-6FAE-478A-8CEE-ED7BFBA3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B864-F235-423B-A5DC-09588AF8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C442-D2F3-4CD3-928D-AD18C5DC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D3E1-EA92-40B4-83CD-A26FB789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71ED-3EE5-4D8B-9C96-08F2212B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229-397F-4869-B5C6-C3A8EEA0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CEBB-BC88-4B1B-AD60-4BC116D0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BA1-7509-413E-BCEE-59A61BAF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57B4-964B-481E-94E2-D1E2E64F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CF2-4BA3-4F28-9EF9-EEE2DC57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4DE6-8892-471B-9986-3271DD3FAAF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BF9A-DBC1-443A-B431-B8F703CDE2E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Тема урока: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«Построение изображений в линзах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Цель урока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формировать практические умения применять знания о свойствах линз для нахождения изображений графическим метод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357720" y="1943280"/>
            <a:ext cx="0" cy="2950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57720" y="1943280"/>
            <a:ext cx="0" cy="2950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Назовите выделенный элемент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"/>
          <p:cNvSpPr/>
          <p:nvPr/>
        </p:nvSpPr>
        <p:spPr>
          <a:xfrm>
            <a:off x="971640" y="3357720"/>
            <a:ext cx="74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84720" y="242100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835280" y="2060280"/>
            <a:ext cx="489744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771640" y="1773000"/>
            <a:ext cx="3024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48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311640" y="3832920"/>
            <a:ext cx="7128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311640" y="4328280"/>
            <a:ext cx="7128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111640" y="2437560"/>
            <a:ext cx="7164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111640" y="2889360"/>
            <a:ext cx="71640" cy="71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111640" y="3338640"/>
            <a:ext cx="7164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311640" y="3338640"/>
            <a:ext cx="7128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67360" y="2124000"/>
            <a:ext cx="2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42360" y="3024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951280" y="288936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02360" y="342900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376280" y="446400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67000" y="4959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02000" y="342900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57720" y="3338640"/>
            <a:ext cx="7128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02360" y="4508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62360" y="158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97360" y="4059360"/>
            <a:ext cx="2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35053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02360" y="297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34120" y="2214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 rot="5400000">
            <a:off x="3733560" y="2743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251460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2666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9</a:t>
            </a: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. </a:t>
            </a: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Продолжите фразу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2209680"/>
            <a:ext cx="616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37000" y="1359000"/>
            <a:ext cx="0" cy="1620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0" y="1600200"/>
            <a:ext cx="2114640" cy="58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886280" y="239400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81280" y="236232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97000" y="4373640"/>
            <a:ext cx="697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Любой луч, проходящий через оптический центр линзы,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05320" y="2133720"/>
            <a:ext cx="75960" cy="1522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81480" y="2133720"/>
            <a:ext cx="76320" cy="1522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10</a:t>
            </a: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. </a:t>
            </a: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Продолжите фразу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81952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19720" y="213372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2743200"/>
            <a:ext cx="76320" cy="1522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34120" y="2743200"/>
            <a:ext cx="75960" cy="1522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66688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19520" y="2438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66680" y="44956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уч, падающий на линзу параллельно ее главной оптической оси, после преломления проходит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00400" y="304812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34120" y="304812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оверим ответ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– собирающая лин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– главная оптическая 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– главный фок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– побочные оптические о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– оптический цен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– фокальные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– побочные фок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– фокусное рас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- …не прелом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- …через главный фок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2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2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20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20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20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20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2000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Видеофрагмент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: </a:t>
            </a: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Изображения, получаемые с помощью собирающей линзы.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актическая час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ледуя полученным указаниям, проделайте лабораторную рабо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Тест №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lastslide"/>
          </p:cNvPr>
          <p:cNvSpPr/>
          <p:nvPr/>
        </p:nvSpPr>
        <p:spPr>
          <a:xfrm>
            <a:off x="611280" y="5408640"/>
            <a:ext cx="269640" cy="225360"/>
          </a:xfrm>
          <a:custGeom>
            <a:avLst/>
            <a:gdLst>
              <a:gd name="textAreaLeft" fmla="*/ 14400 w 269640"/>
              <a:gd name="textAreaRight" fmla="*/ 255240 w 269640"/>
              <a:gd name="textAreaTop" fmla="*/ 14400 h 225360"/>
              <a:gd name="textAreaBottom" fmla="*/ 210960 h 225360"/>
            </a:gdLst>
            <a:ahLst/>
            <a:rect l="textAreaLeft" t="textAreaTop" r="textAreaRight" b="textAreaBottom"/>
            <a:pathLst>
              <a:path w="25837" h="21600">
                <a:moveTo>
                  <a:pt x="0" y="0"/>
                </a:moveTo>
                <a:lnTo>
                  <a:pt x="25837" y="0"/>
                </a:lnTo>
                <a:lnTo>
                  <a:pt x="25837" y="21600"/>
                </a:lnTo>
                <a:lnTo>
                  <a:pt x="0" y="21600"/>
                </a:lnTo>
                <a:close/>
              </a:path>
              <a:path fill="lightenLess" w="25837" h="21600">
                <a:moveTo>
                  <a:pt x="0" y="0"/>
                </a:moveTo>
                <a:lnTo>
                  <a:pt x="25837" y="0"/>
                </a:lnTo>
                <a:lnTo>
                  <a:pt x="24437" y="1400"/>
                </a:lnTo>
                <a:lnTo>
                  <a:pt x="1400" y="1400"/>
                </a:lnTo>
                <a:close/>
              </a:path>
              <a:path fill="darken" w="25837" h="21600">
                <a:moveTo>
                  <a:pt x="25837" y="0"/>
                </a:moveTo>
                <a:lnTo>
                  <a:pt x="25837" y="21600"/>
                </a:lnTo>
                <a:lnTo>
                  <a:pt x="24437" y="20200"/>
                </a:lnTo>
                <a:lnTo>
                  <a:pt x="24437" y="1400"/>
                </a:lnTo>
                <a:close/>
              </a:path>
              <a:path fill="darkenLess" w="25837" h="21600">
                <a:moveTo>
                  <a:pt x="25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37" y="20200"/>
                </a:lnTo>
                <a:close/>
              </a:path>
              <a:path fill="lighten" w="25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37" h="21600">
                <a:moveTo>
                  <a:pt x="16418" y="10800"/>
                </a:moveTo>
                <a:lnTo>
                  <a:pt x="5912" y="17806"/>
                </a:lnTo>
                <a:lnTo>
                  <a:pt x="5912" y="3794"/>
                </a:lnTo>
                <a:close/>
              </a:path>
              <a:path fill="darken" w="25837" h="21600">
                <a:moveTo>
                  <a:pt x="18263" y="3794"/>
                </a:moveTo>
                <a:lnTo>
                  <a:pt x="18263" y="17806"/>
                </a:lnTo>
                <a:lnTo>
                  <a:pt x="19925" y="17806"/>
                </a:lnTo>
                <a:lnTo>
                  <a:pt x="19925" y="3794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На рисунке показаны главная оптическая ось ММ линзы, предмет АВ и его изображение А</a:t>
            </a:r>
            <a:r>
              <a:rPr b="1" lang="en-US" sz="10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В</a:t>
            </a:r>
            <a:r>
              <a:rPr b="1" lang="en-US" sz="1000" spc="-1" strike="noStrike">
                <a:solidFill>
                  <a:srgbClr val="006633"/>
                </a:solidFill>
                <a:latin typeface="Garamond"/>
              </a:rPr>
              <a:t>1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Определите графически положение оптического центра и фокусов линзы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4724280"/>
            <a:ext cx="6019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057400" y="35809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3581280"/>
            <a:ext cx="304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7400" y="35053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57400" y="4343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057400" y="4343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3434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791320" y="4876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90720" y="4419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15200" y="4495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lastslide"/>
          </p:cNvPr>
          <p:cNvSpPr/>
          <p:nvPr/>
        </p:nvSpPr>
        <p:spPr>
          <a:xfrm>
            <a:off x="657360" y="5769000"/>
            <a:ext cx="269640" cy="27000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70000"/>
              <a:gd name="textAreaBottom" fmla="*/ 252720 h 270000"/>
            </a:gdLst>
            <a:ahLst/>
            <a:rect l="textAreaLeft" t="textAreaTop" r="textAreaRight" b="textAreaBottom"/>
            <a:pathLst>
              <a:path w="21600" h="21629">
                <a:moveTo>
                  <a:pt x="0" y="0"/>
                </a:moveTo>
                <a:lnTo>
                  <a:pt x="21600" y="0"/>
                </a:lnTo>
                <a:lnTo>
                  <a:pt x="21600" y="21629"/>
                </a:lnTo>
                <a:lnTo>
                  <a:pt x="0" y="21629"/>
                </a:lnTo>
                <a:close/>
              </a:path>
              <a:path fill="lightenLess" w="21600" h="216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9">
                <a:moveTo>
                  <a:pt x="21600" y="0"/>
                </a:moveTo>
                <a:lnTo>
                  <a:pt x="21600" y="21629"/>
                </a:lnTo>
                <a:lnTo>
                  <a:pt x="20200" y="20229"/>
                </a:lnTo>
                <a:lnTo>
                  <a:pt x="20200" y="1400"/>
                </a:lnTo>
                <a:close/>
              </a:path>
              <a:path fill="darkenLess" w="21600" h="21629">
                <a:moveTo>
                  <a:pt x="21600" y="21629"/>
                </a:moveTo>
                <a:lnTo>
                  <a:pt x="0" y="21629"/>
                </a:lnTo>
                <a:lnTo>
                  <a:pt x="1400" y="20229"/>
                </a:lnTo>
                <a:lnTo>
                  <a:pt x="20200" y="20229"/>
                </a:lnTo>
                <a:close/>
              </a:path>
              <a:path fill="lighten" w="21600" h="21629">
                <a:moveTo>
                  <a:pt x="0" y="216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9"/>
                </a:lnTo>
                <a:close/>
              </a:path>
              <a:path fill="darken" w="21600" h="21629">
                <a:moveTo>
                  <a:pt x="14299" y="10814"/>
                </a:moveTo>
                <a:lnTo>
                  <a:pt x="3794" y="17821"/>
                </a:lnTo>
                <a:lnTo>
                  <a:pt x="3794" y="3808"/>
                </a:lnTo>
                <a:close/>
              </a:path>
              <a:path fill="darken" w="21600" h="21629">
                <a:moveTo>
                  <a:pt x="16144" y="3808"/>
                </a:moveTo>
                <a:lnTo>
                  <a:pt x="16144" y="17821"/>
                </a:lnTo>
                <a:lnTo>
                  <a:pt x="17806" y="17821"/>
                </a:lnTo>
                <a:lnTo>
                  <a:pt x="17806" y="3808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Решение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212840" y="3003480"/>
            <a:ext cx="6718320" cy="17226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2286000" y="3124080"/>
            <a:ext cx="518148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57800" y="28195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0" y="3124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3124080"/>
            <a:ext cx="11430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15000" y="38098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67280" y="41148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lastslide"/>
          </p:cNvPr>
          <p:cNvSpPr/>
          <p:nvPr/>
        </p:nvSpPr>
        <p:spPr>
          <a:xfrm>
            <a:off x="746280" y="5724360"/>
            <a:ext cx="269640" cy="27000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70000"/>
              <a:gd name="textAreaBottom" fmla="*/ 252720 h 270000"/>
            </a:gdLst>
            <a:ahLst/>
            <a:rect l="textAreaLeft" t="textAreaTop" r="textAreaRight" b="textAreaBottom"/>
            <a:pathLst>
              <a:path w="21600" h="21629">
                <a:moveTo>
                  <a:pt x="0" y="0"/>
                </a:moveTo>
                <a:lnTo>
                  <a:pt x="21600" y="0"/>
                </a:lnTo>
                <a:lnTo>
                  <a:pt x="21600" y="21629"/>
                </a:lnTo>
                <a:lnTo>
                  <a:pt x="0" y="21629"/>
                </a:lnTo>
                <a:close/>
              </a:path>
              <a:path fill="lightenLess" w="21600" h="216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9">
                <a:moveTo>
                  <a:pt x="21600" y="0"/>
                </a:moveTo>
                <a:lnTo>
                  <a:pt x="21600" y="21629"/>
                </a:lnTo>
                <a:lnTo>
                  <a:pt x="20200" y="20229"/>
                </a:lnTo>
                <a:lnTo>
                  <a:pt x="20200" y="1400"/>
                </a:lnTo>
                <a:close/>
              </a:path>
              <a:path fill="darkenLess" w="21600" h="21629">
                <a:moveTo>
                  <a:pt x="21600" y="21629"/>
                </a:moveTo>
                <a:lnTo>
                  <a:pt x="0" y="21629"/>
                </a:lnTo>
                <a:lnTo>
                  <a:pt x="1400" y="20229"/>
                </a:lnTo>
                <a:lnTo>
                  <a:pt x="20200" y="20229"/>
                </a:lnTo>
                <a:close/>
              </a:path>
              <a:path fill="lighten" w="21600" h="21629">
                <a:moveTo>
                  <a:pt x="0" y="216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9"/>
                </a:lnTo>
                <a:close/>
              </a:path>
              <a:path fill="darken" w="21600" h="21629">
                <a:moveTo>
                  <a:pt x="14299" y="10814"/>
                </a:moveTo>
                <a:lnTo>
                  <a:pt x="3794" y="17821"/>
                </a:lnTo>
                <a:lnTo>
                  <a:pt x="3794" y="3808"/>
                </a:lnTo>
                <a:close/>
              </a:path>
              <a:path fill="darken" w="21600" h="21629">
                <a:moveTo>
                  <a:pt x="16144" y="3808"/>
                </a:moveTo>
                <a:lnTo>
                  <a:pt x="16144" y="17821"/>
                </a:lnTo>
                <a:lnTo>
                  <a:pt x="17806" y="17821"/>
                </a:lnTo>
                <a:lnTo>
                  <a:pt x="17806" y="3808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Определите построением положение фокусов линзы, если задана главная оптическая ось и ход произвольного луча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441972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38280" y="32767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35053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19720" y="18288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876920" y="441972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3276720"/>
            <a:ext cx="0" cy="21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400800" y="32004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477120" y="5410080"/>
            <a:ext cx="7596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400800" y="54100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476760" y="3200400"/>
            <a:ext cx="7596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85800" y="3505320"/>
            <a:ext cx="1752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76920" y="37339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6477120" y="35812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144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07000" y="2124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>
            <a:hlinkClick r:id="" action="ppaction://hlinkshowjump?jump=lastslide"/>
          </p:cNvPr>
          <p:cNvSpPr/>
          <p:nvPr/>
        </p:nvSpPr>
        <p:spPr>
          <a:xfrm>
            <a:off x="657360" y="5724360"/>
            <a:ext cx="269640" cy="27000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70000"/>
              <a:gd name="textAreaBottom" fmla="*/ 252720 h 270000"/>
            </a:gdLst>
            <a:ahLst/>
            <a:rect l="textAreaLeft" t="textAreaTop" r="textAreaRight" b="textAreaBottom"/>
            <a:pathLst>
              <a:path w="21600" h="21629">
                <a:moveTo>
                  <a:pt x="0" y="0"/>
                </a:moveTo>
                <a:lnTo>
                  <a:pt x="21600" y="0"/>
                </a:lnTo>
                <a:lnTo>
                  <a:pt x="21600" y="21629"/>
                </a:lnTo>
                <a:lnTo>
                  <a:pt x="0" y="21629"/>
                </a:lnTo>
                <a:close/>
              </a:path>
              <a:path fill="lightenLess" w="21600" h="216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9">
                <a:moveTo>
                  <a:pt x="21600" y="0"/>
                </a:moveTo>
                <a:lnTo>
                  <a:pt x="21600" y="21629"/>
                </a:lnTo>
                <a:lnTo>
                  <a:pt x="20200" y="20229"/>
                </a:lnTo>
                <a:lnTo>
                  <a:pt x="20200" y="1400"/>
                </a:lnTo>
                <a:close/>
              </a:path>
              <a:path fill="darkenLess" w="21600" h="21629">
                <a:moveTo>
                  <a:pt x="21600" y="21629"/>
                </a:moveTo>
                <a:lnTo>
                  <a:pt x="0" y="21629"/>
                </a:lnTo>
                <a:lnTo>
                  <a:pt x="1400" y="20229"/>
                </a:lnTo>
                <a:lnTo>
                  <a:pt x="20200" y="20229"/>
                </a:lnTo>
                <a:close/>
              </a:path>
              <a:path fill="lighten" w="21600" h="21629">
                <a:moveTo>
                  <a:pt x="0" y="216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9"/>
                </a:lnTo>
                <a:close/>
              </a:path>
              <a:path fill="darken" w="21600" h="21629">
                <a:moveTo>
                  <a:pt x="14299" y="10814"/>
                </a:moveTo>
                <a:lnTo>
                  <a:pt x="3794" y="17821"/>
                </a:lnTo>
                <a:lnTo>
                  <a:pt x="3794" y="3808"/>
                </a:lnTo>
                <a:close/>
              </a:path>
              <a:path fill="darken" w="21600" h="21629">
                <a:moveTo>
                  <a:pt x="16144" y="3808"/>
                </a:moveTo>
                <a:lnTo>
                  <a:pt x="16144" y="17821"/>
                </a:lnTo>
                <a:lnTo>
                  <a:pt x="17806" y="17821"/>
                </a:lnTo>
                <a:lnTo>
                  <a:pt x="17806" y="3808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1295280" y="2238480"/>
            <a:ext cx="6343920" cy="3197160"/>
            <a:chOff x="1295280" y="2238480"/>
            <a:chExt cx="6343920" cy="3197160"/>
          </a:xfrm>
        </p:grpSpPr>
        <p:sp>
          <p:nvSpPr>
            <p:cNvPr id="390" name=""/>
            <p:cNvSpPr/>
            <p:nvPr/>
          </p:nvSpPr>
          <p:spPr>
            <a:xfrm>
              <a:off x="1455480" y="3892680"/>
              <a:ext cx="6183720" cy="1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24840" y="2238480"/>
              <a:ext cx="342000" cy="3197160"/>
            </a:xfrm>
            <a:custGeom>
              <a:avLst/>
              <a:gdLst/>
              <a:ahLst/>
              <a:rect l="l" t="t" r="r" b="b"/>
              <a:pathLst>
                <a:path w="929" h="11597">
                  <a:moveTo>
                    <a:pt x="564" y="198"/>
                  </a:moveTo>
                  <a:lnTo>
                    <a:pt x="564" y="11399"/>
                  </a:lnTo>
                  <a:lnTo>
                    <a:pt x="364" y="11399"/>
                  </a:lnTo>
                  <a:lnTo>
                    <a:pt x="364" y="198"/>
                  </a:lnTo>
                  <a:lnTo>
                    <a:pt x="564" y="198"/>
                  </a:lnTo>
                  <a:close/>
                  <a:moveTo>
                    <a:pt x="28" y="748"/>
                  </a:moveTo>
                  <a:lnTo>
                    <a:pt x="464" y="0"/>
                  </a:lnTo>
                  <a:lnTo>
                    <a:pt x="901" y="748"/>
                  </a:lnTo>
                  <a:cubicBezTo>
                    <a:pt x="929" y="796"/>
                    <a:pt x="913" y="857"/>
                    <a:pt x="865" y="885"/>
                  </a:cubicBezTo>
                  <a:cubicBezTo>
                    <a:pt x="817" y="913"/>
                    <a:pt x="756" y="897"/>
                    <a:pt x="728" y="849"/>
                  </a:cubicBezTo>
                  <a:lnTo>
                    <a:pt x="378" y="249"/>
                  </a:lnTo>
                  <a:lnTo>
                    <a:pt x="551" y="249"/>
                  </a:lnTo>
                  <a:lnTo>
                    <a:pt x="201" y="849"/>
                  </a:lnTo>
                  <a:cubicBezTo>
                    <a:pt x="173" y="897"/>
                    <a:pt x="112" y="913"/>
                    <a:pt x="64" y="885"/>
                  </a:cubicBezTo>
                  <a:cubicBezTo>
                    <a:pt x="16" y="857"/>
                    <a:pt x="0" y="796"/>
                    <a:pt x="28" y="748"/>
                  </a:cubicBezTo>
                  <a:close/>
                  <a:moveTo>
                    <a:pt x="901" y="10849"/>
                  </a:moveTo>
                  <a:lnTo>
                    <a:pt x="464" y="11597"/>
                  </a:lnTo>
                  <a:lnTo>
                    <a:pt x="28" y="10849"/>
                  </a:lnTo>
                  <a:cubicBezTo>
                    <a:pt x="0" y="10801"/>
                    <a:pt x="16" y="10740"/>
                    <a:pt x="64" y="10712"/>
                  </a:cubicBezTo>
                  <a:cubicBezTo>
                    <a:pt x="112" y="10684"/>
                    <a:pt x="173" y="10700"/>
                    <a:pt x="201" y="10748"/>
                  </a:cubicBezTo>
                  <a:lnTo>
                    <a:pt x="551" y="11348"/>
                  </a:lnTo>
                  <a:lnTo>
                    <a:pt x="378" y="11348"/>
                  </a:lnTo>
                  <a:lnTo>
                    <a:pt x="728" y="10748"/>
                  </a:lnTo>
                  <a:cubicBezTo>
                    <a:pt x="756" y="10700"/>
                    <a:pt x="817" y="10684"/>
                    <a:pt x="865" y="10712"/>
                  </a:cubicBezTo>
                  <a:cubicBezTo>
                    <a:pt x="913" y="10740"/>
                    <a:pt x="929" y="10801"/>
                    <a:pt x="901" y="10849"/>
                  </a:cubicBez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82520" y="2558880"/>
              <a:ext cx="1337040" cy="1113120"/>
            </a:xfrm>
            <a:custGeom>
              <a:avLst/>
              <a:gdLst/>
              <a:ahLst/>
              <a:rect l="l" t="t" r="r" b="b"/>
              <a:pathLst>
                <a:path w="3637" h="4037">
                  <a:moveTo>
                    <a:pt x="62" y="15"/>
                  </a:moveTo>
                  <a:lnTo>
                    <a:pt x="3439" y="3767"/>
                  </a:lnTo>
                  <a:cubicBezTo>
                    <a:pt x="3452" y="3781"/>
                    <a:pt x="3450" y="3802"/>
                    <a:pt x="3437" y="3814"/>
                  </a:cubicBezTo>
                  <a:cubicBezTo>
                    <a:pt x="3423" y="3827"/>
                    <a:pt x="3402" y="3826"/>
                    <a:pt x="3390" y="3812"/>
                  </a:cubicBezTo>
                  <a:lnTo>
                    <a:pt x="13" y="60"/>
                  </a:lnTo>
                  <a:cubicBezTo>
                    <a:pt x="0" y="46"/>
                    <a:pt x="1" y="25"/>
                    <a:pt x="15" y="13"/>
                  </a:cubicBezTo>
                  <a:cubicBezTo>
                    <a:pt x="29" y="0"/>
                    <a:pt x="50" y="1"/>
                    <a:pt x="62" y="15"/>
                  </a:cubicBezTo>
                  <a:close/>
                  <a:moveTo>
                    <a:pt x="3519" y="3606"/>
                  </a:moveTo>
                  <a:lnTo>
                    <a:pt x="3637" y="4037"/>
                  </a:lnTo>
                  <a:lnTo>
                    <a:pt x="3221" y="3874"/>
                  </a:lnTo>
                  <a:lnTo>
                    <a:pt x="3519" y="3606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95280" y="2538360"/>
              <a:ext cx="3400200" cy="592200"/>
            </a:xfrm>
            <a:custGeom>
              <a:avLst/>
              <a:gdLst/>
              <a:ahLst/>
              <a:rect l="l" t="t" r="r" b="b"/>
              <a:pathLst>
                <a:path w="9236" h="2147">
                  <a:moveTo>
                    <a:pt x="29" y="2078"/>
                  </a:moveTo>
                  <a:lnTo>
                    <a:pt x="8904" y="149"/>
                  </a:lnTo>
                  <a:cubicBezTo>
                    <a:pt x="8922" y="145"/>
                    <a:pt x="8939" y="156"/>
                    <a:pt x="8943" y="174"/>
                  </a:cubicBezTo>
                  <a:cubicBezTo>
                    <a:pt x="8947" y="192"/>
                    <a:pt x="8936" y="210"/>
                    <a:pt x="8918" y="214"/>
                  </a:cubicBezTo>
                  <a:lnTo>
                    <a:pt x="44" y="2143"/>
                  </a:lnTo>
                  <a:cubicBezTo>
                    <a:pt x="26" y="2147"/>
                    <a:pt x="8" y="2136"/>
                    <a:pt x="4" y="2118"/>
                  </a:cubicBezTo>
                  <a:cubicBezTo>
                    <a:pt x="0" y="2100"/>
                    <a:pt x="11" y="2082"/>
                    <a:pt x="29" y="2078"/>
                  </a:cubicBezTo>
                  <a:close/>
                  <a:moveTo>
                    <a:pt x="8803" y="0"/>
                  </a:moveTo>
                  <a:lnTo>
                    <a:pt x="9236" y="110"/>
                  </a:lnTo>
                  <a:lnTo>
                    <a:pt x="8888" y="391"/>
                  </a:lnTo>
                  <a:lnTo>
                    <a:pt x="880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41280" y="27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Решение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295280" y="3429000"/>
            <a:ext cx="62485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12000" y="2124000"/>
            <a:ext cx="0" cy="33530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943600" y="388620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67360" y="3789360"/>
            <a:ext cx="76320" cy="152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357720" y="3789360"/>
            <a:ext cx="75960" cy="152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22720" y="333864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58080" y="40147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" action="ppaction://hlinkshowjump?jump=lastslide"/>
          </p:cNvPr>
          <p:cNvSpPr/>
          <p:nvPr/>
        </p:nvSpPr>
        <p:spPr>
          <a:xfrm>
            <a:off x="611280" y="5724360"/>
            <a:ext cx="269640" cy="225720"/>
          </a:xfrm>
          <a:custGeom>
            <a:avLst/>
            <a:gdLst>
              <a:gd name="textAreaLeft" fmla="*/ 14400 w 269640"/>
              <a:gd name="textAreaRight" fmla="*/ 255240 w 269640"/>
              <a:gd name="textAreaTop" fmla="*/ 14400 h 225720"/>
              <a:gd name="textAreaBottom" fmla="*/ 211320 h 225720"/>
            </a:gdLst>
            <a:ahLst/>
            <a:rect l="textAreaLeft" t="textAreaTop" r="textAreaRight" b="textAreaBottom"/>
            <a:pathLst>
              <a:path w="25796" h="21600">
                <a:moveTo>
                  <a:pt x="0" y="0"/>
                </a:moveTo>
                <a:lnTo>
                  <a:pt x="25796" y="0"/>
                </a:lnTo>
                <a:lnTo>
                  <a:pt x="25796" y="21600"/>
                </a:lnTo>
                <a:lnTo>
                  <a:pt x="0" y="21600"/>
                </a:lnTo>
                <a:close/>
              </a:path>
              <a:path fill="lightenLess" w="25796" h="21600">
                <a:moveTo>
                  <a:pt x="0" y="0"/>
                </a:moveTo>
                <a:lnTo>
                  <a:pt x="25796" y="0"/>
                </a:lnTo>
                <a:lnTo>
                  <a:pt x="24396" y="1400"/>
                </a:lnTo>
                <a:lnTo>
                  <a:pt x="1400" y="1400"/>
                </a:lnTo>
                <a:close/>
              </a:path>
              <a:path fill="darken" w="25796" h="21600">
                <a:moveTo>
                  <a:pt x="25796" y="0"/>
                </a:moveTo>
                <a:lnTo>
                  <a:pt x="25796" y="21600"/>
                </a:lnTo>
                <a:lnTo>
                  <a:pt x="24396" y="20200"/>
                </a:lnTo>
                <a:lnTo>
                  <a:pt x="24396" y="1400"/>
                </a:lnTo>
                <a:close/>
              </a:path>
              <a:path fill="darkenLess" w="25796" h="21600">
                <a:moveTo>
                  <a:pt x="25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6" y="20200"/>
                </a:lnTo>
                <a:close/>
              </a:path>
              <a:path fill="lighten" w="25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6" h="21600">
                <a:moveTo>
                  <a:pt x="16397" y="10800"/>
                </a:moveTo>
                <a:lnTo>
                  <a:pt x="5892" y="17806"/>
                </a:lnTo>
                <a:lnTo>
                  <a:pt x="5892" y="3794"/>
                </a:lnTo>
                <a:close/>
              </a:path>
              <a:path fill="darken" w="25796" h="21600">
                <a:moveTo>
                  <a:pt x="18242" y="3794"/>
                </a:moveTo>
                <a:lnTo>
                  <a:pt x="18242" y="17806"/>
                </a:lnTo>
                <a:lnTo>
                  <a:pt x="19905" y="17806"/>
                </a:lnTo>
                <a:lnTo>
                  <a:pt x="19905" y="3794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Видеофрагмент: </a:t>
            </a: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Изображение пламени свечи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1640" y="233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Решение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467000" y="2033640"/>
            <a:ext cx="6119640" cy="40053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106640" y="3384720"/>
            <a:ext cx="6526080" cy="14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545920" y="3654360"/>
            <a:ext cx="180180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7000" y="2124000"/>
            <a:ext cx="0" cy="3735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762360" y="4059360"/>
            <a:ext cx="76320" cy="152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976640" y="4059360"/>
            <a:ext cx="76320" cy="152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357720" y="43290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42000" y="35640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" action="ppaction://hlinkshowjump?jump=lastslide"/>
          </p:cNvPr>
          <p:cNvSpPr/>
          <p:nvPr/>
        </p:nvSpPr>
        <p:spPr>
          <a:xfrm>
            <a:off x="792000" y="5769000"/>
            <a:ext cx="223920" cy="225360"/>
          </a:xfrm>
          <a:custGeom>
            <a:avLst/>
            <a:gdLst>
              <a:gd name="textAreaLeft" fmla="*/ 14400 w 223920"/>
              <a:gd name="textAreaRight" fmla="*/ 209520 w 223920"/>
              <a:gd name="textAreaTop" fmla="*/ 14400 h 225360"/>
              <a:gd name="textAreaBottom" fmla="*/ 210960 h 225360"/>
            </a:gdLst>
            <a:ahLst/>
            <a:rect l="textAreaLeft" t="textAreaTop" r="textAreaRight" b="textAreaBottom"/>
            <a:pathLst>
              <a:path w="21600" h="21739">
                <a:moveTo>
                  <a:pt x="0" y="0"/>
                </a:moveTo>
                <a:lnTo>
                  <a:pt x="21600" y="0"/>
                </a:lnTo>
                <a:lnTo>
                  <a:pt x="21600" y="21739"/>
                </a:lnTo>
                <a:lnTo>
                  <a:pt x="0" y="21739"/>
                </a:lnTo>
                <a:close/>
              </a:path>
              <a:path fill="lightenLess" w="21600" h="217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9">
                <a:moveTo>
                  <a:pt x="21600" y="0"/>
                </a:moveTo>
                <a:lnTo>
                  <a:pt x="21600" y="21739"/>
                </a:lnTo>
                <a:lnTo>
                  <a:pt x="20200" y="20339"/>
                </a:lnTo>
                <a:lnTo>
                  <a:pt x="20200" y="1400"/>
                </a:lnTo>
                <a:close/>
              </a:path>
              <a:path fill="darkenLess" w="21600" h="21739">
                <a:moveTo>
                  <a:pt x="21600" y="21739"/>
                </a:moveTo>
                <a:lnTo>
                  <a:pt x="0" y="21739"/>
                </a:lnTo>
                <a:lnTo>
                  <a:pt x="1400" y="20339"/>
                </a:lnTo>
                <a:lnTo>
                  <a:pt x="20200" y="20339"/>
                </a:lnTo>
                <a:close/>
              </a:path>
              <a:path fill="lighten" w="21600" h="21739">
                <a:moveTo>
                  <a:pt x="0" y="217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9"/>
                </a:lnTo>
                <a:close/>
              </a:path>
              <a:path fill="darken" w="21600" h="21739">
                <a:moveTo>
                  <a:pt x="14299" y="10869"/>
                </a:moveTo>
                <a:lnTo>
                  <a:pt x="3794" y="17876"/>
                </a:lnTo>
                <a:lnTo>
                  <a:pt x="3794" y="3863"/>
                </a:lnTo>
                <a:close/>
              </a:path>
              <a:path fill="darken" w="21600" h="21739">
                <a:moveTo>
                  <a:pt x="16144" y="3863"/>
                </a:moveTo>
                <a:lnTo>
                  <a:pt x="16144" y="17876"/>
                </a:lnTo>
                <a:lnTo>
                  <a:pt x="17806" y="17876"/>
                </a:lnTo>
                <a:lnTo>
                  <a:pt x="17806" y="3863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31640" y="414360"/>
            <a:ext cx="82296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На рисунке показано положение предмета АВ и его изображения А</a:t>
            </a:r>
            <a:r>
              <a:rPr b="1" lang="en-US" sz="10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В</a:t>
            </a:r>
            <a:r>
              <a:rPr b="1" lang="en-US" sz="10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. Найдите построением положение линзы и расположение ее фокусов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308320" y="3176280"/>
            <a:ext cx="749160" cy="95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98880" y="3100320"/>
            <a:ext cx="1049400" cy="1513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384280" y="4091040"/>
            <a:ext cx="3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22920" y="2643120"/>
            <a:ext cx="6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41640" y="2798640"/>
            <a:ext cx="6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058080" y="4417920"/>
            <a:ext cx="59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lastslide"/>
          </p:cNvPr>
          <p:cNvSpPr/>
          <p:nvPr/>
        </p:nvSpPr>
        <p:spPr>
          <a:xfrm>
            <a:off x="611280" y="5769000"/>
            <a:ext cx="271440" cy="270000"/>
          </a:xfrm>
          <a:custGeom>
            <a:avLst/>
            <a:gdLst>
              <a:gd name="textAreaLeft" fmla="*/ 17280 w 271440"/>
              <a:gd name="textAreaRight" fmla="*/ 254160 w 271440"/>
              <a:gd name="textAreaTop" fmla="*/ 17280 h 270000"/>
              <a:gd name="textAreaBottom" fmla="*/ 252720 h 270000"/>
            </a:gdLst>
            <a:ahLst/>
            <a:rect l="textAreaLeft" t="textAreaTop" r="textAreaRight" b="textAreaBottom"/>
            <a:pathLst>
              <a:path w="21715" h="21600">
                <a:moveTo>
                  <a:pt x="0" y="0"/>
                </a:moveTo>
                <a:lnTo>
                  <a:pt x="21715" y="0"/>
                </a:lnTo>
                <a:lnTo>
                  <a:pt x="21715" y="21600"/>
                </a:lnTo>
                <a:lnTo>
                  <a:pt x="0" y="21600"/>
                </a:lnTo>
                <a:close/>
              </a:path>
              <a:path fill="lightenLess" w="21715" h="21600">
                <a:moveTo>
                  <a:pt x="0" y="0"/>
                </a:moveTo>
                <a:lnTo>
                  <a:pt x="21715" y="0"/>
                </a:lnTo>
                <a:lnTo>
                  <a:pt x="20315" y="1400"/>
                </a:lnTo>
                <a:lnTo>
                  <a:pt x="1400" y="1400"/>
                </a:lnTo>
                <a:close/>
              </a:path>
              <a:path fill="darken" w="21715" h="21600">
                <a:moveTo>
                  <a:pt x="21715" y="0"/>
                </a:moveTo>
                <a:lnTo>
                  <a:pt x="21715" y="21600"/>
                </a:lnTo>
                <a:lnTo>
                  <a:pt x="20315" y="20200"/>
                </a:lnTo>
                <a:lnTo>
                  <a:pt x="20315" y="1400"/>
                </a:lnTo>
                <a:close/>
              </a:path>
              <a:path fill="darkenLess" w="21715" h="21600">
                <a:moveTo>
                  <a:pt x="2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15" y="20200"/>
                </a:lnTo>
                <a:close/>
              </a:path>
              <a:path fill="lighten" w="2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15" h="21600">
                <a:moveTo>
                  <a:pt x="14356" y="10800"/>
                </a:moveTo>
                <a:lnTo>
                  <a:pt x="3851" y="17806"/>
                </a:lnTo>
                <a:lnTo>
                  <a:pt x="3851" y="3794"/>
                </a:lnTo>
                <a:close/>
              </a:path>
              <a:path fill="darken" w="21715" h="21600">
                <a:moveTo>
                  <a:pt x="16202" y="3794"/>
                </a:moveTo>
                <a:lnTo>
                  <a:pt x="16202" y="17806"/>
                </a:lnTo>
                <a:lnTo>
                  <a:pt x="17864" y="17806"/>
                </a:lnTo>
                <a:lnTo>
                  <a:pt x="17864" y="3794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Решение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2308320" y="3176280"/>
            <a:ext cx="749160" cy="95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98880" y="3100320"/>
            <a:ext cx="1049400" cy="1513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384280" y="4091040"/>
            <a:ext cx="3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22920" y="2643120"/>
            <a:ext cx="6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041640" y="2798640"/>
            <a:ext cx="6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58080" y="4417920"/>
            <a:ext cx="59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276640" y="2123640"/>
            <a:ext cx="4995720" cy="202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041640" y="3203640"/>
            <a:ext cx="373536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422360" y="3564000"/>
            <a:ext cx="675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762360" y="2438280"/>
            <a:ext cx="0" cy="2205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041640" y="3203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62360" y="3203640"/>
            <a:ext cx="3149640" cy="202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22360" y="4103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762360" y="2168280"/>
            <a:ext cx="2114640" cy="193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392720" y="365436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302000" y="3473280"/>
            <a:ext cx="76320" cy="152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32000" y="3473280"/>
            <a:ext cx="76320" cy="152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6280" y="365436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" action="ppaction://hlinkshowjump?jump=lastslide"/>
          </p:cNvPr>
          <p:cNvSpPr/>
          <p:nvPr/>
        </p:nvSpPr>
        <p:spPr>
          <a:xfrm>
            <a:off x="657360" y="5724360"/>
            <a:ext cx="223560" cy="271800"/>
          </a:xfrm>
          <a:custGeom>
            <a:avLst/>
            <a:gdLst>
              <a:gd name="textAreaLeft" fmla="*/ 14400 w 223560"/>
              <a:gd name="textAreaRight" fmla="*/ 209160 w 223560"/>
              <a:gd name="textAreaTop" fmla="*/ 14400 h 271800"/>
              <a:gd name="textAreaBottom" fmla="*/ 257400 h 271800"/>
            </a:gdLst>
            <a:ahLst/>
            <a:rect l="textAreaLeft" t="textAreaTop" r="textAreaRight" b="textAreaBottom"/>
            <a:pathLst>
              <a:path w="21600" h="26253">
                <a:moveTo>
                  <a:pt x="0" y="0"/>
                </a:moveTo>
                <a:lnTo>
                  <a:pt x="21600" y="0"/>
                </a:lnTo>
                <a:lnTo>
                  <a:pt x="21600" y="26253"/>
                </a:lnTo>
                <a:lnTo>
                  <a:pt x="0" y="26253"/>
                </a:lnTo>
                <a:close/>
              </a:path>
              <a:path fill="lightenLess" w="21600" h="262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53">
                <a:moveTo>
                  <a:pt x="21600" y="0"/>
                </a:moveTo>
                <a:lnTo>
                  <a:pt x="21600" y="26253"/>
                </a:lnTo>
                <a:lnTo>
                  <a:pt x="20200" y="24853"/>
                </a:lnTo>
                <a:lnTo>
                  <a:pt x="20200" y="1400"/>
                </a:lnTo>
                <a:close/>
              </a:path>
              <a:path fill="darkenLess" w="21600" h="26253">
                <a:moveTo>
                  <a:pt x="21600" y="26253"/>
                </a:moveTo>
                <a:lnTo>
                  <a:pt x="0" y="26253"/>
                </a:lnTo>
                <a:lnTo>
                  <a:pt x="1400" y="24853"/>
                </a:lnTo>
                <a:lnTo>
                  <a:pt x="20200" y="24853"/>
                </a:lnTo>
                <a:close/>
              </a:path>
              <a:path fill="lighten" w="21600" h="26253">
                <a:moveTo>
                  <a:pt x="0" y="262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53"/>
                </a:lnTo>
                <a:close/>
              </a:path>
              <a:path fill="darken" w="21600" h="26253">
                <a:moveTo>
                  <a:pt x="14299" y="13127"/>
                </a:moveTo>
                <a:lnTo>
                  <a:pt x="3794" y="20133"/>
                </a:lnTo>
                <a:lnTo>
                  <a:pt x="3794" y="6120"/>
                </a:lnTo>
                <a:close/>
              </a:path>
              <a:path fill="darken" w="21600" h="26253">
                <a:moveTo>
                  <a:pt x="16144" y="6120"/>
                </a:moveTo>
                <a:lnTo>
                  <a:pt x="16144" y="20133"/>
                </a:lnTo>
                <a:lnTo>
                  <a:pt x="17806" y="20133"/>
                </a:lnTo>
                <a:lnTo>
                  <a:pt x="17806" y="612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85920" y="1584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681200" indent="-339840">
              <a:spcBef>
                <a:spcPts val="1001"/>
              </a:spcBef>
              <a:buClr>
                <a:srgbClr val="000000"/>
              </a:buClr>
              <a:buSzPct val="75000"/>
              <a:buFont typeface="Times New Roman"/>
              <a:buChar char="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 №146, №1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 на постро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0" y="37576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9029880" y="25858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5105520" y="276984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446" name="">
            <a:hlinkClick r:id="" action="ppaction://hlinkshowjump?jump=previousslide"/>
          </p:cNvPr>
          <p:cNvSpPr/>
          <p:nvPr/>
        </p:nvSpPr>
        <p:spPr>
          <a:xfrm>
            <a:off x="522360" y="5769000"/>
            <a:ext cx="269640" cy="27000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70000"/>
              <a:gd name="textAreaBottom" fmla="*/ 252720 h 270000"/>
            </a:gdLst>
            <a:ahLst/>
            <a:rect l="textAreaLeft" t="textAreaTop" r="textAreaRight" b="textAreaBottom"/>
            <a:pathLst>
              <a:path w="21600" h="21629">
                <a:moveTo>
                  <a:pt x="0" y="0"/>
                </a:moveTo>
                <a:lnTo>
                  <a:pt x="21600" y="0"/>
                </a:lnTo>
                <a:lnTo>
                  <a:pt x="21600" y="21629"/>
                </a:lnTo>
                <a:lnTo>
                  <a:pt x="0" y="21629"/>
                </a:lnTo>
                <a:close/>
              </a:path>
              <a:path fill="lightenLess" w="21600" h="216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9">
                <a:moveTo>
                  <a:pt x="21600" y="0"/>
                </a:moveTo>
                <a:lnTo>
                  <a:pt x="21600" y="21629"/>
                </a:lnTo>
                <a:lnTo>
                  <a:pt x="20200" y="20229"/>
                </a:lnTo>
                <a:lnTo>
                  <a:pt x="20200" y="1400"/>
                </a:lnTo>
                <a:close/>
              </a:path>
              <a:path fill="darkenLess" w="21600" h="21629">
                <a:moveTo>
                  <a:pt x="21600" y="21629"/>
                </a:moveTo>
                <a:lnTo>
                  <a:pt x="0" y="21629"/>
                </a:lnTo>
                <a:lnTo>
                  <a:pt x="1400" y="20229"/>
                </a:lnTo>
                <a:lnTo>
                  <a:pt x="20200" y="20229"/>
                </a:lnTo>
                <a:close/>
              </a:path>
              <a:path fill="lighten" w="21600" h="21629">
                <a:moveTo>
                  <a:pt x="0" y="216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9"/>
                </a:lnTo>
                <a:close/>
              </a:path>
              <a:path fill="darken" w="21600" h="21629">
                <a:moveTo>
                  <a:pt x="3794" y="7507"/>
                </a:moveTo>
                <a:lnTo>
                  <a:pt x="7301" y="7507"/>
                </a:lnTo>
                <a:lnTo>
                  <a:pt x="7301" y="12842"/>
                </a:lnTo>
                <a:cubicBezTo>
                  <a:pt x="7301" y="13765"/>
                  <a:pt x="8102" y="14496"/>
                  <a:pt x="9138" y="14496"/>
                </a:cubicBezTo>
                <a:lnTo>
                  <a:pt x="10800" y="14496"/>
                </a:lnTo>
                <a:cubicBezTo>
                  <a:pt x="11836" y="14496"/>
                  <a:pt x="12636" y="13765"/>
                  <a:pt x="12636" y="12842"/>
                </a:cubicBezTo>
                <a:lnTo>
                  <a:pt x="12636" y="7507"/>
                </a:lnTo>
                <a:lnTo>
                  <a:pt x="10800" y="7507"/>
                </a:lnTo>
                <a:lnTo>
                  <a:pt x="14308" y="3999"/>
                </a:lnTo>
                <a:lnTo>
                  <a:pt x="17981" y="7507"/>
                </a:lnTo>
                <a:lnTo>
                  <a:pt x="16144" y="7507"/>
                </a:lnTo>
                <a:lnTo>
                  <a:pt x="16144" y="12842"/>
                </a:lnTo>
                <a:cubicBezTo>
                  <a:pt x="16144" y="15610"/>
                  <a:pt x="13568" y="18169"/>
                  <a:pt x="10800" y="18169"/>
                </a:cubicBezTo>
                <a:lnTo>
                  <a:pt x="9138" y="18169"/>
                </a:lnTo>
                <a:cubicBezTo>
                  <a:pt x="6370" y="18169"/>
                  <a:pt x="3794" y="15610"/>
                  <a:pt x="3794" y="12842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357720" y="1943280"/>
            <a:ext cx="0" cy="2950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57720" y="1943280"/>
            <a:ext cx="0" cy="2950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Назовите выделенный элемент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3357720"/>
            <a:ext cx="74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242100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835280" y="2060280"/>
            <a:ext cx="489744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71640" y="1773000"/>
            <a:ext cx="3024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11640" y="3832920"/>
            <a:ext cx="7128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311640" y="4328280"/>
            <a:ext cx="7128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111640" y="2437560"/>
            <a:ext cx="7164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111640" y="2889360"/>
            <a:ext cx="71640" cy="71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111640" y="3338640"/>
            <a:ext cx="7164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311640" y="3338640"/>
            <a:ext cx="7128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67360" y="2124000"/>
            <a:ext cx="2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42360" y="3024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51280" y="288936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02360" y="342900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6280" y="446400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67000" y="4959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02000" y="342900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257720" y="3338640"/>
            <a:ext cx="7128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02360" y="4508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62360" y="158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97360" y="405936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97360" y="351936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02360" y="297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02360" y="221472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357720" y="1943280"/>
            <a:ext cx="0" cy="2950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57720" y="1943280"/>
            <a:ext cx="0" cy="2950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Назовите выделенный элемент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3357720"/>
            <a:ext cx="74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84720" y="242100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835280" y="2060280"/>
            <a:ext cx="489744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771640" y="1773000"/>
            <a:ext cx="3024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311640" y="3832920"/>
            <a:ext cx="7128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311640" y="4328280"/>
            <a:ext cx="7128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111640" y="2437560"/>
            <a:ext cx="7164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111640" y="2889360"/>
            <a:ext cx="71640" cy="71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111640" y="3338640"/>
            <a:ext cx="7164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11640" y="3338640"/>
            <a:ext cx="7128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67360" y="2124000"/>
            <a:ext cx="2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42360" y="3024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51280" y="288936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02360" y="342900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76280" y="446400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67000" y="4959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02000" y="342900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257720" y="3338640"/>
            <a:ext cx="7128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02360" y="4508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62360" y="158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97360" y="405936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97360" y="351936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02360" y="297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02360" y="221472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357720" y="1943280"/>
            <a:ext cx="0" cy="2950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57720" y="1943280"/>
            <a:ext cx="0" cy="2950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Назовите выделенный элемент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3357720"/>
            <a:ext cx="74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242100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835280" y="2060280"/>
            <a:ext cx="489744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771640" y="1773000"/>
            <a:ext cx="3024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311640" y="3832920"/>
            <a:ext cx="7128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311640" y="4328280"/>
            <a:ext cx="7128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111640" y="2437560"/>
            <a:ext cx="7164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111640" y="2889360"/>
            <a:ext cx="71640" cy="71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105520" y="3351960"/>
            <a:ext cx="71280" cy="71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11640" y="3338640"/>
            <a:ext cx="7128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67360" y="2124000"/>
            <a:ext cx="2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42360" y="3024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51280" y="288936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02360" y="342900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76280" y="446400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7000" y="4959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02000" y="342900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257720" y="3338640"/>
            <a:ext cx="7128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02360" y="4508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62360" y="158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97360" y="405936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97360" y="351936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2971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2360" y="221472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357720" y="1943280"/>
            <a:ext cx="0" cy="2950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57720" y="1943280"/>
            <a:ext cx="0" cy="2950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Назовите выделенный элемент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"/>
          <p:cNvSpPr/>
          <p:nvPr/>
        </p:nvSpPr>
        <p:spPr>
          <a:xfrm>
            <a:off x="971640" y="3357720"/>
            <a:ext cx="74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242100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835280" y="2060280"/>
            <a:ext cx="489744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771640" y="1773000"/>
            <a:ext cx="3024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311640" y="3832920"/>
            <a:ext cx="7128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11640" y="4328280"/>
            <a:ext cx="7128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11640" y="2437560"/>
            <a:ext cx="7164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111640" y="2889360"/>
            <a:ext cx="71640" cy="71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111640" y="3338640"/>
            <a:ext cx="7164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311640" y="3338640"/>
            <a:ext cx="7128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67360" y="2124000"/>
            <a:ext cx="2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42360" y="3024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51280" y="288936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02360" y="342900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6280" y="446400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7000" y="4959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02000" y="342900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257720" y="3338640"/>
            <a:ext cx="7128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02360" y="4508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62360" y="158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97360" y="405936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97360" y="351936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02360" y="297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02360" y="221472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357720" y="1943280"/>
            <a:ext cx="0" cy="2950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57720" y="1943280"/>
            <a:ext cx="0" cy="2950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Назовите выделенный элемент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3357720"/>
            <a:ext cx="74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4720" y="242100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835280" y="2060280"/>
            <a:ext cx="489744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771640" y="1773000"/>
            <a:ext cx="3024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11640" y="3832920"/>
            <a:ext cx="7128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311640" y="4328280"/>
            <a:ext cx="7128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111640" y="2437560"/>
            <a:ext cx="7164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111640" y="2889360"/>
            <a:ext cx="71640" cy="71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111640" y="3338640"/>
            <a:ext cx="7164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311640" y="3338640"/>
            <a:ext cx="7128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67360" y="2124000"/>
            <a:ext cx="2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42360" y="3024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51280" y="288936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02360" y="342900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76280" y="446400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67000" y="4959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02000" y="342900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257720" y="3338640"/>
            <a:ext cx="7128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02360" y="4508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62360" y="158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97360" y="405936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97360" y="351936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02360" y="297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02360" y="221472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357720" y="1943280"/>
            <a:ext cx="0" cy="2950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57720" y="1943280"/>
            <a:ext cx="0" cy="2950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Назовите выделенный элемент</a:t>
            </a: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3357720"/>
            <a:ext cx="74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84720" y="242100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835280" y="2060280"/>
            <a:ext cx="489744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771640" y="1773000"/>
            <a:ext cx="3024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48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311640" y="3832920"/>
            <a:ext cx="7128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311640" y="4328280"/>
            <a:ext cx="7128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11640" y="2437560"/>
            <a:ext cx="7164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111640" y="2889360"/>
            <a:ext cx="71640" cy="71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111640" y="3338640"/>
            <a:ext cx="7164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311640" y="3338640"/>
            <a:ext cx="7128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67360" y="2124000"/>
            <a:ext cx="2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2360" y="3024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51280" y="288936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02360" y="342900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76280" y="446400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67000" y="4959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02000" y="342900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257720" y="3338640"/>
            <a:ext cx="7128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02360" y="4508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62360" y="158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97360" y="405936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97360" y="351936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02360" y="297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02360" y="221472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357720" y="1943280"/>
            <a:ext cx="0" cy="2950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57720" y="1943280"/>
            <a:ext cx="0" cy="2950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Назовите выделенный элемент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"/>
          <p:cNvSpPr/>
          <p:nvPr/>
        </p:nvSpPr>
        <p:spPr>
          <a:xfrm>
            <a:off x="971640" y="3357720"/>
            <a:ext cx="74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84720" y="242100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835280" y="2060280"/>
            <a:ext cx="489744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771640" y="1773000"/>
            <a:ext cx="3024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48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311640" y="3832920"/>
            <a:ext cx="7128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311640" y="4328280"/>
            <a:ext cx="7128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111640" y="2437560"/>
            <a:ext cx="71640" cy="71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111640" y="2889360"/>
            <a:ext cx="71640" cy="71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111640" y="3338640"/>
            <a:ext cx="7164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311640" y="3338640"/>
            <a:ext cx="7128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67360" y="2124000"/>
            <a:ext cx="2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42360" y="3024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51280" y="288936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02360" y="342900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376280" y="446400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367000" y="4959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02000" y="342900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257720" y="3338640"/>
            <a:ext cx="7128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02360" y="4508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62360" y="158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97360" y="4059360"/>
            <a:ext cx="2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35053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02360" y="297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34120" y="2214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tya_rain</cp:lastModifiedBy>
  <dcterms:modified xsi:type="dcterms:W3CDTF">2007-04-17T16:56:0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