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6C3-2CD4-4BAE-9935-9EAA7306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328-25B2-48C9-92FA-654E0BC7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CC0-9641-40F9-98B8-22DB9CA2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A2F-C9AB-4629-854D-2719B1A4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1E44-6234-4A0E-ABB1-37495BB7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358C-17F3-463D-AF0A-294234A9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E7A8-7C4C-427B-B48A-22F15C2E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C6A4-8AB3-4117-9BA7-72163B18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5B80-DBCA-48CE-9B00-AA8CEF48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0CAA-92C7-47A2-93A9-FA5BD20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FE5E-0B3F-400A-B421-AE5C551C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5E8-CBDF-4F44-8D8E-DD93E38B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DF1C-7602-4197-A8D2-37B0080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E54E-1D4B-4C64-ABED-12721E19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0212-AC2F-4716-888F-2FEB9F1F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CFFC-E978-4555-AECC-E636DB1D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632C-BF16-4F00-A037-7E6F3827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AC95-6135-4A58-8FFD-45EA66E2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7475-0B9E-4EAC-B371-88ACE86B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C39E-086A-4253-8BF5-BBF02FA6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559F-4110-40D5-9EDF-A04512E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F1AC-21AD-4993-A2E2-1304BE70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AE9-3C0A-448E-9BA1-F6D0DFD8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86DD-CF6A-4ACF-889D-3FBCE58A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7052-67A0-463A-8E76-1F9FC177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FDF9-1799-4CFB-A33B-5CBC8D3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6B0A-174D-45CF-BAAB-1F2FCF2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0C39-45E2-447F-ABEE-DCC8799D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8C3C-6EA2-4D34-BF50-4CEB2776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C5B2-8E2B-41E5-8ED3-EA69869A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19E9-0F25-4144-ABBD-36F2384F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1339-6CA6-47DC-9D27-D1584768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7998-03D6-4D62-87DA-C2DCCBE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223-9EFA-4DFB-977D-AFC2B2F3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B63A-3C27-4979-A238-CB69F5F6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B1B95-9730-4410-8594-AC82E75B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0DECD-C944-4D48-9725-8F3F27B6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2C4C-7C45-41F5-9835-A777BBAE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B7EC-BA5D-434E-80BF-775B0B2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5E43-28AF-4D5F-9175-0E8D716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6F73-B41C-4E92-9357-E0965253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791DA-CF4C-47C2-86FB-156469D8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FF7C-DC72-46CD-9B51-0A115327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F2272-318E-42BE-B244-02EFBA4A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494-BB2A-4681-8FC3-B5F4B58C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0BBC1-B3EE-4757-A032-918A101C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1C67E-C8ED-4F7C-97A4-3A16B171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0B5E0-9D45-459A-BA7D-0D1852E3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0FD8D-3E04-4990-B690-946EC1AF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945CB-A206-4220-8737-C848D674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D19CF-88F7-4679-9ED5-2E967D1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84F2D-A627-4879-98E4-8D9028A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C4939-8993-407C-9A15-00DE0FE7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A3EC3-A8A5-4F82-8D2A-9A518832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CB72D-FDB5-46F5-B359-BB11D85C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D5E-B90A-4EC8-B7EC-B0EEF568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1501E-AC2F-4CBF-9F2A-C997F138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74D0-84DA-403F-BAFB-2EC787F4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C7AAE-9FC3-47E3-87FC-E0FCA084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0A3A-0A63-4B16-A2FF-A36FFDB1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78328-EF2B-4E54-B310-ABF7A35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6CF48-DD19-4913-8C60-4593ED9C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8997-82B0-44FC-B513-3A6AF3FA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A83F3-9C09-4C3B-8243-47A72273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620A9-2486-4ECE-85A1-89121068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79978-7EE0-4F50-BC8A-2DCE218E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829-367F-43EB-9F88-7CB903A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54974-7476-47CB-B6AF-2862B99E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7F116-8693-4616-86E7-56CE8183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3BB45-9EAC-4F14-951B-534A660E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60794-FFA5-4CB7-872E-B46581B7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FB3DF-62B4-494A-A58F-847CA5DA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BAAEF-8225-419C-BF3D-1DE6DECA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E960A-592F-4153-A4AF-C148D0CF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72AD9-B5F6-490D-BD79-6A31F9C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DD54B-2B45-4A4E-B028-4847DA69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D01AE-356D-4069-9272-3CA02CDA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0A1-3467-4863-99D2-D61759A8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8C94A-00E4-436E-80D5-2E52FCCA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0875C-C271-4D6E-936B-7328D089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370A6-67DF-4582-90D2-D5401F15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3093-7FBF-442A-B741-4036C9AC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1C80C-C42D-483B-888E-D76A2BCC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079AF-8D20-4F1C-A7C0-8627EA6D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ADB00-4144-4F23-B2C8-25C4BAD0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3B37E-1100-4AB8-BBDA-7E7F5E31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74EFD-568C-4C46-AC6A-8872209B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866DD-4201-4CB8-A4B5-2A00D7F2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9D7-6AF2-4D5B-BB55-F8863495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E3CC4-DD43-415F-994A-6A14B70B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1FF4A-E33F-48B8-8069-63F61D3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D42B8-2631-4761-8C85-45C8393C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2ABDC-0FD0-45DA-B10B-AEBA9493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E62C6-F536-47C2-AC25-4327D71D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FEA1E-EDDA-445B-ABF4-AC86179F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70122-93FB-4CEE-AC67-70F165D6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14A2-6C1B-43F4-9BCF-569A84D6E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9CE4-AAAC-4B81-B540-7DD84D6B82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71BA-0BA2-4AD5-B1EF-EF73B2FE4F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1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1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2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982B-B399-4300-AF9B-DFF9C57564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316D-6DCB-4EA2-BD6F-E92014E330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7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2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CD69-A0D0-4F6D-88EF-2FE447AE31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DCD0-E96D-4976-B50B-AD20812542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BF59-E983-4145-AD9E-C3E8A73AF28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187280" y="2133720"/>
            <a:ext cx="748836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най свои права.</a:t>
            </a:r>
            <a:endParaRPr b="1" i="1" lang="en-US" sz="1800" spc="1" strike="noStrike">
              <a:ln w="0">
                <a:noFill/>
              </a:ln>
              <a:solidFill>
                <a:srgbClr val="9900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rcRect l="0" t="23071" r="0" b="9227"/>
          <a:stretch/>
        </p:blipFill>
        <p:spPr>
          <a:xfrm>
            <a:off x="0" y="-385920"/>
            <a:ext cx="9144000" cy="72439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835280" y="836640"/>
            <a:ext cx="669600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Comic Sans MS"/>
              </a:rPr>
              <a:t>Правило № 1.</a:t>
            </a:r>
            <a:r>
              <a:rPr b="1" lang="en-US" sz="1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eaeaea"/>
                </a:solidFill>
                <a:latin typeface="Comic Sans MS"/>
              </a:rPr>
              <a:t>Каждый должен соблюдать прави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eaeaea"/>
                </a:solidFill>
                <a:uFillTx/>
                <a:latin typeface="Comic Sans MS"/>
              </a:rPr>
              <a:t>Правило № 2.</a:t>
            </a:r>
            <a:r>
              <a:rPr b="1" i="1" lang="en-US" sz="1400" spc="-1" strike="noStrike">
                <a:solidFill>
                  <a:srgbClr val="eaeaea"/>
                </a:solidFill>
                <a:latin typeface="Comic Sans MS"/>
              </a:rPr>
              <a:t> Все люди равны в своих правах. Все люди рождены свободными и равными в своих правах. Все они наделены разумом и должны относиться друг к другу по–братс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eaeaea"/>
                </a:solidFill>
                <a:uFillTx/>
                <a:latin typeface="Comic Sans MS"/>
              </a:rPr>
              <a:t>Правило № 3.</a:t>
            </a:r>
            <a:r>
              <a:rPr b="1" i="1" lang="en-US" sz="1400" spc="-1" strike="noStrike">
                <a:solidFill>
                  <a:srgbClr val="eaeaea"/>
                </a:solidFill>
                <a:latin typeface="Comic Sans MS"/>
              </a:rPr>
              <a:t> Каждый человек имеет право на образование, которое является обязательным и содействует полному развитию личн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eaeaea"/>
                </a:solidFill>
                <a:uFillTx/>
                <a:latin typeface="Comic Sans MS"/>
              </a:rPr>
              <a:t>Правило № 4.</a:t>
            </a:r>
            <a:r>
              <a:rPr b="1" i="1" lang="en-US" sz="1400" spc="-1" strike="noStrike">
                <a:solidFill>
                  <a:srgbClr val="eaeaea"/>
                </a:solidFill>
                <a:latin typeface="Comic Sans MS"/>
              </a:rPr>
              <a:t> Каждый человек имеет право на труд, свободный выбор работы, справедливые условия тру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eaeaea"/>
                </a:solidFill>
                <a:uFillTx/>
                <a:latin typeface="Comic Sans MS"/>
              </a:rPr>
              <a:t>Правило № 5.</a:t>
            </a:r>
            <a:r>
              <a:rPr b="1" i="1" lang="en-US" sz="1400" spc="-1" strike="noStrike">
                <a:solidFill>
                  <a:srgbClr val="eaeaea"/>
                </a:solidFill>
                <a:latin typeface="Comic Sans MS"/>
              </a:rPr>
              <a:t> Никто не должен подвергаться пыткам или жестокому, бесчеловечному обраще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eaeaea"/>
                </a:solidFill>
                <a:uFillTx/>
                <a:latin typeface="Comic Sans MS"/>
              </a:rPr>
              <a:t>Правило № 6.</a:t>
            </a:r>
            <a:r>
              <a:rPr b="1" i="1" lang="en-US" sz="1400" spc="-1" strike="noStrike">
                <a:solidFill>
                  <a:srgbClr val="eaeaea"/>
                </a:solidFill>
                <a:latin typeface="Comic Sans MS"/>
              </a:rPr>
              <a:t> Никто не может быть подвергнут произвольному аресту, задержанию или изгна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eaeaea"/>
                </a:solidFill>
                <a:uFillTx/>
                <a:latin typeface="Comic Sans MS"/>
              </a:rPr>
              <a:t>Правило № 7.</a:t>
            </a:r>
            <a:r>
              <a:rPr b="1" i="1" lang="en-US" sz="1400" spc="-1" strike="noStrike">
                <a:solidFill>
                  <a:srgbClr val="eaeaea"/>
                </a:solidFill>
                <a:latin typeface="Comic Sans MS"/>
              </a:rPr>
              <a:t> Каждый человек имеет право на неприкосновенность жилища, защиту от вмешательства в личную и семейную жизнь, посягательств на честь и репутац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eaeaea"/>
                </a:solidFill>
                <a:uFillTx/>
                <a:latin typeface="Comic Sans MS"/>
              </a:rPr>
              <a:t>Правило № 8.</a:t>
            </a:r>
            <a:r>
              <a:rPr b="1" i="1" lang="en-US" sz="1400" spc="-1" strike="noStrike">
                <a:solidFill>
                  <a:srgbClr val="eaeaea"/>
                </a:solidFill>
                <a:latin typeface="Comic Sans MS"/>
              </a:rPr>
              <a:t> Каждый человек имеет право владеть имуществом. Никого нельзя произвольно лишать его имущ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4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187280" y="91296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5f5f5f"/>
              </a:buClr>
              <a:buFont typeface="Arial"/>
              <a:buAutoNum type="arabicPeriod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«Маша и Медведь». Русская народная сказ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AutoNum type="arabicPeriod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«Волк и семеро козлят». Русская народная сказка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AutoNum type="arabicPeriod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А. Толстого «Золотой ключик,  или Приключения Буратино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4. «Колобок». Русская народная сказка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5. «Теремок». Русская народная сказка.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042920" y="1409400"/>
            <a:ext cx="741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 декабря 1948 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был принят документ, который назывался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«Всеобщая декларация прав человека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Она насчитывала более 30 статей – правил. Среди них и те восемь правил, которых было достаточно древним людям. Декларация рекомендована ООН (Организацией объединенных наций) для всех стран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403280" y="903960"/>
            <a:ext cx="673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России был принят свой закон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онституци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который определяет права и обязанности граждан  России. Принят он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 декабря 1993 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оме того, в мире существует документ, защищающий права детей. Этот документ был приня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ноября 1989 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и называется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онвенцией о правах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075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имеют право жить в своей семье или с теми, кто лучше всего заботится о них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имеют право на достаточное питание и чистую воду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имеют право на уровень жизни, необходимый для физического, умственного, духовного, нравственного и социального развития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имеют право на медицинское обслуживание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с ограниченными возможностями имеют право на особую заботу и специальную профессиональную подготовку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должны иметь право разговаривать на своем языке, исповедовать свою культуру и пользоваться своей культурой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имеют право участвовать в играх и развлекательных мероприятиях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имеют право на образование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имеют право на защиту от всех форм физического или психологического насилия, оскорбления или злоупотребления, отсутствия заботы или небрежного отношения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не должны использоваться в качестве дешевой рабочей силы или солдат.</a:t>
            </a:r>
            <a:br>
              <a:rPr sz="18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Дети имеют право свободно выражать свое мнение и встречаться со своими сверстниками для выражения своих взглядов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"/>
          <p:cNvSpPr/>
          <p:nvPr/>
        </p:nvSpPr>
        <p:spPr>
          <a:xfrm>
            <a:off x="900000" y="18900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5e5ff"/>
                </a:solidFill>
                <a:uFillTx/>
                <a:latin typeface="Arial"/>
              </a:rPr>
              <a:t>Извлечение из конвенции о правах ребенк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Правила нужны для того, чтобы…»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8:28:42Z</dcterms:created>
  <dc:creator>Я</dc:creator>
  <dc:description/>
  <dc:language>en-US</dc:language>
  <cp:lastModifiedBy>Я</cp:lastModifiedBy>
  <dcterms:modified xsi:type="dcterms:W3CDTF">2008-12-10T19:14:06Z</dcterms:modified>
  <cp:revision>2</cp:revision>
  <dc:subject/>
  <dc:title>Слайд 1</dc:title>
</cp:coreProperties>
</file>