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type.wav" ContentType="audio/x-wav"/>
  <Override PartName="/ppt/media/image17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1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2.jpeg" ContentType="image/jpeg"/>
  <Override PartName="/ppt/media/push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5FE-C858-440E-811D-E5A89C69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834-599F-4F0F-A626-B17EE76D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1F4-F9F3-45B6-90E2-FCDE8BB9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976-C6BE-4F44-8AB5-4558D38C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CBEB-84A7-45F5-96FD-CEB9CE54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2CF9-3432-4A20-B51E-B774ED74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7661-2A3F-455C-879D-72B717BA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CB82-C959-4D91-83AB-8467F3D5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6A4A-CEDF-4C12-8EC4-2DAF6080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50D0-3001-42B7-8722-7BF2B0CA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D789-AD09-4055-9F91-BE4DB1F7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E8D-5B90-40E6-B989-49EE3C31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F0F3-5FF6-474A-A4D4-18261A6B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EE42-A425-4AEF-98DA-CDC2CE4E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986D-1F9A-4D07-A988-E91F4E30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0792-8EF3-4726-AC4F-26B2EFAD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9185-E52A-45CF-830F-E5A71FF0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2764-B740-455B-97EB-5E4B859C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C090-3AE7-4A65-B67A-C93F97A1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185D-D5D5-4FFC-B2E7-B41835F6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F392-6FB0-4CC4-B7A8-D3C21B17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9E62-E039-4CD3-B6FE-0A207DB2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3CC-872A-487B-96ED-C0C2FE9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B29C-6FA9-4D81-8748-8B414EDE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5817-CA0B-40E9-BE77-731F5EB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914E-6936-46F2-881D-46536AB2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8853-668F-465E-8859-7E6B0DA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6DE7E-3336-411A-9CF1-73102A1B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20A8-C15E-41C6-B9B4-8A1F002E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49F2-1FB5-46AC-8830-D4A38B51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B5E-EAE1-4C10-A04C-22B09437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CEE-8157-4689-8966-8D791CA9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F89-7443-49CE-89CA-94B2D93D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170-FE03-4BCE-9101-E5A060F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208-88B8-424D-A097-6033CF93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078-5130-4AE6-842C-371B4D1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8E9F-A9F6-4CC1-8A43-784D0558122D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5291-83F8-404E-ABEC-7E9CD3CDF4B6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1A5-511D-4542-A03E-CC52D0B0627C}" type="slidenum">
              <a:rPr b="0" lang="ru-RU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3" descr=""/>
          <p:cNvPicPr/>
          <p:nvPr/>
        </p:nvPicPr>
        <p:blipFill>
          <a:blip r:embed="rId1"/>
          <a:stretch/>
        </p:blipFill>
        <p:spPr>
          <a:xfrm>
            <a:off x="1042920" y="3071880"/>
            <a:ext cx="7856640" cy="1719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4442040" y="-732600"/>
            <a:ext cx="26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539640" y="1166760"/>
            <a:ext cx="741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Данная презентация для использования на индивидуальных </a:t>
            </a:r>
            <a:r>
              <a:rPr b="1" lang="ru-RU" sz="1600" spc="-1" strike="noStrike">
                <a:solidFill>
                  <a:srgbClr val="000000"/>
                </a:solidFill>
                <a:latin typeface="Century"/>
              </a:rPr>
              <a:t>и фронтальных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логопедических занятиях.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Презентация создана учителем-логопедом МБОУ Лучановской СОШ Пыжик Татьяной Егоровной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Часть 2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29" name="Picture 6" descr="umka_logo2"/>
          <p:cNvPicPr/>
          <p:nvPr/>
        </p:nvPicPr>
        <p:blipFill>
          <a:blip r:embed="rId2"/>
          <a:stretch/>
        </p:blipFill>
        <p:spPr>
          <a:xfrm>
            <a:off x="3635280" y="4189320"/>
            <a:ext cx="2276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164040" y="353880"/>
            <a:ext cx="3273120" cy="99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Возьми короткий карандашик и сожми его в кулачке, спрячь. А теперь спрячь в другой руке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Карандашик я сжимаю</a:t>
            </a:r>
            <a:br>
              <a:rPr sz="2400"/>
            </a:b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И ладошку поменяю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227320" y="358920"/>
            <a:ext cx="5146560" cy="981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Вращай карандаш на столе двумя пальцами сначала одной руки, а потом другой. Попробуй сделать то же большим и средним пальцам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По столу круги катаю, </a:t>
            </a:r>
            <a:br>
              <a:rPr sz="2400"/>
            </a:b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Карандаш не выпускаю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257640" y="306360"/>
            <a:ext cx="3085920" cy="1085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оложи карандаш на тыльную сторону кисти. Наклони руку вниз. Придерживай карандаш другой рукой. Пусть он скатится вниз с твоей руки, как с горки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6600"/>
                </a:solidFill>
                <a:latin typeface="Arial"/>
              </a:rPr>
              <a:t>ТЫ</a:t>
            </a:r>
            <a:endParaRPr b="0" lang="en-US" sz="9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62" name="Picture 6" descr="umka_logo2"/>
          <p:cNvPicPr/>
          <p:nvPr/>
        </p:nvPicPr>
        <p:blipFill>
          <a:blip r:embed="rId1"/>
          <a:stretch/>
        </p:blipFill>
        <p:spPr>
          <a:xfrm>
            <a:off x="1835280" y="1960560"/>
            <a:ext cx="60498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Использованы материал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.В.Коноваленко Фронтальные логопедические занятия в подготовительной группе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О.В.Яковлева  viki.rdf.ru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Н.Ю.Костылева «Покажи и расскажи» М.: ТЦ:Сфера, 2007г.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6"/>
          <p:cNvSpPr txBox="1"/>
          <p:nvPr/>
        </p:nvSpPr>
        <p:spPr>
          <a:xfrm>
            <a:off x="1042920" y="1341360"/>
            <a:ext cx="69850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и С и Сь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С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Познакомить детей с акустическими и артикуляционными особенностями звука (С)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Развивать слого-звуковой анализ и синтез слов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Учить детей определять местоположение звука в слове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Активизировать лексический запас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Развивать внимание, память, зрительно-моторные координации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35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3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9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86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14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Слон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«В зоопарке стоит слон.</a:t>
            </a:r>
            <a:br>
              <a:rPr sz="2000"/>
            </a:b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Уши, хобот, серый он.</a:t>
            </a:r>
            <a:br>
              <a:rPr sz="2000"/>
            </a:b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Головой своей кивает,</a:t>
            </a:r>
            <a:br>
              <a:rPr sz="2000"/>
            </a:b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Будто в гости приглашает»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Ладонь на себя. Средний палец впущен. С одной стороны он зажат мизинцем и безымянным, а с другой — указательным и большим. Шевелить средним пальцем. Качаем всей кистью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36" name="Picture 7" descr="53"/>
          <p:cNvPicPr/>
          <p:nvPr/>
        </p:nvPicPr>
        <p:blipFill>
          <a:blip r:embed="rId1"/>
          <a:stretch/>
        </p:blipFill>
        <p:spPr>
          <a:xfrm>
            <a:off x="1309680" y="1989000"/>
            <a:ext cx="2430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Осы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«Осы любят сладкое, к сладкому летят.</a:t>
            </a:r>
            <a:br>
              <a:rPr sz="2400"/>
            </a:b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И укусят осы, если захотят»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Выставить средний палец, зажать его между указательным и безымянным вращать им в разные стороны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39" name="Picture 7" descr="48(2)"/>
          <p:cNvPicPr/>
          <p:nvPr/>
        </p:nvPicPr>
        <p:blipFill>
          <a:blip r:embed="rId1"/>
          <a:stretch/>
        </p:blipFill>
        <p:spPr>
          <a:xfrm>
            <a:off x="539640" y="2014560"/>
            <a:ext cx="37450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Гусь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«Гусь стоит и все гогочет,</a:t>
            </a:r>
            <a:br>
              <a:rPr sz="2400"/>
            </a:b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Ущипнуть тебя он хочет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редплечье вертикально. Ладонь под прямым углом. Указательный палец опирается на большой. Все пальцы прижаты друг к другу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42" name="Picture 8" descr="45(2)"/>
          <p:cNvPicPr/>
          <p:nvPr/>
        </p:nvPicPr>
        <p:blipFill>
          <a:blip r:embed="rId1"/>
          <a:stretch/>
        </p:blipFill>
        <p:spPr>
          <a:xfrm>
            <a:off x="1170000" y="2060640"/>
            <a:ext cx="2638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205000" y="358920"/>
            <a:ext cx="5191200" cy="981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1174680" y="1868400"/>
            <a:ext cx="3697200" cy="3598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Возьми толстый карандаш. Положи его на стол. «Прогладь» карандаш сначала одной ладонью, потом другой. Покатай карандаш по столу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Карандаш я покачу</a:t>
            </a:r>
            <a:br>
              <a:rPr sz="2400"/>
            </a:b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Вправо-влево — как хочу.</a:t>
            </a:r>
            <a:br>
              <a:rPr sz="2400"/>
            </a:b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19400" y="358920"/>
            <a:ext cx="5162400" cy="981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ложи карандаш на одну ладошку, прикрой его другой. Прокатывай карандаш между ладонями сначала медленно, а потом быстрее, от кончиков пальцев к запястьям. А теперь попробуй сделать это сразу с двумя карандашами. Получилось?</a:t>
            </a:r>
            <a:br>
              <a:rPr sz="2000"/>
            </a:b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209680" y="372960"/>
            <a:ext cx="5181840" cy="95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ижимай карандаш, который лежит на столе, кончиком каждого пальца. Прижимай сильнее!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7:22:48Z</dcterms:created>
  <dc:creator>Admin</dc:creator>
  <dc:description/>
  <cp:keywords/>
  <dc:language>en-US</dc:language>
  <cp:lastModifiedBy>Учитель</cp:lastModifiedBy>
  <dcterms:modified xsi:type="dcterms:W3CDTF">2012-02-04T09:45:49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