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type.wav" ContentType="audio/x-wav"/>
  <Override PartName="/ppt/media/push.wav" ContentType="audio/x-wav"/>
  <Override PartName="/ppt/media/image2.jpeg" ContentType="image/jpeg"/>
  <Override PartName="/ppt/media/image10.jpeg" ContentType="image/jpeg"/>
  <Override PartName="/ppt/media/image8.jpeg" ContentType="image/jpeg"/>
  <Override PartName="/ppt/media/image21.png" ContentType="image/png"/>
  <Override PartName="/ppt/media/image13.jpeg" ContentType="image/jpeg"/>
  <Override PartName="/ppt/media/image4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D7F-8787-4221-B69E-9C7896F5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747-2CCB-461A-9818-C9140888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CEF-650B-4F59-87DB-2C7A4526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6A4-429F-46BD-9AFC-593AA45F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F1D4-5113-4E2D-8A97-EEE1B072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FAFE-33D5-4A00-BEEB-EBDBBDCA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01E4-A2EA-4357-A2E4-CE3850C8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C8DC-42E5-4B55-A6AC-88B968A9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A431-218C-4891-945E-BBF93FE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08BC-34EF-42C4-B6F4-CFA620BD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F31D-BF06-4483-AFB0-DC1310B0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A23-001E-4272-89AF-068F1625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9B9D-EC96-4AD0-9578-017AAB00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2868-26F0-4E1A-A445-3B6EBAD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7397-D471-4DBE-ACEC-303BEC66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1ED8-B147-4BF1-A814-CB4711B8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6C17-40EA-401A-8D3A-F12A33D2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005A-0A62-49A3-BA64-E0B39C07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4720-94E0-4B42-8486-3F655B3B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D675-4D00-4FAE-8235-6E804BEB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FA20-3080-4250-ABFB-27DA7A74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B6D1-171B-44A2-B064-B1DDD937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3D3-D428-4645-B1DC-C1E8653C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CCAA-8468-4711-8E8D-AE8AB024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8187D-94A8-4FAB-B338-25A8B577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F9AC-7D4C-40A6-842E-B0A0F998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C0B0-6F0A-4089-A8A6-61D67625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0CCA-066D-4302-B6D5-8C35B8EE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5DE1-7161-484D-A06D-6B8484F2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70F7-14BF-4883-B546-E73EC63A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9B8-6CC7-4C69-830D-C7685BF5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09D-2B4B-4F32-97BD-13A17598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4AF-8149-49D1-A780-472D882C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682-4575-4A02-97F0-F80F5852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1BB-2BF8-4D09-ABEA-7A105F4B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F7E-5348-45F4-AA65-CE816263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76BD-9F91-4C10-A3C2-238436D2BAEE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EB6E-2554-4DB0-AC75-A976B0B5AB91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EA8E-C854-4936-9F44-BF399D7B1606}" type="slidenum">
              <a:rPr b="0" lang="ru-RU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3.jpeg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image" Target="../media/image14.jpe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5.jpeg"/><Relationship Id="rId8" Type="http://schemas.openxmlformats.org/officeDocument/2006/relationships/hyperlink" Target="file:///tmp/home/.config/libreoffice/4/user/gallery/&#1086;&#1096;&#1080;&#1073;&#1082;&#1072;.wav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file:///tmp/home/.config/libreoffice/4/user/gallery/&#1086;&#1096;&#1080;&#1073;&#1082;&#1072;.wav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file:///tmp/home/.config/libreoffice/4/user/gallery/&#1086;&#1096;&#1080;&#1073;&#1082;&#1072;.wav" TargetMode="External"/><Relationship Id="rId13" Type="http://schemas.openxmlformats.org/officeDocument/2006/relationships/image" Target="../media/image18.jpeg"/><Relationship Id="rId14" Type="http://schemas.openxmlformats.org/officeDocument/2006/relationships/hyperlink" Target="file:///usr/lib/libreoffice/share/gallery/sounds/applause.wav" TargetMode="External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3" descr=""/>
          <p:cNvPicPr/>
          <p:nvPr/>
        </p:nvPicPr>
        <p:blipFill>
          <a:blip r:embed="rId1"/>
          <a:stretch/>
        </p:blipFill>
        <p:spPr>
          <a:xfrm>
            <a:off x="1042920" y="3071880"/>
            <a:ext cx="7856640" cy="1719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4481640" y="-3668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539640" y="1166760"/>
            <a:ext cx="741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29" name="Picture 6" descr="umka_logo2"/>
          <p:cNvPicPr/>
          <p:nvPr/>
        </p:nvPicPr>
        <p:blipFill>
          <a:blip r:embed="rId2"/>
          <a:stretch/>
        </p:blipFill>
        <p:spPr>
          <a:xfrm>
            <a:off x="3635280" y="4189320"/>
            <a:ext cx="2276640" cy="1728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5640" y="1216080"/>
            <a:ext cx="7201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Данная презентация для использования на индивидуальных </a:t>
            </a: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и фронтальных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 логопедических занятиях.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Презентация создана учителем-логопедом МБОУ Лучановской СОШ Пыжик Татьяной Егоровной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Часть 3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3" descr=""/>
          <p:cNvPicPr/>
          <p:nvPr/>
        </p:nvPicPr>
        <p:blipFill>
          <a:blip r:embed="rId1"/>
          <a:stretch/>
        </p:blipFill>
        <p:spPr>
          <a:xfrm>
            <a:off x="341280" y="6004080"/>
            <a:ext cx="7736040" cy="536400"/>
          </a:xfrm>
          <a:prstGeom prst="rect">
            <a:avLst/>
          </a:prstGeom>
          <a:ln w="0">
            <a:noFill/>
          </a:ln>
        </p:spPr>
      </p:pic>
      <p:sp>
        <p:nvSpPr>
          <p:cNvPr id="155" name="Управляющая кнопка: настраиваемая 4">
            <a:hlinkClick r:id="rId2"/>
          </p:cNvPr>
          <p:cNvSpPr/>
          <p:nvPr/>
        </p:nvSpPr>
        <p:spPr>
          <a:xfrm>
            <a:off x="2571840" y="4214880"/>
            <a:ext cx="1928880" cy="1785960"/>
          </a:xfrm>
          <a:custGeom>
            <a:avLst/>
            <a:gdLst>
              <a:gd name="textAreaLeft" fmla="*/ 115560 w 1928880"/>
              <a:gd name="textAreaRight" fmla="*/ 1813320 w 1928880"/>
              <a:gd name="textAreaTop" fmla="*/ 115560 h 1785960"/>
              <a:gd name="textAreaBottom" fmla="*/ 1670400 h 1785960"/>
            </a:gdLst>
            <a:ahLst/>
            <a:rect l="textAreaLeft" t="textAreaTop" r="textAreaRight" b="textAreaBottom"/>
            <a:pathLst>
              <a:path w="23328" h="21600">
                <a:moveTo>
                  <a:pt x="0" y="0"/>
                </a:moveTo>
                <a:lnTo>
                  <a:pt x="23328" y="0"/>
                </a:lnTo>
                <a:lnTo>
                  <a:pt x="23328" y="21600"/>
                </a:lnTo>
                <a:lnTo>
                  <a:pt x="0" y="21600"/>
                </a:lnTo>
                <a:close/>
              </a:path>
              <a:path fill="lightenLess" w="23328" h="21600">
                <a:moveTo>
                  <a:pt x="0" y="0"/>
                </a:moveTo>
                <a:lnTo>
                  <a:pt x="23328" y="0"/>
                </a:lnTo>
                <a:lnTo>
                  <a:pt x="21928" y="1400"/>
                </a:lnTo>
                <a:lnTo>
                  <a:pt x="1400" y="1400"/>
                </a:lnTo>
                <a:close/>
              </a:path>
              <a:path fill="darken" w="23328" h="21600">
                <a:moveTo>
                  <a:pt x="23328" y="0"/>
                </a:moveTo>
                <a:lnTo>
                  <a:pt x="23328" y="21600"/>
                </a:lnTo>
                <a:lnTo>
                  <a:pt x="21928" y="20200"/>
                </a:lnTo>
                <a:lnTo>
                  <a:pt x="21928" y="1400"/>
                </a:lnTo>
                <a:close/>
              </a:path>
              <a:path fill="darkenLess" w="23328" h="21600">
                <a:moveTo>
                  <a:pt x="23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28" y="20200"/>
                </a:lnTo>
                <a:close/>
              </a:path>
              <a:path fill="lighten" w="23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6" name="Блок-схема: карточка 5">
            <a:hlinkClick r:id="rId4"/>
          </p:cNvPr>
          <p:cNvSpPr/>
          <p:nvPr/>
        </p:nvSpPr>
        <p:spPr>
          <a:xfrm>
            <a:off x="4429080" y="3857760"/>
            <a:ext cx="1857600" cy="1857240"/>
          </a:xfrm>
          <a:prstGeom prst="flowChartPunchedCard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7" name="Блок-схема: карточка 6">
            <a:hlinkClick r:id="rId6"/>
          </p:cNvPr>
          <p:cNvSpPr/>
          <p:nvPr/>
        </p:nvSpPr>
        <p:spPr>
          <a:xfrm>
            <a:off x="5214960" y="1143000"/>
            <a:ext cx="1857240" cy="1857240"/>
          </a:xfrm>
          <a:prstGeom prst="flowChartPunchedCard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8" name="Загнутый угол 7">
            <a:hlinkClick r:id="rId8"/>
          </p:cNvPr>
          <p:cNvSpPr/>
          <p:nvPr/>
        </p:nvSpPr>
        <p:spPr>
          <a:xfrm>
            <a:off x="3357720" y="1285920"/>
            <a:ext cx="2000160" cy="2000160"/>
          </a:xfrm>
          <a:prstGeom prst="foldedCorner">
            <a:avLst>
              <a:gd name="adj" fmla="val 16666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9" name="Блок-схема: данные 8">
            <a:hlinkClick r:id="rId10"/>
          </p:cNvPr>
          <p:cNvSpPr/>
          <p:nvPr/>
        </p:nvSpPr>
        <p:spPr>
          <a:xfrm>
            <a:off x="6072120" y="2714760"/>
            <a:ext cx="2000160" cy="1785960"/>
          </a:xfrm>
          <a:prstGeom prst="flowChartInputOutput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0" name="Управляющая кнопка: настраиваемая 9">
            <a:hlinkClick r:id="rId12"/>
          </p:cNvPr>
          <p:cNvSpPr/>
          <p:nvPr/>
        </p:nvSpPr>
        <p:spPr>
          <a:xfrm>
            <a:off x="1357200" y="2786040"/>
            <a:ext cx="1857600" cy="1785960"/>
          </a:xfrm>
          <a:custGeom>
            <a:avLst/>
            <a:gdLst>
              <a:gd name="textAreaLeft" fmla="*/ 115560 w 1857600"/>
              <a:gd name="textAreaRight" fmla="*/ 1742040 w 1857600"/>
              <a:gd name="textAreaTop" fmla="*/ 115560 h 1785960"/>
              <a:gd name="textAreaBottom" fmla="*/ 1670400 h 1785960"/>
            </a:gdLst>
            <a:ahLst/>
            <a:rect l="textAreaLeft" t="textAreaTop" r="textAreaRight" b="textAreaBottom"/>
            <a:pathLst>
              <a:path w="22466" h="21600">
                <a:moveTo>
                  <a:pt x="0" y="0"/>
                </a:moveTo>
                <a:lnTo>
                  <a:pt x="22466" y="0"/>
                </a:lnTo>
                <a:lnTo>
                  <a:pt x="22466" y="21600"/>
                </a:lnTo>
                <a:lnTo>
                  <a:pt x="0" y="21600"/>
                </a:lnTo>
                <a:close/>
              </a:path>
              <a:path fill="lightenLess" w="22466" h="21600">
                <a:moveTo>
                  <a:pt x="0" y="0"/>
                </a:moveTo>
                <a:lnTo>
                  <a:pt x="22466" y="0"/>
                </a:lnTo>
                <a:lnTo>
                  <a:pt x="21066" y="1400"/>
                </a:lnTo>
                <a:lnTo>
                  <a:pt x="1400" y="1400"/>
                </a:lnTo>
                <a:close/>
              </a:path>
              <a:path fill="darken" w="22466" h="21600">
                <a:moveTo>
                  <a:pt x="22466" y="0"/>
                </a:moveTo>
                <a:lnTo>
                  <a:pt x="22466" y="21600"/>
                </a:lnTo>
                <a:lnTo>
                  <a:pt x="21066" y="20200"/>
                </a:lnTo>
                <a:lnTo>
                  <a:pt x="21066" y="1400"/>
                </a:lnTo>
                <a:close/>
              </a:path>
              <a:path fill="darkenLess" w="22466" h="21600">
                <a:moveTo>
                  <a:pt x="22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6" y="20200"/>
                </a:lnTo>
                <a:close/>
              </a:path>
              <a:path fill="lighten" w="22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1" name="Блок-схема: документ 10">
            <a:hlinkClick r:id="rId14"/>
          </p:cNvPr>
          <p:cNvSpPr/>
          <p:nvPr/>
        </p:nvSpPr>
        <p:spPr>
          <a:xfrm>
            <a:off x="714240" y="1214280"/>
            <a:ext cx="2143440" cy="1857600"/>
          </a:xfrm>
          <a:prstGeom prst="flowChartDocument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62" name="Прямоугольник 11" descr=""/>
          <p:cNvPicPr/>
          <p:nvPr/>
        </p:nvPicPr>
        <p:blipFill>
          <a:blip r:embed="rId16"/>
          <a:stretch/>
        </p:blipFill>
        <p:spPr>
          <a:xfrm>
            <a:off x="781200" y="560520"/>
            <a:ext cx="393696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Прямоугольник 3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6156360" cy="5364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"/>
          <p:cNvPicPr/>
          <p:nvPr/>
        </p:nvPicPr>
        <p:blipFill>
          <a:blip r:embed="rId2"/>
          <a:srcRect l="49729" t="4354" r="27901" b="83503"/>
          <a:stretch/>
        </p:blipFill>
        <p:spPr>
          <a:xfrm>
            <a:off x="1403280" y="1268280"/>
            <a:ext cx="6121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"/>
          <p:cNvPicPr/>
          <p:nvPr/>
        </p:nvPicPr>
        <p:blipFill>
          <a:blip r:embed="rId1"/>
          <a:srcRect l="49109" t="36479" r="27460" b="50668"/>
          <a:stretch/>
        </p:blipFill>
        <p:spPr>
          <a:xfrm>
            <a:off x="1835280" y="1460520"/>
            <a:ext cx="6121440" cy="456084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1692360" y="549360"/>
            <a:ext cx="61563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3" descr=""/>
          <p:cNvPicPr/>
          <p:nvPr/>
        </p:nvPicPr>
        <p:blipFill>
          <a:blip r:embed="rId1"/>
          <a:srcRect l="2390" t="53775" r="76950" b="32835"/>
          <a:stretch/>
        </p:blipFill>
        <p:spPr>
          <a:xfrm>
            <a:off x="1763640" y="1222200"/>
            <a:ext cx="6337440" cy="451044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3" descr=""/>
          <p:cNvPicPr/>
          <p:nvPr/>
        </p:nvPicPr>
        <p:blipFill>
          <a:blip r:embed="rId2"/>
          <a:stretch/>
        </p:blipFill>
        <p:spPr>
          <a:xfrm>
            <a:off x="1692360" y="549360"/>
            <a:ext cx="61563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rcRect l="0" t="88128" r="76789" b="0"/>
          <a:stretch/>
        </p:blipFill>
        <p:spPr>
          <a:xfrm>
            <a:off x="1116000" y="1241280"/>
            <a:ext cx="7343640" cy="51548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3" descr=""/>
          <p:cNvPicPr/>
          <p:nvPr/>
        </p:nvPicPr>
        <p:blipFill>
          <a:blip r:embed="rId2"/>
          <a:stretch/>
        </p:blipFill>
        <p:spPr>
          <a:xfrm>
            <a:off x="1495440" y="914400"/>
            <a:ext cx="61531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6600"/>
                </a:solidFill>
                <a:latin typeface="Arial"/>
              </a:rPr>
              <a:t>ТЫ</a:t>
            </a:r>
            <a:endParaRPr b="0" lang="en-US" sz="9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73" name="Picture 6" descr="umka_logo2"/>
          <p:cNvPicPr/>
          <p:nvPr/>
        </p:nvPicPr>
        <p:blipFill>
          <a:blip r:embed="rId1"/>
          <a:stretch/>
        </p:blipFill>
        <p:spPr>
          <a:xfrm>
            <a:off x="1835280" y="1960560"/>
            <a:ext cx="60498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Использованы материал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В.В.Коноваленко Фронтальные логопедические занятия в подготовительной группе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6633"/>
                </a:solidFill>
                <a:latin typeface="Arial"/>
              </a:rPr>
              <a:t>О.В.Яковлева  viki.rdf.ru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6633"/>
                </a:solidFill>
                <a:latin typeface="Arial"/>
              </a:rPr>
              <a:t>Н.Ю.Костылева «Покажи и расскажи» М.: ТЦ:Сфера, 2007г.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6"/>
          <p:cNvSpPr txBox="1"/>
          <p:nvPr/>
        </p:nvSpPr>
        <p:spPr>
          <a:xfrm>
            <a:off x="1042920" y="1341360"/>
            <a:ext cx="69850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и С и Сь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а С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Познакомить детей с акустическими и артикуляционными особенностями звука (С)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Развивать слого-звуковой анализ и синтез слов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Учить детей определять местоположение звука в слове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Активизировать лексический запас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Развивать внимание, память, зрительно-моторные координации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35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3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9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86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14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3" descr=""/>
          <p:cNvPicPr/>
          <p:nvPr/>
        </p:nvPicPr>
        <p:blipFill>
          <a:blip r:embed="rId1"/>
          <a:srcRect l="27084" t="34919" r="52089" b="49720"/>
          <a:stretch/>
        </p:blipFill>
        <p:spPr>
          <a:xfrm>
            <a:off x="5435640" y="1916280"/>
            <a:ext cx="1008000" cy="1441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"/>
          <p:cNvPicPr/>
          <p:nvPr/>
        </p:nvPicPr>
        <p:blipFill>
          <a:blip r:embed="rId2"/>
          <a:srcRect l="50003" t="1397" r="27084" b="84638"/>
          <a:stretch/>
        </p:blipFill>
        <p:spPr>
          <a:xfrm>
            <a:off x="1835280" y="1916280"/>
            <a:ext cx="1368360" cy="1657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785880" y="107172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Посмотри на картинки и внимательно послушай, как взрослый правильно или неправильно произносит их названия. 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285920" y="4071960"/>
            <a:ext cx="264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Фанки                    Вянки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Танки                   Сянки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Шанки                  Тянки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Санки                   Санки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Сянки                   Щанки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5214960" y="4143240"/>
            <a:ext cx="264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Фафна                     Сясна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Хахна                     Сосна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Сосна                     Сашна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Фасна                     Сахна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Шашна                    Тасна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Назови картинк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1289985484_s1"/>
          <p:cNvPicPr/>
          <p:nvPr/>
        </p:nvPicPr>
        <p:blipFill>
          <a:blip r:embed="rId2"/>
          <a:stretch/>
        </p:blipFill>
        <p:spPr>
          <a:xfrm>
            <a:off x="684360" y="2001960"/>
            <a:ext cx="7775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Назови картинк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1289985583_s2"/>
          <p:cNvPicPr/>
          <p:nvPr/>
        </p:nvPicPr>
        <p:blipFill>
          <a:blip r:embed="rId2"/>
          <a:stretch/>
        </p:blipFill>
        <p:spPr>
          <a:xfrm>
            <a:off x="777960" y="2023920"/>
            <a:ext cx="768168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Назови картинк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1289985562_s4"/>
          <p:cNvPicPr/>
          <p:nvPr/>
        </p:nvPicPr>
        <p:blipFill>
          <a:blip r:embed="rId2"/>
          <a:stretch/>
        </p:blipFill>
        <p:spPr>
          <a:xfrm>
            <a:off x="826920" y="1913040"/>
            <a:ext cx="76327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Назови картинк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1289985568_s9"/>
          <p:cNvPicPr/>
          <p:nvPr/>
        </p:nvPicPr>
        <p:blipFill>
          <a:blip r:embed="rId2"/>
          <a:stretch/>
        </p:blipFill>
        <p:spPr>
          <a:xfrm>
            <a:off x="755640" y="2060640"/>
            <a:ext cx="7632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7:22:48Z</dcterms:created>
  <dc:creator>Admin</dc:creator>
  <dc:description/>
  <cp:keywords/>
  <dc:language>en-US</dc:language>
  <cp:lastModifiedBy>Учитель</cp:lastModifiedBy>
  <dcterms:modified xsi:type="dcterms:W3CDTF">2012-02-04T09:48:04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