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push.wav" ContentType="audio/x-wav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98E-6362-4CE3-A0A2-CEAD7CC3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9BB-E64D-4558-9A38-4399D268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CE3-39E5-4199-8339-DEE1D5A6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371-CD4E-439A-803A-F577843A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795E-3C4A-4D7A-A35A-34319362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8A41-D926-440E-8A08-F213D797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01B2-720C-4943-B718-0A7E8E95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FFA6-2448-4F87-8E0F-A20E5681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C874-D303-4E42-A9F6-2512A13B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4CB6-A17A-45AD-B908-95E91E64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40C5-7260-4680-B698-5CCD722F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CE6-36E6-436D-859E-FFA57A14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4C12-BEC2-4907-A42A-FC68D8B0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07D5-0B87-444F-94A3-780C6D3A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13A2-4724-4FCA-8862-A1BA2F66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89B5-E430-4C18-B82E-56B17F6D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A420-9071-4C8F-97C9-07D7B0B1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F4A-F27A-4A06-8E21-65B2A5D7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275-5C46-4FF9-9C45-85612A70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CE5-D74E-431F-8633-E7BD94D1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D23-7D62-48B5-A3A3-82C1DD27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F5B-2DBB-431B-9464-C505D0B0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AA3-E1EB-4083-98D8-117B8D6D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7E8-E69F-491D-9FC9-0F36F06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BA9D-F559-4187-884E-AEF7A422D820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CB32-040C-4178-8808-95B676342D00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7856640" cy="1719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 flipV="1">
            <a:off x="4462560" y="-142200"/>
            <a:ext cx="1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539640" y="1166760"/>
            <a:ext cx="741708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Данная презентация для использования на индивидуальных </a:t>
            </a:r>
            <a:r>
              <a:rPr b="1" lang="ru-RU" sz="1600" spc="-1" strike="noStrike">
                <a:solidFill>
                  <a:srgbClr val="000000"/>
                </a:solidFill>
                <a:latin typeface="Century"/>
              </a:rPr>
              <a:t>и фронтальных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логопедических занятиях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Презентация создана учителем-логопедом МБОУ Лучановской СОШ Пыжик Татьяной Егоровной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Часть 2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87" name="Picture 6" descr="umka_logo2"/>
          <p:cNvPicPr/>
          <p:nvPr/>
        </p:nvPicPr>
        <p:blipFill>
          <a:blip r:embed="rId2"/>
          <a:stretch/>
        </p:blipFill>
        <p:spPr>
          <a:xfrm>
            <a:off x="3635280" y="4189320"/>
            <a:ext cx="2276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6"/>
          <p:cNvSpPr txBox="1"/>
          <p:nvPr/>
        </p:nvSpPr>
        <p:spPr>
          <a:xfrm>
            <a:off x="1042920" y="1341360"/>
            <a:ext cx="69850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и С и Сь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С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Чистоговорки, потешки и скороговорки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-са-са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- Соня идет в сад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с-ас-ас -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купаем ананас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-са-са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- в саду оса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с-ас-ас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- какой вкусный ананас!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-со-со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- оса пьет сок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с-ос-ос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- в детском саду много ос,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у-су-су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- Соня видит осу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с-ас-ас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- съедят осы ананас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ы-сы-сы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- у осы усы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с-ус-ус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- у ананаса дивный вку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ы-сы-сы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- в саду нет осы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-ис-ис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- ананасы ест Денис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В лесу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 (пересказ по сюжетной картинке)</a:t>
            </a:r>
            <a:br>
              <a:rPr sz="2400"/>
            </a:b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Рассмотри картинку, прослушай внимательно рассказ и перескажи его:</a:t>
            </a:r>
            <a:br>
              <a:rPr sz="1400"/>
            </a:b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За мостом лес, в лесу стоит сосна. На сосне сухой сук, на суку спит сова. Слева от сосны куст, за кустом стоит лиса. Лиса не сводит глаз с совы.</a:t>
            </a:r>
            <a:br>
              <a:rPr sz="1400"/>
            </a:b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1289985272_tekst-v-lesu"/>
          <p:cNvPicPr/>
          <p:nvPr/>
        </p:nvPicPr>
        <p:blipFill>
          <a:blip r:embed="rId2"/>
          <a:stretch/>
        </p:blipFill>
        <p:spPr>
          <a:xfrm>
            <a:off x="684360" y="2060640"/>
            <a:ext cx="774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Автобусная остановка</a:t>
            </a: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 (цепной текст).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лава стоит на остановке. К остановке подъехал автобус. В автобус сел Слава. Слава поехал в сосновый лес. В сосновом лесу полезный воздух.</a:t>
            </a:r>
            <a:br>
              <a:rPr sz="1600"/>
            </a:br>
            <a:r>
              <a:rPr b="0" lang="ru-RU" sz="1200" spc="-1" strike="noStrike" u="sng">
                <a:solidFill>
                  <a:srgbClr val="cc6600"/>
                </a:solidFill>
                <a:uFillTx/>
                <a:latin typeface="Arial"/>
              </a:rPr>
              <a:t> Совет : Прочитайте ребенку рассказ. Для того чтобы он мог пересказать текст, помогите ему подобрать недостающие слова, чтобы получилась непрерывная цепочка предложений.</a:t>
            </a:r>
            <a:br>
              <a:rPr sz="1200"/>
            </a:br>
            <a:br>
              <a:rPr sz="1200"/>
            </a:b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1289985253_tekst-avtobusnaya-ostanovka"/>
          <p:cNvPicPr/>
          <p:nvPr/>
        </p:nvPicPr>
        <p:blipFill>
          <a:blip r:embed="rId2"/>
          <a:stretch/>
        </p:blipFill>
        <p:spPr>
          <a:xfrm>
            <a:off x="684360" y="1989000"/>
            <a:ext cx="77752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6600"/>
                </a:solidFill>
                <a:latin typeface="Arial"/>
              </a:rPr>
              <a:t>ТЫ</a:t>
            </a:r>
            <a:endParaRPr b="0" lang="en-US" sz="9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8" name="Picture 6" descr="umka_logo2"/>
          <p:cNvPicPr/>
          <p:nvPr/>
        </p:nvPicPr>
        <p:blipFill>
          <a:blip r:embed="rId1"/>
          <a:stretch/>
        </p:blipFill>
        <p:spPr>
          <a:xfrm>
            <a:off x="1835280" y="1960560"/>
            <a:ext cx="60498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Использованы материал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.В.Коноваленко Фронтальные логопедические занятия в подготовительной группе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О.В.Яковлева  viki.rdf.ru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Н.Ю.Костылева «Покажи и расскажи» М.: ТЦ:Сфера, 2007г.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7:22:48Z</dcterms:created>
  <dc:creator>Admin</dc:creator>
  <dc:description/>
  <cp:keywords/>
  <dc:language>en-US</dc:language>
  <cp:lastModifiedBy>Учитель</cp:lastModifiedBy>
  <dcterms:modified xsi:type="dcterms:W3CDTF">2012-02-04T10:08:02Z</dcterms:modified>
  <cp:revision>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