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29E-901A-4097-B7A2-7DC0F067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4AB-D9A2-471C-8A71-6098D45D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0BB-D46E-46F5-A103-D7BF4686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AD0-497F-4E3B-B18D-DAC3FA4C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36A-E5F8-47FE-83A9-55E2BE7B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3C1-8D1D-472A-A2A1-0B2A561D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B42-3EA5-4653-A8F2-018BC0BD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86F-C1ED-46C8-9DED-DD9C6729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7A7-643F-4E55-B199-175C5657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AE8-262A-4301-9C7C-242DBBFD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2C7-0FEB-4E25-A127-B40A601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32B-8C19-4DA9-B60D-A1631223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9DF7-588D-49CF-A61E-D6D123577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3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7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56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95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3:53:19Z</dcterms:created>
  <dc:creator>Ольга</dc:creator>
  <dc:description/>
  <dc:language>en-US</dc:language>
  <cp:lastModifiedBy>Ольга</cp:lastModifiedBy>
  <dcterms:modified xsi:type="dcterms:W3CDTF">2007-02-24T14:04:37Z</dcterms:modified>
  <cp:revision>2</cp:revision>
  <dc:subject/>
  <dc:title>Слайд 1</dc:title>
</cp:coreProperties>
</file>