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7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media/image21.gif" ContentType="image/gif"/>
  <Override PartName="/ppt/media/image24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2C3-31B4-47BD-BA80-D5B7573C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E9F-CF64-428C-AE11-1525A31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274-0576-4A2E-BBFB-DCEA136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A33-FEDE-4798-B634-C2489984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F17-2537-417C-ADA8-27FB297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E3E-45B9-4504-AECE-8113B2A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E60B-974C-47CE-9CDC-4238C9A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1A9-F8B6-4B71-AD6D-2DAE619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C15F-904D-475C-B429-154218D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55E9-3ACD-442F-AD30-9402DC9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1EC-55D9-47FB-92A3-B371477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7A8-4DE9-49A1-A6DF-BF87C13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D139-BE38-4D7C-ACCA-20F9AC8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F6B-15F1-452D-8EC2-6A75607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25BE-967B-431A-BF99-22FCE3D5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49A5-E3A4-40A0-892F-8FCB6B98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7A3-3C6B-4C10-9B77-424538D1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A715-30E8-4370-AA97-D8BC4C77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7CAB-4FA1-4F82-B92E-7F94F3F6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264D-FBA7-4A4E-8781-14E6E9BC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41B2-BF46-4132-8BAE-F3842F5E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9486-CF3F-4C10-8740-C1462F2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A44-A355-4BA7-9865-8819CB48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4574-CF2B-40B3-8477-F65ADFA0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8AA2-CA23-44D3-9436-2335309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F5A6-1D99-4946-8C66-F0DF802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5586-1EA2-46DD-B34D-A5330CF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EFD3-12B5-41B0-AFCA-2F68696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6A83-B9EB-459A-851F-97890C6F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DC5E-838D-4D32-95B5-D81920B7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4BCC-AC15-4CAA-B61C-8CBC96A7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2FCFC-6011-4FAC-A77B-37ED638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EBB8-7D66-47C0-B675-478EE94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AAB-0AC8-4FAF-B073-CF68AC30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4F15-BD70-4E69-907B-8442DA7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9709-2CA8-4823-9529-BEEDEF9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AB56-69E0-4BE0-83D0-DF922B7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3ABF-2ECA-4DF2-9488-9330E23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CD93-4030-4566-BFB2-6867952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9A39-679E-4D35-B491-7C584B8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B507-293D-4C57-A60C-742C301B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AB8E-6F9F-4BE2-AA1A-F9238D0C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DE29-DD0C-4635-8402-B8E2D72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6CD-748C-4515-BACA-8B9FE487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3B8-E557-41A0-8B48-5CA44EC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972-BE48-4AB5-9004-227BAED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07F-50D9-4D6C-A186-23495C0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114-F8A9-4CF8-B7C7-D6F530E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417-2267-4E20-891C-BE818CD87D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462-C8DE-4E5B-A388-91B2B684B33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165-33C7-4495-8C2D-3C5B0CFA2E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ECD-57BC-4411-ACCE-0B6AF433636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547640" y="1773000"/>
            <a:ext cx="705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2745"/>
                </a:solidFill>
                <a:latin typeface="Trebuchet MS"/>
              </a:rPr>
              <a:t>«О великий, могучий, правдивый и свободный русский язык!»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2745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2745"/>
                </a:solidFill>
                <a:latin typeface="Trebuchet MS"/>
              </a:rPr>
              <a:t>            </a:t>
            </a:r>
            <a:r>
              <a:rPr b="1" i="1" lang="ru-RU" sz="2500" spc="-1" strike="noStrike">
                <a:solidFill>
                  <a:srgbClr val="212745"/>
                </a:solidFill>
                <a:latin typeface="Trebuchet MS"/>
              </a:rPr>
              <a:t>(И. С. Тургенев)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2745"/>
                </a:solidFill>
                <a:latin typeface="Trebuchet MS"/>
              </a:rPr>
              <a:t>                                            </a:t>
            </a:r>
            <a:r>
              <a:rPr b="1" i="1" lang="ru-RU" sz="2200" spc="-1" strike="noStrike">
                <a:solidFill>
                  <a:srgbClr val="212745"/>
                </a:solidFill>
                <a:latin typeface="Trebuchet MS"/>
              </a:rPr>
              <a:t>Подготовила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rebuchet MS"/>
              </a:rPr>
              <a:t>                                           </a:t>
            </a:r>
            <a:r>
              <a:rPr b="1" i="1" lang="ru-RU" sz="2200" spc="-1" strike="noStrike">
                <a:solidFill>
                  <a:srgbClr val="212745"/>
                </a:solidFill>
                <a:latin typeface="Trebuchet MS"/>
              </a:rPr>
              <a:t>учитель начальных класс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rebuchet MS"/>
              </a:rPr>
              <a:t>                                             </a:t>
            </a:r>
            <a:r>
              <a:rPr b="1" i="1" lang="ru-RU" sz="2200" spc="-1" strike="noStrike">
                <a:solidFill>
                  <a:srgbClr val="212745"/>
                </a:solidFill>
                <a:latin typeface="Trebuchet MS"/>
              </a:rPr>
              <a:t>Недилько О.В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201600"/>
            <a:ext cx="7174080" cy="185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азбука"/>
          <p:cNvPicPr/>
          <p:nvPr/>
        </p:nvPicPr>
        <p:blipFill>
          <a:blip r:embed="rId2"/>
          <a:srcRect l="2795" t="0" r="0" b="0"/>
          <a:stretch/>
        </p:blipFill>
        <p:spPr>
          <a:xfrm>
            <a:off x="468360" y="3068640"/>
            <a:ext cx="41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148360" y="1412640"/>
            <a:ext cx="3132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СТАВЬ ПРОПУЩЕННЫЕ БУКВЫ И ПОДЧЕРКНИ ОРФОГРАММ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Объект 5" descr=""/>
          <p:cNvPicPr/>
          <p:nvPr/>
        </p:nvPicPr>
        <p:blipFill>
          <a:blip r:embed="rId1"/>
          <a:stretch/>
        </p:blipFill>
        <p:spPr>
          <a:xfrm>
            <a:off x="-1189080" y="676440"/>
            <a:ext cx="5797440" cy="353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cheburashka"/>
          <p:cNvPicPr/>
          <p:nvPr/>
        </p:nvPicPr>
        <p:blipFill>
          <a:blip r:embed="rId2"/>
          <a:stretch/>
        </p:blipFill>
        <p:spPr>
          <a:xfrm>
            <a:off x="250920" y="1844640"/>
            <a:ext cx="4033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87440" y="2127240"/>
            <a:ext cx="7821360" cy="4108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143000" y="73152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9. Задание команда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11" descr="9f4c7997cd1195b82c39bba72c7e0bbd"/>
          <p:cNvPicPr/>
          <p:nvPr/>
        </p:nvPicPr>
        <p:blipFill>
          <a:blip r:embed="rId2"/>
          <a:stretch/>
        </p:blipFill>
        <p:spPr>
          <a:xfrm>
            <a:off x="4427640" y="2565360"/>
            <a:ext cx="437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1957320"/>
            <a:ext cx="7864200" cy="4351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4920" y="731880"/>
            <a:ext cx="71485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10. Вопросы на засыпку болельщикам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01760" y="1847880"/>
            <a:ext cx="6973920" cy="3882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143000" y="731880"/>
            <a:ext cx="381168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Награждение побе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689120" y="549360"/>
            <a:ext cx="6308640" cy="1565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022120" y="1916280"/>
            <a:ext cx="5970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. На обсуждение вопроса даётся 1 мину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. До истечения этого времени команда должна найти отв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3. Капитан решает вопрос о том, кто будет отвеча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4. Если команда даёт неправильный ответ, у других команд есть время для обсужд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901800" y="695160"/>
            <a:ext cx="7095960" cy="15670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771640" y="2205000"/>
            <a:ext cx="5221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95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знай назван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оманды»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5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5dacfd824d63b97e31b59394d030c467"/>
          <p:cNvPicPr/>
          <p:nvPr/>
        </p:nvPicPr>
        <p:blipFill>
          <a:blip r:embed="rId2"/>
          <a:stretch/>
        </p:blipFill>
        <p:spPr>
          <a:xfrm>
            <a:off x="285840" y="1500120"/>
            <a:ext cx="21668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0240" y="85680"/>
            <a:ext cx="7967520" cy="30542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4360" y="3284280"/>
            <a:ext cx="73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2745"/>
                </a:solidFill>
                <a:latin typeface="Trebuchet MS"/>
              </a:rPr>
              <a:t>«Знатоки»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7" descr="винни"/>
          <p:cNvPicPr/>
          <p:nvPr/>
        </p:nvPicPr>
        <p:blipFill>
          <a:blip r:embed="rId2"/>
          <a:stretch/>
        </p:blipFill>
        <p:spPr>
          <a:xfrm rot="21396000">
            <a:off x="5587560" y="2646000"/>
            <a:ext cx="3413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901800" y="-103320"/>
            <a:ext cx="7188120" cy="2310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777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 команда:   с..б..к.., п..льт.., г..р..д, ф..м..л.. .., м..л..к.., м..ш..н.., з.. ..ц, м..с..ц, ..р..ж..й, ж..лт..й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 команда:    м..дв..дь, п..г..д.., м..р..з, д..р..г.., м..л..н.., п..м..д..р, з..в..д, ..б..д, ч..рн..й, к..п..ст…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116000" y="79200"/>
            <a:ext cx="7169040" cy="2487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022120" y="1413000"/>
            <a:ext cx="5970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indent="0" algn="ctr">
              <a:lnSpc>
                <a:spcPct val="80000"/>
              </a:lnSpc>
              <a:spcBef>
                <a:spcPts val="1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4200" spc="-1" strike="noStrike">
                <a:solidFill>
                  <a:srgbClr val="212745"/>
                </a:solidFill>
                <a:latin typeface="Trebuchet MS"/>
              </a:rPr>
              <a:t>«Шифровка».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12745"/>
                </a:solidFill>
                <a:latin typeface="Trebuchet MS"/>
              </a:rPr>
              <a:t> 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212745"/>
                </a:solidFill>
                <a:latin typeface="Trebuchet MS"/>
              </a:rPr>
              <a:t>12 20 16     4 16 3 16 18 10 20      15 1        3 19 6 23       33 9 29 12 1 23? </a:t>
            </a:r>
            <a:endParaRPr b="0" lang="en-US" sz="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133640" y="342900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2016     416316181020      151        319623       3392912123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D:\Users\Graphics\Матем 1.files\alisa.jpg"/>
          <p:cNvPicPr/>
          <p:nvPr/>
        </p:nvPicPr>
        <p:blipFill>
          <a:blip r:embed="rId2"/>
          <a:stretch/>
        </p:blipFill>
        <p:spPr>
          <a:xfrm>
            <a:off x="539640" y="189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2" descr=""/>
          <p:cNvPicPr/>
          <p:nvPr/>
        </p:nvPicPr>
        <p:blipFill>
          <a:blip r:embed="rId1"/>
          <a:stretch/>
        </p:blipFill>
        <p:spPr>
          <a:xfrm>
            <a:off x="725400" y="378000"/>
            <a:ext cx="7266240" cy="2328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560" y="2420640"/>
            <a:ext cx="720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стол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 овод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яр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од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     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газ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     марк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хор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он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бор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212745"/>
                </a:solidFill>
                <a:latin typeface="Trebuchet MS"/>
              </a:rPr>
              <a:t>я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5" descr="116"/>
          <p:cNvPicPr/>
          <p:nvPr/>
        </p:nvPicPr>
        <p:blipFill>
          <a:blip r:embed="rId2"/>
          <a:stretch/>
        </p:blipFill>
        <p:spPr>
          <a:xfrm>
            <a:off x="252360" y="2349360"/>
            <a:ext cx="2268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68000" y="62064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6. Конкурс  для болельщико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Заголовок 5" descr=""/>
          <p:cNvPicPr/>
          <p:nvPr/>
        </p:nvPicPr>
        <p:blipFill>
          <a:blip r:embed="rId1"/>
          <a:stretch/>
        </p:blipFill>
        <p:spPr>
          <a:xfrm>
            <a:off x="1627200" y="4211640"/>
            <a:ext cx="6681600" cy="2133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picm"/>
          <p:cNvPicPr/>
          <p:nvPr/>
        </p:nvPicPr>
        <p:blipFill>
          <a:blip r:embed="rId2"/>
          <a:stretch/>
        </p:blipFill>
        <p:spPr>
          <a:xfrm>
            <a:off x="5465880" y="404640"/>
            <a:ext cx="320976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76000" y="1699920"/>
            <a:ext cx="5635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7267680" cy="1682640"/>
          </a:xfrm>
          <a:prstGeom prst="rect">
            <a:avLst/>
          </a:prstGeom>
          <a:ln w="0">
            <a:noFill/>
          </a:ln>
        </p:spPr>
      </p:pic>
      <p:grpSp>
        <p:nvGrpSpPr>
          <p:cNvPr id="239" name="Группа 2"/>
          <p:cNvGrpSpPr/>
          <p:nvPr/>
        </p:nvGrpSpPr>
        <p:grpSpPr>
          <a:xfrm>
            <a:off x="1193760" y="1989000"/>
            <a:ext cx="1292400" cy="914400"/>
            <a:chOff x="1193760" y="1989000"/>
            <a:chExt cx="1292400" cy="914400"/>
          </a:xfrm>
        </p:grpSpPr>
        <p:sp>
          <p:nvSpPr>
            <p:cNvPr id="240" name="Rectangle 3"/>
            <p:cNvSpPr/>
            <p:nvPr/>
          </p:nvSpPr>
          <p:spPr>
            <a:xfrm>
              <a:off x="1193760" y="1989000"/>
              <a:ext cx="129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Рисунок 6" descr=""/>
          <p:cNvPicPr/>
          <p:nvPr/>
        </p:nvPicPr>
        <p:blipFill>
          <a:blip r:embed="rId2"/>
          <a:stretch/>
        </p:blipFill>
        <p:spPr>
          <a:xfrm>
            <a:off x="1601640" y="2276640"/>
            <a:ext cx="56343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1-01T04:27:58Z</dcterms:modified>
  <cp:revision>12</cp:revision>
  <dc:subject/>
  <dc:title>Брей-ринг</dc:title>
</cp:coreProperties>
</file>