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1.wmf" ContentType="image/x-wmf"/>
  <Override PartName="/ppt/media/image3.png" ContentType="image/png"/>
  <Override PartName="/ppt/media/image17.jpeg" ContentType="image/jpeg"/>
  <Override PartName="/ppt/media/image8.png" ContentType="image/png"/>
  <Override PartName="/ppt/media/image7.wmf" ContentType="image/x-wmf"/>
  <Override PartName="/ppt/media/image22.wmf" ContentType="image/x-wmf"/>
  <Override PartName="/ppt/media/image10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4.gif" ContentType="image/gif"/>
  <Override PartName="/ppt/media/image6.gif" ContentType="image/gi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2A1F-7B98-4E23-8645-CC4655C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6D03-C7D6-42F7-BCD6-41CCB50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1D5C-AF67-4810-B4FA-D3CE15D7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5B4E-3326-4330-AFE6-456CF21A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EFE0-304A-4ACA-B4DD-206ECD20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17FC-3D6C-411A-8C4C-631D9C2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063-CA56-4D3E-8A62-E6A37C25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5BB9-EEC0-4CEB-BF24-4072893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30BB-C23F-42A3-A535-22409675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39CA-A0FD-4BFD-AFE6-1976982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2E90-B442-408A-A089-4919A73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9F86-F0EF-4188-9A55-86CF1DC7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0888-5045-4332-9110-57306F0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28B6-DB86-4809-85D5-84B5FA6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8FD9-61EB-4962-B01E-1061A20E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F9E-B60D-4CB1-9655-CDDE1B4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0C60-6729-4918-9575-5FCD4598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277F-B89A-4A1C-96FF-67A87B5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837F-E3A4-4BE8-946F-D6865B4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4C53-5EB8-4A84-A728-5F0B09A3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CB23-D51D-4BFA-902A-DBA9A12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2618-5726-4004-AD83-EFB8D46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D302-6CB9-4707-8CD2-E316B3E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DCA4-2B70-412C-B860-003704E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F0F7-1E61-4F13-B17A-6CABDD401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DB8-0FD5-4400-BBD5-BDBB01F07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2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400" spc="-1" strike="noStrike" u="sng">
                <a:solidFill>
                  <a:srgbClr val="e5e5ff"/>
                </a:solidFill>
                <a:uFillTx/>
                <a:latin typeface="Garamond"/>
              </a:rPr>
              <a:t>Учение – это сила.</a:t>
            </a:r>
            <a:endParaRPr b="1" lang="en-US" sz="10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03840" y="981000"/>
            <a:ext cx="383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6-6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200" y="414972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3716280"/>
            <a:ext cx="2228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7880" y="465300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087 -0.06567 L 0.55087 -0.39861 E">
                                      <p:cBhvr>
                                        <p:cTn id="12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63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03840" y="981000"/>
            <a:ext cx="44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9+1+2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8600" y="414972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716280"/>
            <a:ext cx="2228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7880" y="465300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72 -0.23352 L 0.48472 -0.56647 E">
                                      <p:cBhvr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636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564000" y="981000"/>
            <a:ext cx="518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5-5-2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4600" y="414972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1280" y="3573360"/>
            <a:ext cx="1398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17880" y="465300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66 0.04185 L 0.63473 -0.36717 E">
                                      <p:cBhvr>
                                        <p:cTn id="1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36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19640" y="981000"/>
            <a:ext cx="5329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5+5+0=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4600" y="414972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30320" y="3573360"/>
            <a:ext cx="2228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2081 L 0.58663 -0.38821 E">
                                      <p:cBhvr>
                                        <p:cTn id="17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63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64000" y="98100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10+9+1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2600" y="414972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30320" y="3573360"/>
            <a:ext cx="2228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9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0.03168 L 0.76997 -0.48254 E">
                                      <p:cBhvr>
                                        <p:cTn id="18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636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2268360" y="1125360"/>
            <a:ext cx="3673800" cy="16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ч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 rot="20389200">
            <a:off x="3993840" y="2103840"/>
            <a:ext cx="329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Garamond"/>
              </a:rPr>
              <a:t>10 : 0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87640" y="2513160"/>
            <a:ext cx="33847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564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Лыжные гонк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9600" cy="525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584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3" name=""/>
          <p:cNvCxnSpPr/>
          <p:nvPr/>
        </p:nvCxnSpPr>
        <p:spPr>
          <a:xfrm flipH="1" flipV="1" rot="5400000">
            <a:off x="2980800" y="2166480"/>
            <a:ext cx="6857280" cy="252324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 flipH="1" flipV="1" rot="5400000">
            <a:off x="4490640" y="2204640"/>
            <a:ext cx="6858720" cy="2448720"/>
          </a:xfrm>
          <a:prstGeom prst="curvedConnector5">
            <a:avLst>
              <a:gd name="adj1" fmla="val 47036"/>
              <a:gd name="adj2" fmla="val 49992"/>
              <a:gd name="adj3" fmla="val 4703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564000" y="2997360"/>
            <a:ext cx="792000" cy="57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87280" y="6400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ар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52680" y="642132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арт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flipV="1" rot="5400000">
            <a:off x="551880" y="5574600"/>
            <a:ext cx="1774080" cy="79308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flipV="1" rot="16200000">
            <a:off x="323280" y="3644280"/>
            <a:ext cx="1729440" cy="129780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 flipV="1" rot="5400000">
            <a:off x="324000" y="1914840"/>
            <a:ext cx="1728000" cy="129780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V="1" rot="16200000">
            <a:off x="480600" y="489960"/>
            <a:ext cx="1845360" cy="8643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H="1" flipV="1" rot="5400000">
            <a:off x="1848960" y="5574960"/>
            <a:ext cx="1774080" cy="792720"/>
          </a:xfrm>
          <a:prstGeom prst="curvedConnector5">
            <a:avLst>
              <a:gd name="adj1" fmla="val 49949"/>
              <a:gd name="adj2" fmla="val 49977"/>
              <a:gd name="adj3" fmla="val 4994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/>
          <p:nvPr/>
        </p:nvCxnSpPr>
        <p:spPr>
          <a:xfrm flipV="1" rot="16200000">
            <a:off x="1618920" y="3573000"/>
            <a:ext cx="1729440" cy="1297440"/>
          </a:xfrm>
          <a:prstGeom prst="curvedConnector5">
            <a:avLst>
              <a:gd name="adj1" fmla="val 49947"/>
              <a:gd name="adj2" fmla="val 49986"/>
              <a:gd name="adj3" fmla="val 4994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 flipH="1" flipV="1" rot="5400000">
            <a:off x="1511640" y="2022840"/>
            <a:ext cx="1728000" cy="1081800"/>
          </a:xfrm>
          <a:prstGeom prst="curvedConnector5">
            <a:avLst>
              <a:gd name="adj1" fmla="val 30506"/>
              <a:gd name="adj2" fmla="val 50000"/>
              <a:gd name="adj3" fmla="val 3050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/>
          <p:nvPr/>
        </p:nvCxnSpPr>
        <p:spPr>
          <a:xfrm flipV="1" rot="16200000">
            <a:off x="1560960" y="417600"/>
            <a:ext cx="1774080" cy="937440"/>
          </a:xfrm>
          <a:prstGeom prst="curvedConnector5">
            <a:avLst>
              <a:gd name="adj1" fmla="val 56383"/>
              <a:gd name="adj2" fmla="val 49980"/>
              <a:gd name="adj3" fmla="val 563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900000" y="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фин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0960" y="-69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фин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56880" y="55897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+□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45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+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1520" y="38606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1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1840" y="319248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3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84720" y="24210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+□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3320" y="146376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7-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16080" y="5493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9=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4440" y="587700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-□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12160" y="5445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4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9040" y="47973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2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67440" y="42926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+□=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8800" y="371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- □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9720" y="3141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3=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800" y="25653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8-□=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4600" y="191628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10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2080" y="1268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□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2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35160" y="62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7- □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189000"/>
            <a:ext cx="2734920" cy="2303280"/>
          </a:xfrm>
          <a:prstGeom prst="wedgeRoundRectCallout">
            <a:avLst>
              <a:gd name="adj1" fmla="val -46342"/>
              <a:gd name="adj2" fmla="val 7625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еши приме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 окош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1008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7" name=""/>
          <p:cNvCxnSpPr/>
          <p:nvPr/>
        </p:nvCxnSpPr>
        <p:spPr>
          <a:xfrm flipH="1" flipV="1" rot="5400000">
            <a:off x="2980800" y="2166480"/>
            <a:ext cx="6857280" cy="252324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H="1" flipV="1" rot="5400000">
            <a:off x="4490640" y="2204640"/>
            <a:ext cx="6858720" cy="2448720"/>
          </a:xfrm>
          <a:prstGeom prst="curvedConnector5">
            <a:avLst>
              <a:gd name="adj1" fmla="val 47036"/>
              <a:gd name="adj2" fmla="val 49992"/>
              <a:gd name="adj3" fmla="val 4703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187280" y="6400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ар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2680" y="642132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арт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/>
          <p:nvPr/>
        </p:nvCxnSpPr>
        <p:spPr>
          <a:xfrm flipH="1" flipV="1" rot="5400000">
            <a:off x="551880" y="5574600"/>
            <a:ext cx="1774080" cy="79308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/>
          <p:nvPr/>
        </p:nvCxnSpPr>
        <p:spPr>
          <a:xfrm flipV="1" rot="16200000">
            <a:off x="323280" y="3644280"/>
            <a:ext cx="1729440" cy="129780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/>
          <p:nvPr/>
        </p:nvCxnSpPr>
        <p:spPr>
          <a:xfrm flipH="1" flipV="1" rot="5400000">
            <a:off x="324000" y="1914840"/>
            <a:ext cx="1728000" cy="129780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 flipV="1" rot="16200000">
            <a:off x="480600" y="489960"/>
            <a:ext cx="1845360" cy="8643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/>
          <p:nvPr/>
        </p:nvCxnSpPr>
        <p:spPr>
          <a:xfrm flipH="1" flipV="1" rot="5400000">
            <a:off x="1848960" y="5574960"/>
            <a:ext cx="1774080" cy="792720"/>
          </a:xfrm>
          <a:prstGeom prst="curvedConnector5">
            <a:avLst>
              <a:gd name="adj1" fmla="val 49949"/>
              <a:gd name="adj2" fmla="val 49977"/>
              <a:gd name="adj3" fmla="val 4994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/>
          <p:nvPr/>
        </p:nvCxnSpPr>
        <p:spPr>
          <a:xfrm flipV="1" rot="16200000">
            <a:off x="1618920" y="3573000"/>
            <a:ext cx="1729440" cy="1297440"/>
          </a:xfrm>
          <a:prstGeom prst="curvedConnector5">
            <a:avLst>
              <a:gd name="adj1" fmla="val 49947"/>
              <a:gd name="adj2" fmla="val 49986"/>
              <a:gd name="adj3" fmla="val 4994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/>
          <p:nvPr/>
        </p:nvCxnSpPr>
        <p:spPr>
          <a:xfrm flipH="1" flipV="1" rot="5400000">
            <a:off x="1511640" y="2022840"/>
            <a:ext cx="1728000" cy="1081800"/>
          </a:xfrm>
          <a:prstGeom prst="curvedConnector5">
            <a:avLst>
              <a:gd name="adj1" fmla="val 30506"/>
              <a:gd name="adj2" fmla="val 50000"/>
              <a:gd name="adj3" fmla="val 3050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flipV="1" rot="16200000">
            <a:off x="1560960" y="417600"/>
            <a:ext cx="1774080" cy="937440"/>
          </a:xfrm>
          <a:prstGeom prst="curvedConnector5">
            <a:avLst>
              <a:gd name="adj1" fmla="val 56383"/>
              <a:gd name="adj2" fmla="val 49980"/>
              <a:gd name="adj3" fmla="val 563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900000" y="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фин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0960" y="-69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фин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1520" y="55897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+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58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+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06160" y="386064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1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66680" y="324000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3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29360" y="242100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+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4080" y="146376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7-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32280" y="549360"/>
            <a:ext cx="15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9=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69080" y="58770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6800" y="5445000"/>
            <a:ext cx="11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4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85240" y="479736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2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2440" y="42926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+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5960" y="371628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-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5920" y="3141720"/>
            <a:ext cx="15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3=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64800" y="256536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8-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0800" y="19162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10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28280" y="1268280"/>
            <a:ext cx="15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2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3520" y="62064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7-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68720" cy="244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03640" y="189000"/>
            <a:ext cx="3816360" cy="1511280"/>
          </a:xfrm>
          <a:prstGeom prst="cloudCallout">
            <a:avLst>
              <a:gd name="adj1" fmla="val -3745"/>
              <a:gd name="adj2" fmla="val 1066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395280"/>
            <a:ext cx="34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Garamond"/>
              </a:rPr>
              <a:t>Проверь себ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5e5ff"/>
                </a:solidFill>
                <a:latin typeface="Garamond"/>
              </a:rPr>
              <a:t>Зимняя математическая олимпиад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17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987640" y="2513160"/>
            <a:ext cx="33847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5649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Биатлон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189000"/>
            <a:ext cx="8136000" cy="1728720"/>
          </a:xfrm>
          <a:prstGeom prst="wedgeEllipseCallout">
            <a:avLst>
              <a:gd name="adj1" fmla="val -31365"/>
              <a:gd name="adj2" fmla="val 7001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7120" y="566640"/>
            <a:ext cx="61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Попади в мишен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2637000"/>
            <a:ext cx="2160720" cy="1655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1640" y="4221000"/>
            <a:ext cx="1873080" cy="158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4221000"/>
            <a:ext cx="1873080" cy="158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843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987640" y="2513160"/>
            <a:ext cx="33847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564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3457440" cy="2881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311280" cy="2365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279960" cy="2232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311120" y="206280"/>
            <a:ext cx="66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Фигурное ка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3312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1440000" cy="1817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439640" cy="181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132000" y="765000"/>
            <a:ext cx="1440000" cy="181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5219640" y="1989000"/>
            <a:ext cx="1158840" cy="1822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158840" cy="1822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7380360" y="2492280"/>
            <a:ext cx="1158840" cy="1822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4068000" y="909000"/>
            <a:ext cx="1295280" cy="820872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15840" y="5749920"/>
            <a:ext cx="48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43480" y="31680"/>
            <a:ext cx="21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87120" y="558972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3+3=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56560" y="0"/>
            <a:ext cx="46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оставь и реши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1440000" cy="1817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439640" cy="181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132000" y="765000"/>
            <a:ext cx="1440000" cy="1818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219640" y="1989000"/>
            <a:ext cx="1158840" cy="1822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012000" y="765000"/>
            <a:ext cx="1158840" cy="1822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7380360" y="2492280"/>
            <a:ext cx="1158840" cy="1822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16200000">
            <a:off x="4068000" y="909000"/>
            <a:ext cx="1295280" cy="820872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15840" y="5749920"/>
            <a:ext cx="48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оставь и реши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72160" y="573408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Garamond"/>
              </a:rPr>
              <a:t>2 3=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6093000"/>
            <a:ext cx="142920" cy="14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55640" y="6093000"/>
            <a:ext cx="142920" cy="14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 0.07769 L 0.46476 -0.23699 E">
                                      <p:cBhvr>
                                        <p:cTn id="538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5434E-006 L -0.48854 0.00347 E">
                                      <p:cBhvr>
                                        <p:cTn id="5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6532E-006 L -0.44097 -1.96532E-006 E">
                                      <p:cBhvr>
                                        <p:cTn id="5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13271 L -0.00034 0.20023 E">
                                      <p:cBhvr>
                                        <p:cTn id="54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616200" y="10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684080" cy="1806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684080" cy="1806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140360" y="1125360"/>
            <a:ext cx="1684080" cy="1806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1729080" cy="1806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611280" y="3213000"/>
            <a:ext cx="1189080" cy="1814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2556000" y="3213000"/>
            <a:ext cx="1189080" cy="1814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4500720" y="3213000"/>
            <a:ext cx="1188720" cy="1814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68360" y="537372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Garamond"/>
              </a:rPr>
              <a:t>4-3=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16360" y="189000"/>
            <a:ext cx="52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ставь и реши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138200">
            <a:off x="4892400" y="1530720"/>
            <a:ext cx="3168360" cy="344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93" y="1172"/>
                </a:moveTo>
                <a:arcTo wR="10800" hR="10800" stAng="-3783715" swAng="5983192"/>
                <a:lnTo>
                  <a:pt x="10800" y="10800"/>
                </a:lnTo>
                <a:close/>
              </a:path>
              <a:path fill="none" w="21600" h="21600">
                <a:moveTo>
                  <a:pt x="15693" y="1172"/>
                </a:moveTo>
                <a:arcTo wR="10800" hR="10800" stAng="-3783715" swAng="5983192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79640" y="2144880"/>
            <a:ext cx="921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67640" y="206064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67640" y="206064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308720" y="4365720"/>
            <a:ext cx="142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08720" y="46530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987640" y="2513160"/>
            <a:ext cx="338472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564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вые нов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егодня в 1 классе была проведена зимняя математическая олимпиада по тем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«Сложение и вычитание чисел от1 до 20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ченики завоевали  медали в 4 видах спорта: хоккей, биатлон, лыжные гонки и фигурное катание и показали прочные знания и ум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ети отлично решают примеры на сложение и вычитание, знают состав чисел от 1 до 20 и умеют составлять и решать зада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частник олимпиады, набравший 4 больших медали объявляется победителем и получает в награду золотую меда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8" dur="158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88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соревнований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527280" cy="1930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345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345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67280" y="4842000"/>
            <a:ext cx="345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59120" y="118440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Хокк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68640" y="15429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Лыжные гон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1320" y="37036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Биатл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9000" y="428004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игурное катание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e5e5ff"/>
                </a:solidFill>
                <a:uFillTx/>
                <a:latin typeface="Garamond"/>
              </a:rPr>
              <a:t>С победой!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759280" y="3500280"/>
            <a:ext cx="3384720" cy="3357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203640" y="404964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116000" y="4573440"/>
            <a:ext cx="2376360" cy="2284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0" y="5027760"/>
            <a:ext cx="1830240" cy="1830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0" y="25653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69687 -0.16786 E">
                                      <p:cBhvr>
                                        <p:cTn id="701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000"/>
                            </p:stCondLst>
                            <p:childTnLst>
                              <p:par>
                                <p:cTn id="7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4745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Garamond"/>
              </a:rPr>
              <a:t>Хоккей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03840" y="981000"/>
            <a:ext cx="383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4+2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414972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640" y="3716280"/>
            <a:ext cx="1398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2104 L 0.5875 -0.38798 E">
                                      <p:cBhvr>
                                        <p:cTn id="4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63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03840" y="981000"/>
            <a:ext cx="383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7-4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9200" y="414972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3716280"/>
            <a:ext cx="1398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97 -0.20208 L 0.39097 -0.53502 E">
                                      <p:cBhvr>
                                        <p:cTn id="5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3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03840" y="981000"/>
            <a:ext cx="383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3+4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414972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3560" y="357336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20208 L 0.43038 -0.53502 E">
                                      <p:cBhvr>
                                        <p:cTn id="7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63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03840" y="981000"/>
            <a:ext cx="383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8-2=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200" y="414972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640" y="3716280"/>
            <a:ext cx="1398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8480" y="4653000"/>
            <a:ext cx="1011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0.02104 L 0.54809 -0.38798 E">
                                      <p:cBhvr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36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62520" y="3071880"/>
            <a:ext cx="5181480" cy="3786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3495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03840" y="981000"/>
            <a:ext cx="383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Garamond"/>
              </a:rPr>
              <a:t>10+4=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8600" y="414972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640" y="3716280"/>
            <a:ext cx="1398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17880" y="4653000"/>
            <a:ext cx="184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03145 L 0.72083 -0.47214 E">
                                      <p:cBhvr>
                                        <p:cTn id="10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636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8:11:17Z</dcterms:created>
  <dc:creator>юрий</dc:creator>
  <dc:description/>
  <dc:language>en-US</dc:language>
  <cp:lastModifiedBy>User</cp:lastModifiedBy>
  <dcterms:modified xsi:type="dcterms:W3CDTF">2010-05-05T11:05:57Z</dcterms:modified>
  <cp:revision>7</cp:revision>
  <dc:subject/>
  <dc:title>Учение – сила.</dc:title>
</cp:coreProperties>
</file>