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gif" ContentType="image/gif"/>
  <Override PartName="/ppt/media/image32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1.jpeg" ContentType="image/jpeg"/>
  <Override PartName="/ppt/media/image29.png" ContentType="image/png"/>
  <Override PartName="/ppt/media/image17.gif" ContentType="image/gif"/>
  <Override PartName="/ppt/media/image27.jpeg" ContentType="image/jpeg"/>
  <Override PartName="/ppt/media/image16.gif" ContentType="image/gif"/>
  <Override PartName="/ppt/media/image12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11.gif" ContentType="image/gif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3.wmf" ContentType="image/x-wmf"/>
  <Override PartName="/ppt/media/image28.jpeg" ContentType="image/jpeg"/>
  <Override PartName="/ppt/media/image38.jpeg" ContentType="image/jpeg"/>
  <Override PartName="/ppt/media/image7.jpeg" ContentType="image/jpeg"/>
  <Override PartName="/ppt/media/image5.gif" ContentType="image/gif"/>
  <Override PartName="/ppt/media/image3.gif" ContentType="image/gif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81F-53AD-4E0D-A533-77C9DC5C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B68-4949-49A7-BF31-1F0B2AD6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633-D1F4-4734-9457-3B5F74BF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30A-F3EC-45D3-866A-C99A4578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789-5302-491D-B3DB-C0ED51DC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978-ADC1-440B-8417-CE997E32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DFD-92B7-4A82-B7BD-13404F3A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D1C-329B-477E-A285-D1F090A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D9D-124E-4797-8749-71AEBD05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0FA-6FBE-4D5D-8B6D-C868E816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E1C-D876-4CB0-888A-C578C490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1E4-21CA-46F2-8BCF-C4DF8B31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1E87-F6BA-4559-8950-3F4FCA930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907920"/>
            <a:ext cx="7417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34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 О Н В Е Н Ц И 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          П Р А В А Х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   Е   Б   Ё   Н  К   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ринцип  недискримин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вает защиту ребёнка от всех форм наказания со стороны родителей, законных опекунов или иных членов семьи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bebe14"/>
          <p:cNvPicPr/>
          <p:nvPr/>
        </p:nvPicPr>
        <p:blipFill>
          <a:blip r:embed="rId1"/>
          <a:stretch/>
        </p:blipFill>
        <p:spPr>
          <a:xfrm>
            <a:off x="6084720" y="3357720"/>
            <a:ext cx="2119320" cy="195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илучше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обеспече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нтересов 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ребёнку такую защиту и заботу, которые необходимы для его благополучия, принимая во внимание права и обязанности родителей, опеку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Кристина\Рабочий стол\babyluca.jpg"/>
          <p:cNvPicPr/>
          <p:nvPr/>
        </p:nvPicPr>
        <p:blipFill>
          <a:blip r:embed="rId1"/>
          <a:stretch/>
        </p:blipFill>
        <p:spPr>
          <a:xfrm>
            <a:off x="4572000" y="2205000"/>
            <a:ext cx="439272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илучше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обеспече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нтересов 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тране созданы органы опеки и попечительства для защиты прав и интересов несовершеннолетних  в целях их воспитания при отсутствии у них родителей или лишении родительских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Documents and Settings\Кристина\Рабочий стол\2.jpg"/>
          <p:cNvPicPr/>
          <p:nvPr/>
        </p:nvPicPr>
        <p:blipFill>
          <a:blip r:embed="rId1"/>
          <a:stretch/>
        </p:blipFill>
        <p:spPr>
          <a:xfrm>
            <a:off x="4788000" y="2421000"/>
            <a:ext cx="4038480" cy="3316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илучше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обеспече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нтересов 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бёнок имеет право на воспитание своими родителями, обеспечение его интересов , всестороннее развитие, уважение его человеческого достои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C:\Documents and Settings\Кристина\Рабочий стол\j0316863.jpg"/>
          <p:cNvPicPr/>
          <p:nvPr/>
        </p:nvPicPr>
        <p:blipFill>
          <a:blip r:embed="rId1"/>
          <a:stretch/>
        </p:blipFill>
        <p:spPr>
          <a:xfrm>
            <a:off x="4859280" y="1844640"/>
            <a:ext cx="352908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илучше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обеспече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нтересов 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и несут ответственность за воспитание и развитие своих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ни обяза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аботиться о здоровье, физическом, психическом, духовном и нравственном развитии детей, получении ими обще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Documents and Settings\Кристина\Рабочий стол\1756369.jpg"/>
          <p:cNvPicPr/>
          <p:nvPr/>
        </p:nvPicPr>
        <p:blipFill>
          <a:blip r:embed="rId1"/>
          <a:stretch/>
        </p:blipFill>
        <p:spPr>
          <a:xfrm>
            <a:off x="5292720" y="2492280"/>
            <a:ext cx="367200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илучше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обеспече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нтересов 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и, с учётом мнения детей, имеют право выбора образовательного учреждения и формы обучения детей до получения детьми основ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:\Documents and Settings\Кристина\Рабочий стол\do.jpg"/>
          <p:cNvPicPr/>
          <p:nvPr/>
        </p:nvPicPr>
        <p:blipFill>
          <a:blip r:embed="rId1"/>
          <a:stretch/>
        </p:blipFill>
        <p:spPr>
          <a:xfrm>
            <a:off x="4500720" y="1989000"/>
            <a:ext cx="44640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илучше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обеспече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нтересов 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и, осуществляющие родительские права, в ущерб правам и интересам детей, несут ответственность в установ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b35"/>
          <p:cNvPicPr/>
          <p:nvPr/>
        </p:nvPicPr>
        <p:blipFill>
          <a:blip r:embed="rId1"/>
          <a:stretch/>
        </p:blipFill>
        <p:spPr>
          <a:xfrm>
            <a:off x="6191280" y="3147840"/>
            <a:ext cx="2155680" cy="3233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илучше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обеспече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нтересов 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бёнок имеет право на защиту своих прав и законных интересов. Защита осуществляется родителями, органами опеки и попечительства, прокурором и су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Documents and Settings\Кристина\Рабочий стол\O_magazine.jpg"/>
          <p:cNvPicPr/>
          <p:nvPr/>
        </p:nvPicPr>
        <p:blipFill>
          <a:blip r:embed="rId1"/>
          <a:stretch/>
        </p:blipFill>
        <p:spPr>
          <a:xfrm>
            <a:off x="5003640" y="1916280"/>
            <a:ext cx="32403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аво на жизнь,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ыжива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и в интересах охраны своего здоровья имеют право н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диспансерное наблюдение и л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медико – социальную помощь и питание на льготных условиях, устанавливаемых правительством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Documents and Settings\Кристина\Рабочий стол\3649.jpg"/>
          <p:cNvPicPr/>
          <p:nvPr/>
        </p:nvPicPr>
        <p:blipFill>
          <a:blip r:embed="rId1"/>
          <a:stretch/>
        </p:blipFill>
        <p:spPr>
          <a:xfrm>
            <a:off x="5148360" y="2205000"/>
            <a:ext cx="367164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аво на жизнь,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ыжива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еблагоприят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:\Documents and Settings\Кристина\Рабочий стол\4suhodol.jpg"/>
          <p:cNvPicPr/>
          <p:nvPr/>
        </p:nvPicPr>
        <p:blipFill>
          <a:blip r:embed="rId1"/>
          <a:stretch/>
        </p:blipFill>
        <p:spPr>
          <a:xfrm>
            <a:off x="5580000" y="2060640"/>
            <a:ext cx="34560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Конвенция о правах 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принята резолюцией 44</a:t>
            </a: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25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еральной Ассамблеей ООН 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от 20 ноября 1989 года.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ступила в силу 2 сентября 1990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аво на жизнь,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ыжива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Бесплатную медицинскую консульта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)получение информации о состоянии здоровья в доступной для них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j0240719"/>
          <p:cNvPicPr/>
          <p:nvPr/>
        </p:nvPicPr>
        <p:blipFill>
          <a:blip r:embed="rId1"/>
          <a:stretch/>
        </p:blipFill>
        <p:spPr>
          <a:xfrm>
            <a:off x="5796000" y="2205000"/>
            <a:ext cx="2489040" cy="390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аво на жизнь,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ыжива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Ч-инифицированные граждане РФ обладают всеми правами и свобо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ям назначается социальная пенсия, пособия, льг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77"/>
          <p:cNvPicPr/>
          <p:nvPr/>
        </p:nvPicPr>
        <p:blipFill>
          <a:blip r:embed="rId1"/>
          <a:stretch/>
        </p:blipFill>
        <p:spPr>
          <a:xfrm>
            <a:off x="5940360" y="3860640"/>
            <a:ext cx="237348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250920" y="981000"/>
            <a:ext cx="8892000" cy="4446720"/>
            <a:chOff x="250920" y="981000"/>
            <a:chExt cx="8892000" cy="444672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448600" y="2006640"/>
              <a:ext cx="889920" cy="2394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3054600" y="2007360"/>
              <a:ext cx="889920" cy="239400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0"/>
            <p:cNvSpPr/>
            <p:nvPr/>
          </p:nvSpPr>
          <p:spPr>
            <a:xfrm>
              <a:off x="2644200" y="981000"/>
              <a:ext cx="4104000" cy="1778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99"/>
                  </a:solidFill>
                  <a:latin typeface="Arial Black"/>
                </a:rPr>
                <a:t>Ограничение</a:t>
              </a:r>
              <a:endParaRPr b="1" lang="en-US" sz="3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99"/>
                  </a:solidFill>
                  <a:latin typeface="Arial Black"/>
                </a:rPr>
                <a:t>прав </a:t>
              </a:r>
              <a:endParaRPr b="1" lang="en-US" sz="3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99"/>
                  </a:solidFill>
                  <a:latin typeface="Arial Black"/>
                </a:rPr>
                <a:t>родителей</a:t>
              </a:r>
              <a:endParaRPr b="1" lang="en-US" sz="3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>
              <a:off x="250920" y="3648960"/>
              <a:ext cx="4104000" cy="1778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Black"/>
                </a:rPr>
                <a:t>Психическое </a:t>
              </a:r>
              <a:endParaRPr b="1" lang="en-US" sz="24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Black"/>
                </a:rPr>
                <a:t>расстройство, </a:t>
              </a:r>
              <a:endParaRPr b="1" lang="en-US" sz="24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Black"/>
                </a:rPr>
                <a:t>хроническое </a:t>
              </a:r>
              <a:endParaRPr b="1" lang="en-US" sz="24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Black"/>
                </a:rPr>
                <a:t>заболевание</a:t>
              </a:r>
              <a:endParaRPr b="1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5038920" y="3648960"/>
              <a:ext cx="4104000" cy="1778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Black"/>
                </a:rPr>
                <a:t>Поведение </a:t>
              </a:r>
              <a:endParaRPr b="1" lang="en-US" sz="24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Black"/>
                </a:rPr>
                <a:t>родителей,</a:t>
              </a:r>
              <a:endParaRPr b="1" lang="en-US" sz="24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Black"/>
                </a:rPr>
                <a:t> </a:t>
              </a:r>
              <a:r>
                <a:rPr b="1" lang="en-US" sz="2400" spc="-1" strike="noStrike">
                  <a:solidFill>
                    <a:srgbClr val="009999"/>
                  </a:solidFill>
                  <a:latin typeface="Arial Black"/>
                </a:rPr>
                <a:t>опасное</a:t>
              </a:r>
              <a:endParaRPr b="1" lang="en-US" sz="24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Black"/>
                </a:rPr>
                <a:t> </a:t>
              </a:r>
              <a:r>
                <a:rPr b="1" lang="en-US" sz="2400" spc="-1" strike="noStrike">
                  <a:solidFill>
                    <a:srgbClr val="009999"/>
                  </a:solidFill>
                  <a:latin typeface="Arial Black"/>
                </a:rPr>
                <a:t>для здоровья </a:t>
              </a:r>
              <a:endParaRPr b="1" lang="en-US" sz="24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Black"/>
                </a:rPr>
                <a:t>ребёнка</a:t>
              </a:r>
              <a:endParaRPr b="1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Может ли ребёнок быть отобран у родител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епосредственной угрозе жизни ребёнка или его здоровью органы опеки и попечительства вправе немедленно отобрать ребёнка у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MENS003"/>
          <p:cNvPicPr/>
          <p:nvPr/>
        </p:nvPicPr>
        <p:blipFill>
          <a:blip r:embed="rId1"/>
          <a:stretch/>
        </p:blipFill>
        <p:spPr>
          <a:xfrm>
            <a:off x="6372360" y="3500280"/>
            <a:ext cx="2125440" cy="212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ENS003"/>
          <p:cNvPicPr/>
          <p:nvPr/>
        </p:nvPicPr>
        <p:blipFill>
          <a:blip r:embed="rId2"/>
          <a:stretch/>
        </p:blipFill>
        <p:spPr>
          <a:xfrm>
            <a:off x="6372360" y="3500280"/>
            <a:ext cx="2125440" cy="212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Кристина\Рабочий стол\7493_1_o.jpg"/>
          <p:cNvPicPr/>
          <p:nvPr/>
        </p:nvPicPr>
        <p:blipFill>
          <a:blip r:embed="rId3"/>
          <a:stretch/>
        </p:blipFill>
        <p:spPr>
          <a:xfrm>
            <a:off x="4716360" y="1844640"/>
            <a:ext cx="4135680" cy="435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Documents and Settings\Кристина\Рабочий стол\21-2.jpg"/>
          <p:cNvPicPr/>
          <p:nvPr/>
        </p:nvPicPr>
        <p:blipFill>
          <a:blip r:embed="rId4"/>
          <a:stretch/>
        </p:blipFill>
        <p:spPr>
          <a:xfrm>
            <a:off x="4643280" y="1773360"/>
            <a:ext cx="432144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Уголовные наказ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Смертная казн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назначается лицам, совершившим преступление 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до 18 л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бийство беременной женщины. Заведомо для виновного, - наказывается лишением свободы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т 8 до 20 л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либо смертной казнью или пожизненным заключением своб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Уголовные наказ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бийств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матерью новорождённого ребёнка во время или сразу, или после родов,- наказывается лишением свободы на срок д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:\Documents and Settings\Кристина\Рабочий стол\6.jpg"/>
          <p:cNvPicPr/>
          <p:nvPr/>
        </p:nvPicPr>
        <p:blipFill>
          <a:blip r:embed="rId1"/>
          <a:stretch/>
        </p:blipFill>
        <p:spPr>
          <a:xfrm>
            <a:off x="5364000" y="2924280"/>
            <a:ext cx="35290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Уголовные наказ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чинение физических или психических страданий путём систематического нанесения побоев, либо иными насильственными действиями, если это не повлекло последствий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о 3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хищение или захват в качестве заложника несовершеннолетнего –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 3 до 7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В настоящее врем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91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Расширен перечень уголовно- наказуемых действий в отношении несовершеннолетних и усилены отдельные нормы уголовного наказания за преступления, совершаемые в отношении ребёнка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C:\Documents and Settings\Кристина\Рабочий стол\мальчие полоса 3.jpg"/>
          <p:cNvPicPr/>
          <p:nvPr/>
        </p:nvPicPr>
        <p:blipFill>
          <a:blip r:embed="rId1"/>
          <a:stretch/>
        </p:blipFill>
        <p:spPr>
          <a:xfrm>
            <a:off x="6875640" y="3860640"/>
            <a:ext cx="2160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уголовно- наказуемые действ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яз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ражение венерической болезнь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Ч-инфекци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ведомое оставление без помощи в опасной для жизни ситу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рговля деть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нятие проститу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Worried"/>
          <p:cNvPicPr/>
          <p:nvPr/>
        </p:nvPicPr>
        <p:blipFill>
          <a:blip r:embed="rId1"/>
          <a:stretch/>
        </p:blipFill>
        <p:spPr>
          <a:xfrm>
            <a:off x="6156360" y="3068640"/>
            <a:ext cx="24559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уголовно- наказуемые действ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влечение детей в совершение преступлений и антиобщественных действ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лонение к потреблению наркотических веществ и психотроп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Worried"/>
          <p:cNvPicPr/>
          <p:nvPr/>
        </p:nvPicPr>
        <p:blipFill>
          <a:blip r:embed="rId1"/>
          <a:stretch/>
        </p:blipFill>
        <p:spPr>
          <a:xfrm>
            <a:off x="5940360" y="2637000"/>
            <a:ext cx="245448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 Организация Объединенных Нац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еждународная организация, основанная в 1945, со штаб-квартирой в Нью-Йорке. ООН создана союзными державами-победительницами после окончания Второй мировой войны. Ее задачи определены Уставом ООН: «Поддерживать международный мир и безопасность и для этой цели принимать эффективные коллективные меры по предотвращению и устранению угрозы миру... Развивать дружественные отношения между нациями на основе уважения принципа равноправия и самоопределения народов... для обеспечения сотрудничества в разрешении международных проблем экономического, социального, культурного и гуманитарного характера и всемерно способствовать развитию уважения прав человека и основных свобод для всех, без различия расы, пола, языка и религ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рофилактика  самоубий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ние центров экстренной психолого- консультативной помощи по телефону (телефон доверия) и центры психолого- педагогической помощи насел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332268"/>
          <p:cNvPicPr/>
          <p:nvPr/>
        </p:nvPicPr>
        <p:blipFill>
          <a:blip r:embed="rId1"/>
          <a:stretch/>
        </p:blipFill>
        <p:spPr>
          <a:xfrm>
            <a:off x="5867280" y="2959200"/>
            <a:ext cx="277344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Уваже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взглядов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бёнок имеет право выражать свои взгляды по всем вопросам, затрагивающим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му предоставляется возможность быть заслушанным в ходе любого судебного или административного разбир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b39"/>
          <p:cNvPicPr/>
          <p:nvPr/>
        </p:nvPicPr>
        <p:blipFill>
          <a:blip r:embed="rId1"/>
          <a:stretch/>
        </p:blipFill>
        <p:spPr>
          <a:xfrm>
            <a:off x="6300720" y="3860640"/>
            <a:ext cx="205272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Уважен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взглядов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ле ребёнка законодательно придаётся правовое зна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 10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:\Documents and Settings\Кристина\Рабочий стол\р2.jpg"/>
          <p:cNvPicPr/>
          <p:nvPr/>
        </p:nvPicPr>
        <p:blipFill>
          <a:blip r:embed="rId1"/>
          <a:stretch/>
        </p:blipFill>
        <p:spPr>
          <a:xfrm>
            <a:off x="4500720" y="2276640"/>
            <a:ext cx="4464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Действия, которые можно сделать только с согласия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имени и фами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ыновление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а в приёмную сем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ись усыновителей в качестве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Documents and Settings\Кристина\Рабочий стол\715991.jpg"/>
          <p:cNvPicPr/>
          <p:nvPr/>
        </p:nvPicPr>
        <p:blipFill>
          <a:blip r:embed="rId1"/>
          <a:stretch/>
        </p:blipFill>
        <p:spPr>
          <a:xfrm>
            <a:off x="4643280" y="249228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ава ребёнка в законодательстве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мысли, сов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 участвовать в молодёжных организац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 на личную жизнь, тайну переписки, телефонных переговоров, личную тай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C:\Documents and Settings\Кристина\Рабочий стол\ab21ff145f0f.jpg"/>
          <p:cNvPicPr/>
          <p:nvPr/>
        </p:nvPicPr>
        <p:blipFill>
          <a:blip r:embed="rId1"/>
          <a:stretch/>
        </p:blipFill>
        <p:spPr>
          <a:xfrm>
            <a:off x="5148360" y="1773360"/>
            <a:ext cx="352728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ава ребёнка в законодательстве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дители несут ответственность за воспитание и развитие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бёнок имеет право жить и воспитываться в семье, право знать своих родителей, право на их з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D:\tusovka.jpg"/>
          <p:cNvPicPr/>
          <p:nvPr/>
        </p:nvPicPr>
        <p:blipFill>
          <a:blip r:embed="rId1"/>
          <a:stretch/>
        </p:blipFill>
        <p:spPr>
          <a:xfrm>
            <a:off x="4572000" y="1844640"/>
            <a:ext cx="4392720" cy="410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ава ребёнка в законодательстве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 на бесплатное начальное общее, основное общее, среднего общего образования и начального профессиональ-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Pic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Documents and Settings\Кристина\Рабочий стол\j0409508.jpg"/>
          <p:cNvPicPr/>
          <p:nvPr/>
        </p:nvPicPr>
        <p:blipFill>
          <a:blip r:embed="rId2"/>
          <a:stretch/>
        </p:blipFill>
        <p:spPr>
          <a:xfrm>
            <a:off x="4356000" y="162864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ава ребёнка в законодательстве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также на конкурсной основе- бесплатного среднего профессионального, высшего профессионального образования в государственных и муниципальных 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:\Documents and Settings\Кристина\Рабочий стол\1168_1_big.jpg"/>
          <p:cNvPicPr/>
          <p:nvPr/>
        </p:nvPicPr>
        <p:blipFill>
          <a:blip r:embed="rId1"/>
          <a:stretch/>
        </p:blipFill>
        <p:spPr>
          <a:xfrm>
            <a:off x="4788000" y="2205000"/>
            <a:ext cx="403848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сновные цели образования (в законе РФ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питание у ребёнка чувства гражданственности, трудолюбия, уважение к правам и свободам человека, любви к Родине, семье, окружающей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forest27"/>
          <p:cNvPicPr/>
          <p:nvPr/>
        </p:nvPicPr>
        <p:blipFill>
          <a:blip r:embed="rId1"/>
          <a:stretch/>
        </p:blipFill>
        <p:spPr>
          <a:xfrm>
            <a:off x="5105520" y="3763800"/>
            <a:ext cx="4038480" cy="261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сновные цели образования (в законе РФ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9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бёнок воспитывается в духе терпимости, ненасилия, дружбы между наро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Кадет и ветеран"/>
          <p:cNvPicPr/>
          <p:nvPr/>
        </p:nvPicPr>
        <p:blipFill>
          <a:blip r:embed="rId1"/>
          <a:stretch/>
        </p:blipFill>
        <p:spPr>
          <a:xfrm>
            <a:off x="5148360" y="2924280"/>
            <a:ext cx="3362400" cy="338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История принят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46 году Детского фонда ООН (ЮНИСЭФ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который и сегодня остается главным органом, осуществляющим международную помощь де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48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 году Генеральной Ассамблеей была принята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59 году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кларация прав ребенка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, в которой были сформулированы </a:t>
            </a:r>
            <a:r>
              <a:rPr b="1" i="1" lang="ru-RU" sz="1600" spc="-1" strike="noStrike">
                <a:solidFill>
                  <a:srgbClr val="92d050"/>
                </a:solidFill>
                <a:latin typeface="Arial"/>
              </a:rPr>
              <a:t>десять принципов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, определяющих действия всех, кто отвечает за осуществление всей полноты прав детей, и которая имела целью обеспечить им “счастливое детство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79 год Международным годом ребенка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ект Конвенции о правах ребен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Автором первоначального проекта был польский профессор-международник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Адам Лопат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. Работа над текстом проекта Конвенции велась десять лет и завершилась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89 году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, ровно через тридцать лет после принятия Декларации прав ребенка. Вступил в силу 2 сентября 1990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сновные цели образования (в законе РФ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ых, досуг и культурная деятельность детей в сфере  образования организуется системой дополнительного образования, которые занимают свободное время детей в целях сохранения и укрепления здоровья, физического, психического, духовно- нравственного, интеллектуаль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D:\p25_izobrajenie406a.jpg"/>
          <p:cNvPicPr/>
          <p:nvPr/>
        </p:nvPicPr>
        <p:blipFill>
          <a:blip r:embed="rId1"/>
          <a:stretch/>
        </p:blipFill>
        <p:spPr>
          <a:xfrm>
            <a:off x="5148360" y="2492280"/>
            <a:ext cx="3735360" cy="3143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сновные цели образования (в законе РФ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работана федеральная целевая программа «Организация летнего отдыха детей» , включённая в состав президентской программы «Дети Росс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C:\Documents and Settings\Кристина\Рабочий стол\Nos_jours_heureux02.jpg"/>
          <p:cNvPicPr/>
          <p:nvPr/>
        </p:nvPicPr>
        <p:blipFill>
          <a:blip r:embed="rId1"/>
          <a:stretch/>
        </p:blipFill>
        <p:spPr>
          <a:xfrm>
            <a:off x="5148360" y="2421000"/>
            <a:ext cx="38163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сновные цели образования (в законе РФ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а предусматривает систему мер по развитию сети оздоровительно- образовательных учреждений, действующих в период школьных кани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C:\Documents and Settings\Кристина\Рабочий стол\letniy_otdih_2_4(1).jpg"/>
          <p:cNvPicPr/>
          <p:nvPr/>
        </p:nvPicPr>
        <p:blipFill>
          <a:blip r:embed="rId1"/>
          <a:stretch/>
        </p:blipFill>
        <p:spPr>
          <a:xfrm>
            <a:off x="4788000" y="2565360"/>
            <a:ext cx="424800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бязанности детей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по содержанию родителей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 заботе о н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удоспособные совершеннолетние дети обязаны заботиться о нетрудоспособных родителях и оказывать им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C:\Documents and Settings\Кристина\Рабочий стол\i.jpg"/>
          <p:cNvPicPr/>
          <p:nvPr/>
        </p:nvPicPr>
        <p:blipFill>
          <a:blip r:embed="rId1"/>
          <a:stretch/>
        </p:blipFill>
        <p:spPr>
          <a:xfrm>
            <a:off x="5076720" y="2205000"/>
            <a:ext cx="259092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бязанности детей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по содержанию родителей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 заботе о н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совершеннолетние дети забывают о своём долге перед родителями, то алименты в пользу родителей могут быть взысканы с них по 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C:\Documents and Settings\Кристина\Рабочий стол\Пожилая женщина.JPG"/>
          <p:cNvPicPr/>
          <p:nvPr/>
        </p:nvPicPr>
        <p:blipFill>
          <a:blip r:embed="rId1"/>
          <a:stretch/>
        </p:blipFill>
        <p:spPr>
          <a:xfrm>
            <a:off x="5148360" y="1989000"/>
            <a:ext cx="310824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бязанности детей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по содержанию родителей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и заботе о н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родители были лишены родительских прав или в своё время уклонялись от воспитания детей, они не могут требовать от детей средства на содерж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d050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403848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аком году была принята и вступила в силу Конвенция о правах ребен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то является создателем Конвен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бенком является каждое человеческое существо до достижения…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Arial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щие принципы Конвен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Arial"/>
              </a:rPr>
              <a:t>5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е права имеют дети в интересах своего здоровья, образования, досу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Arial"/>
              </a:rPr>
              <a:t>6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аких случаях могут  быть ограничены права родител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Arial"/>
              </a:rPr>
              <a:t>7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жет быть ребенок отобран у родител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Arial"/>
              </a:rPr>
              <a:t>8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ле ребенка законодательно придется правовое значение с …л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Arial"/>
              </a:rPr>
              <a:t>9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е действия можно сделать только с согласия ребен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Arial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а ребенка в законодательстве РФ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:\Documents and Settings\Кристина\Рабочий стол\i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9892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Будьте счастливы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Documents and Settings\Кристина\Рабочий стол\d5df23655524.jpg"/>
          <p:cNvPicPr/>
          <p:nvPr/>
        </p:nvPicPr>
        <p:blipFill>
          <a:blip r:embed="rId1"/>
          <a:stretch/>
        </p:blipFill>
        <p:spPr>
          <a:xfrm>
            <a:off x="1187280" y="2276640"/>
            <a:ext cx="2857680" cy="3622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Кристина\Рабочий стол\d5df23655524.jpg"/>
          <p:cNvPicPr/>
          <p:nvPr/>
        </p:nvPicPr>
        <p:blipFill>
          <a:blip r:embed="rId2"/>
          <a:stretch/>
        </p:blipFill>
        <p:spPr>
          <a:xfrm>
            <a:off x="1339920" y="2428920"/>
            <a:ext cx="2857320" cy="362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Кристина\Рабочий стол\d5df23655524.jpg"/>
          <p:cNvPicPr/>
          <p:nvPr/>
        </p:nvPicPr>
        <p:blipFill>
          <a:blip r:embed="rId3"/>
          <a:stretch/>
        </p:blipFill>
        <p:spPr>
          <a:xfrm>
            <a:off x="1042920" y="2276640"/>
            <a:ext cx="2857680" cy="355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Кристина\Рабочий стол\x_7e3544c7.jpg"/>
          <p:cNvPicPr/>
          <p:nvPr/>
        </p:nvPicPr>
        <p:blipFill>
          <a:blip r:embed="rId4"/>
          <a:stretch/>
        </p:blipFill>
        <p:spPr>
          <a:xfrm>
            <a:off x="468360" y="1413000"/>
            <a:ext cx="4103640" cy="525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C:\Documents and Settings\Кристина\Рабочий стол\1214824248_53.jpg"/>
          <p:cNvPicPr/>
          <p:nvPr/>
        </p:nvPicPr>
        <p:blipFill>
          <a:blip r:embed="rId5"/>
          <a:stretch/>
        </p:blipFill>
        <p:spPr>
          <a:xfrm>
            <a:off x="4859280" y="1413000"/>
            <a:ext cx="388944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ПРИОРЕТЕТНАЯ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ЕАЛИЗАЦИЯ  ГОСУДАРСТВЕННОЙ ПОЛИТИКИ В ОБЛАСТИ ОХРАНЫ ПРАВ ДЕТЕЙ, ОБЕСПЕЧЕНИЕ МАКСИМАЛЬНЫХ ВОЗМОЖНОСТЕЙ ДЛЯ РАЗВИТИЯ, ВОСПИТАНИЯ,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Documents and Settings\Кристина\Рабочий стол\0_714a_26c0670a_XL.jpg"/>
          <p:cNvPicPr/>
          <p:nvPr/>
        </p:nvPicPr>
        <p:blipFill>
          <a:blip r:embed="rId1"/>
          <a:stretch/>
        </p:blipFill>
        <p:spPr>
          <a:xfrm>
            <a:off x="5076720" y="2205000"/>
            <a:ext cx="3888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ОПРЕДЕЛЕНИЕ   РЕБЁ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бёнком является каждое человеческое существо до достиж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18 – летнего возраст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C:\Documents and Settings\Кристина\Рабочий стол\1260473246_0.jpg"/>
          <p:cNvPicPr/>
          <p:nvPr/>
        </p:nvPicPr>
        <p:blipFill>
          <a:blip r:embed="rId1"/>
          <a:stretch/>
        </p:blipFill>
        <p:spPr>
          <a:xfrm>
            <a:off x="4932360" y="1916280"/>
            <a:ext cx="403236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онвен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еждународное соглашение, как правило, по какому- либо вопросу, имеющее обязательную силу для тех государств, которые к нему присоединились (подписа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16"/>
          <p:cNvPicPr/>
          <p:nvPr/>
        </p:nvPicPr>
        <p:blipFill>
          <a:blip r:embed="rId1"/>
          <a:stretch/>
        </p:blipFill>
        <p:spPr>
          <a:xfrm>
            <a:off x="6229440" y="3500280"/>
            <a:ext cx="2158920" cy="178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8"/>
          <p:cNvSpPr/>
          <p:nvPr/>
        </p:nvSpPr>
        <p:spPr>
          <a:xfrm>
            <a:off x="1187280" y="2276640"/>
            <a:ext cx="6697800" cy="1801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Общие  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принципы Конвенции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Oval 9"/>
          <p:cNvSpPr/>
          <p:nvPr/>
        </p:nvSpPr>
        <p:spPr>
          <a:xfrm>
            <a:off x="611280" y="476280"/>
            <a:ext cx="3816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недискриминация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4716360" y="476280"/>
            <a:ext cx="3816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Наилучшее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обеспечение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интересов  ребёнка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539640" y="4653000"/>
            <a:ext cx="3816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Право на жизнь,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выживание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и развитие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Oval 12"/>
          <p:cNvSpPr/>
          <p:nvPr/>
        </p:nvSpPr>
        <p:spPr>
          <a:xfrm>
            <a:off x="4859280" y="4653000"/>
            <a:ext cx="3816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Уважение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взглядов ребёнка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Line 13"/>
          <p:cNvSpPr/>
          <p:nvPr/>
        </p:nvSpPr>
        <p:spPr>
          <a:xfrm flipH="1" flipV="1">
            <a:off x="3132000" y="1915920"/>
            <a:ext cx="14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Line 14"/>
          <p:cNvSpPr/>
          <p:nvPr/>
        </p:nvSpPr>
        <p:spPr>
          <a:xfrm flipV="1">
            <a:off x="5435640" y="1844280"/>
            <a:ext cx="144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Line 15"/>
          <p:cNvSpPr/>
          <p:nvPr/>
        </p:nvSpPr>
        <p:spPr>
          <a:xfrm flipH="1">
            <a:off x="3131640" y="4149720"/>
            <a:ext cx="287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5508720" y="4149720"/>
            <a:ext cx="2872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ринцип  недискримин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9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ажение и обеспечение прав каждого ребёнка без дискриминации независимо от расы, цвета кожи, языка, религии, политических и иных убеждений, национального происхождения и состояния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Documents and Settings\Кристина\Рабочий стол\fdeti91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6:43:37Z</dcterms:created>
  <dc:creator>Влад</dc:creator>
  <dc:description/>
  <dc:language>en-US</dc:language>
  <cp:lastModifiedBy>Admin</cp:lastModifiedBy>
  <dcterms:modified xsi:type="dcterms:W3CDTF">2011-12-23T10:30:49Z</dcterms:modified>
  <cp:revision>33</cp:revision>
  <dc:subject/>
  <dc:title>Слайд 1</dc:title>
</cp:coreProperties>
</file>