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2.jpeg" ContentType="image/jpeg"/>
  <Override PartName="/ppt/media/image2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F07-88C7-4EE2-BF71-603A9FBC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528B-51FF-469E-8D7A-40FD0CAF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738-2DC9-4928-B9BB-9A9A4510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874-5155-44C8-8151-3BE93C18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2F1-EE05-402B-97C8-00F3D286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C75-1FC6-485B-BCEA-46FFCF88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8FA-643D-4EF1-BDB2-02DCF8C5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9D2-9D41-4F80-A98B-6A99B98D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4FD-5D61-4416-8B1B-47714BB3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81A-AC22-4675-B822-FC670333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222-D9A7-43E9-8E3B-62F81E2F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7B8-AD9B-41E2-82FF-8D3C01FD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D0EE-77C2-4AAB-B108-51DA2894C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4"/>
          <p:cNvSpPr/>
          <p:nvPr/>
        </p:nvSpPr>
        <p:spPr>
          <a:xfrm>
            <a:off x="2411280" y="4149720"/>
            <a:ext cx="45720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У СОШ № 2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ран Марина Конста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32720" y="5013360"/>
            <a:ext cx="2160360" cy="1609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476360" y="981000"/>
            <a:ext cx="6767640" cy="30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математи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К " Школа 2100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У  9 слонов по  1 хоботу.                                               Сколько всего хоботов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Текст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832040" cy="1752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484360" y="189000"/>
            <a:ext cx="1832040" cy="1752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788000" y="189000"/>
            <a:ext cx="1832040" cy="1752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164360" y="189000"/>
            <a:ext cx="1832040" cy="1752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0" y="3284640"/>
            <a:ext cx="1832040" cy="1752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908000" y="3357720"/>
            <a:ext cx="1832040" cy="1752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5364000" y="3284640"/>
            <a:ext cx="1832040" cy="1752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311960" y="3284640"/>
            <a:ext cx="1832040" cy="1752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3635280" y="5105520"/>
            <a:ext cx="1832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У  12 школьников по 1 учебнику математики.                                               Сколько всего учебников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9564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64000" y="5429160"/>
            <a:ext cx="1295640" cy="1428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268360" y="260280"/>
            <a:ext cx="1295640" cy="1428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284720" y="260280"/>
            <a:ext cx="1295280" cy="1428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156360" y="333360"/>
            <a:ext cx="1295280" cy="1428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848720" y="404640"/>
            <a:ext cx="1295280" cy="1428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0" y="2852640"/>
            <a:ext cx="129528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250920" y="4724280"/>
            <a:ext cx="1295280" cy="1428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7667640" y="5429160"/>
            <a:ext cx="1295280" cy="1428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7667640" y="3789360"/>
            <a:ext cx="1295280" cy="1428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1763640" y="5429160"/>
            <a:ext cx="129564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3492360" y="5429160"/>
            <a:ext cx="1295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68360" y="2349360"/>
            <a:ext cx="13446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>
                    <a:alpha val="99000"/>
                  </a:srgbClr>
                </a:solidFill>
                <a:latin typeface="Times New Roman"/>
              </a:rPr>
              <a:t>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>
                  <a:alpha val="99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411280" y="2852640"/>
            <a:ext cx="432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>
                    <a:alpha val="99000"/>
                  </a:srgbClr>
                </a:solidFill>
                <a:latin typeface="Times New Roman"/>
              </a:rPr>
              <a:t>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>
                  <a:alpha val="99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419640" y="1844640"/>
            <a:ext cx="1133280" cy="20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>
                    <a:alpha val="99000"/>
                  </a:srgbClr>
                </a:solidFill>
                <a:latin typeface="Verdana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>
                  <a:alpha val="99000"/>
                </a:srgbClr>
              </a:solidFill>
              <a:latin typeface="Verdana"/>
              <a:ea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003640" y="2565360"/>
            <a:ext cx="15116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>
                    <a:alpha val="99000"/>
                  </a:srgbClr>
                </a:solidFill>
                <a:latin typeface="Verdana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>
                  <a:alpha val="99000"/>
                </a:srgbClr>
              </a:solidFill>
              <a:latin typeface="Verdana"/>
              <a:ea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093080" y="2205000"/>
            <a:ext cx="13446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>
                    <a:alpha val="99000"/>
                  </a:srgbClr>
                </a:solidFill>
                <a:latin typeface="Times New Roman"/>
              </a:rPr>
              <a:t>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>
                  <a:alpha val="99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alibri"/>
              </a:rPr>
              <a:t>Замени  произведение суммой и  найди  их  знач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0 х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0 х 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0 х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-2052720" y="0"/>
            <a:ext cx="12385800" cy="3149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580000" y="2924280"/>
            <a:ext cx="30956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222720" y="476280"/>
            <a:ext cx="1133280" cy="20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>
                    <a:alpha val="99000"/>
                  </a:srgbClr>
                </a:solidFill>
                <a:latin typeface="Verdana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>
                  <a:alpha val="99000"/>
                </a:srgbClr>
              </a:solidFill>
              <a:latin typeface="Verdana"/>
              <a:ea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68360" y="1420920"/>
            <a:ext cx="432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>
                    <a:alpha val="99000"/>
                  </a:srgbClr>
                </a:solidFill>
                <a:latin typeface="Times New Roman"/>
              </a:rPr>
              <a:t>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>
                  <a:alpha val="99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076720" y="1268280"/>
            <a:ext cx="1511280" cy="7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>
                    <a:alpha val="99000"/>
                  </a:srgbClr>
                </a:solidFill>
                <a:latin typeface="Verdana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>
                  <a:alpha val="99000"/>
                </a:srgbClr>
              </a:solidFill>
              <a:latin typeface="Verdana"/>
              <a:ea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236000" y="1058760"/>
            <a:ext cx="13446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>
                    <a:alpha val="99000"/>
                  </a:srgbClr>
                </a:solidFill>
                <a:latin typeface="Times New Roman"/>
              </a:rPr>
              <a:t>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>
                  <a:alpha val="99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95280" y="1052640"/>
            <a:ext cx="13446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>
                    <a:alpha val="99000"/>
                  </a:srgbClr>
                </a:solidFill>
                <a:latin typeface="Times New Roman"/>
              </a:rPr>
              <a:t>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>
                  <a:alpha val="99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9640" y="3716280"/>
            <a:ext cx="13446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>
                    <a:alpha val="99000"/>
                  </a:srgbClr>
                </a:solidFill>
                <a:latin typeface="Times New Roman"/>
              </a:rPr>
              <a:t>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>
                  <a:alpha val="99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411280" y="4149720"/>
            <a:ext cx="432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>
                    <a:alpha val="99000"/>
                  </a:srgbClr>
                </a:solidFill>
                <a:latin typeface="Times New Roman"/>
              </a:rPr>
              <a:t>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>
                  <a:alpha val="99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348000" y="3645000"/>
            <a:ext cx="13446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>
                    <a:alpha val="99000"/>
                  </a:srgbClr>
                </a:solidFill>
                <a:latin typeface="Times New Roman"/>
              </a:rPr>
              <a:t>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>
                  <a:alpha val="99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148360" y="3933720"/>
            <a:ext cx="151128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>
                    <a:alpha val="99000"/>
                  </a:srgbClr>
                </a:solidFill>
                <a:latin typeface="Verdana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>
                  <a:alpha val="99000"/>
                </a:srgbClr>
              </a:solidFill>
              <a:latin typeface="Verdana"/>
              <a:ea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164360" y="3573360"/>
            <a:ext cx="13446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>
                    <a:alpha val="99000"/>
                  </a:srgbClr>
                </a:solidFill>
                <a:latin typeface="Times New Roman"/>
              </a:rPr>
              <a:t>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>
                  <a:alpha val="99000"/>
                </a:srgbClr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СТР. 56 № 4(а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58920" y="476280"/>
            <a:ext cx="6913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0000ff"/>
                </a:solidFill>
                <a:effectLst>
                  <a:outerShdw dist="89604" dir="18900000" blurRad="0" rotWithShape="0">
                    <a:srgbClr val="4bbb45">
                      <a:alpha val="50000"/>
                    </a:srgbClr>
                  </a:outerShdw>
                </a:effectLst>
                <a:latin typeface="Arial Rounded MT Bold"/>
              </a:rPr>
              <a:t>Работа с учебником.</a:t>
            </a:r>
            <a:endParaRPr b="1" lang="en-US" sz="1800" spc="1" strike="noStrike">
              <a:ln w="9360">
                <a:solidFill>
                  <a:srgbClr val="ccffcc"/>
                </a:solidFill>
                <a:miter/>
              </a:ln>
              <a:solidFill>
                <a:srgbClr val="0000ff"/>
              </a:solidFill>
              <a:effectLst>
                <a:outerShdw dist="89604" dir="18900000" blurRad="0" rotWithShape="0">
                  <a:srgbClr val="4bbb45">
                    <a:alpha val="5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Задача № 5(а) стр. 5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1116000" y="0"/>
            <a:ext cx="6837480" cy="1828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987640" y="2637000"/>
            <a:ext cx="3024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Текст 2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960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Задача № 5(а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 прыжка по 8 метр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 прыжка по 9 метр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8+8+8=24(м)-в одну сторон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9+9=18(м)-в другую сторон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4+18=42(м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Ответ: большой кенгуру преодолел расстояние в 42 мет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1268280"/>
            <a:ext cx="576000" cy="1451160"/>
          </a:xfrm>
          <a:custGeom>
            <a:avLst/>
            <a:gdLst>
              <a:gd name="textAreaLeft" fmla="*/ 0 w 576000"/>
              <a:gd name="textAreaRight" fmla="*/ 208080 w 576000"/>
              <a:gd name="textAreaTop" fmla="*/ 37800 h 1451160"/>
              <a:gd name="textAreaBottom" fmla="*/ 1413360 h 145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4520" y="1557360"/>
            <a:ext cx="10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060"/>
                </a:solidFill>
                <a:latin typeface="Calibri"/>
              </a:rPr>
              <a:t>                      </a:t>
            </a:r>
            <a:r>
              <a:rPr b="1" i="1" lang="en-US" sz="4800" spc="-1" strike="noStrike">
                <a:solidFill>
                  <a:srgbClr val="002060"/>
                </a:solidFill>
                <a:latin typeface="Calibri"/>
              </a:rPr>
              <a:t>Урок  6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1557360"/>
            <a:ext cx="8748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множение с нулём и единице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97080" y="1198440"/>
            <a:ext cx="574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Bookman Old Style"/>
              </a:rPr>
              <a:t>Поднимает руки класс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Bookman Old Style"/>
              </a:rPr>
              <a:t>Это «раз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Bookman Old Style"/>
              </a:rPr>
              <a:t>Повернулась голова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Bookman Old Style"/>
              </a:rPr>
              <a:t>Это «два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Bookman Old Style"/>
              </a:rPr>
              <a:t>Руки вниз, вперед смотри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Bookman Old Style"/>
              </a:rPr>
              <a:t>Это «три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Bookman Old Style"/>
              </a:rPr>
              <a:t>Руки в сторону пош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Bookman Old Style"/>
              </a:rPr>
              <a:t>Развернули на «четыре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Bookman Old Style"/>
              </a:rPr>
              <a:t>С силой их к плечам прижать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Bookman Old Style"/>
              </a:rPr>
              <a:t>Это «пять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Bookman Old Style"/>
              </a:rPr>
              <a:t>Всем ребятам тихо сесть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Bookman Old Style"/>
              </a:rPr>
              <a:t>Это «шес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63640" y="476280"/>
            <a:ext cx="561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зминут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96160" y="3500280"/>
            <a:ext cx="165888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11280" y="260280"/>
            <a:ext cx="763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ди площадь прямоугольн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380360" y="5229360"/>
            <a:ext cx="1763640" cy="1628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853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При  умножении  любого  числа  на  1  получается  то  число, которое  умножа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                          </a:t>
            </a:r>
            <a:r>
              <a:rPr b="0" i="1" lang="en-US" sz="5400" spc="-1" strike="noStrike">
                <a:solidFill>
                  <a:srgbClr val="0000ff"/>
                </a:solidFill>
                <a:latin typeface="Calibri"/>
              </a:rPr>
              <a:t>а 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</a:rPr>
              <a:t>х  </a:t>
            </a:r>
            <a:r>
              <a:rPr b="0" i="1" lang="en-US" sz="5400" spc="-1" strike="noStrike">
                <a:solidFill>
                  <a:srgbClr val="0000ff"/>
                </a:solidFill>
                <a:latin typeface="Calibri"/>
              </a:rPr>
              <a:t>1 = а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При  умножении  любого  числа  на 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получается  ну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                         </a:t>
            </a:r>
            <a:r>
              <a:rPr b="0" i="1" lang="en-US" sz="5400" spc="-1" strike="noStrike">
                <a:solidFill>
                  <a:srgbClr val="0000ff"/>
                </a:solidFill>
                <a:latin typeface="Calibri"/>
              </a:rPr>
              <a:t>а  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</a:rPr>
              <a:t>х  </a:t>
            </a:r>
            <a:r>
              <a:rPr b="0" i="1" lang="en-US" sz="5400" spc="-1" strike="noStrike">
                <a:solidFill>
                  <a:srgbClr val="0000ff"/>
                </a:solidFill>
                <a:latin typeface="Calibri"/>
              </a:rPr>
              <a:t>0  =  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258920" y="476280"/>
            <a:ext cx="6913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4bbb45"/>
                  </a:solidFill>
                  <a:miter/>
                </a:ln>
                <a:solidFill>
                  <a:srgbClr val="ff0066"/>
                </a:solidFill>
                <a:effectLst>
                  <a:outerShdw dist="89604" dir="18900000" blurRad="0" rotWithShape="0">
                    <a:srgbClr val="4bbb45">
                      <a:alpha val="50000"/>
                    </a:srgbClr>
                  </a:outerShdw>
                </a:effectLst>
                <a:latin typeface="Arial Rounded MT Bold"/>
              </a:rPr>
              <a:t>Подведение итогов</a:t>
            </a:r>
            <a:endParaRPr b="1" lang="en-US" sz="1800" spc="1" strike="noStrike">
              <a:ln w="9360">
                <a:solidFill>
                  <a:srgbClr val="4bbb45"/>
                </a:solidFill>
                <a:miter/>
              </a:ln>
              <a:solidFill>
                <a:srgbClr val="ff0066"/>
              </a:solidFill>
              <a:effectLst>
                <a:outerShdw dist="89604" dir="18900000" blurRad="0" rotWithShape="0">
                  <a:srgbClr val="4bbb45">
                    <a:alpha val="5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СТР. 56 № 4(б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СТР. 57 №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71640" y="765000"/>
            <a:ext cx="7200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Picture 3" descr="Рисунок1"/>
          <p:cNvPicPr/>
          <p:nvPr/>
        </p:nvPicPr>
        <p:blipFill>
          <a:blip r:embed="rId3"/>
          <a:stretch/>
        </p:blipFill>
        <p:spPr>
          <a:xfrm>
            <a:off x="179280" y="2654280"/>
            <a:ext cx="21780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rcRect l="0" t="4980" r="0" b="4855"/>
          <a:stretch/>
        </p:blipFill>
        <p:spPr>
          <a:xfrm>
            <a:off x="755640" y="1484280"/>
            <a:ext cx="1060560" cy="12970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1087560" cy="12650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-7024" t="0" r="0" b="0"/>
          <a:stretch/>
        </p:blipFill>
        <p:spPr>
          <a:xfrm>
            <a:off x="755640" y="4508640"/>
            <a:ext cx="1085760" cy="12459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2050920" y="148428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Вы считаете, что урок прошёл для вас плодотворно, с пользой. Вы научились и можете помочь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292428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Вы считаете, что научились применять переместительное свойство, но вам ещё нужна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24000" y="465300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Вы считаете, что было трудно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63640" y="620640"/>
            <a:ext cx="5616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флексия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2" descr=""/>
          <p:cNvPicPr/>
          <p:nvPr/>
        </p:nvPicPr>
        <p:blipFill>
          <a:blip r:embed="rId1"/>
          <a:stretch/>
        </p:blipFill>
        <p:spPr>
          <a:xfrm>
            <a:off x="103320" y="0"/>
            <a:ext cx="9040680" cy="3645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024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4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4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0880" y="404640"/>
            <a:ext cx="83059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и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.Совершенствование математических умений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. Формирование навыков умножения на 0 и 1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.Закрепить умения решать текстовые задачи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игрова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роблемного диалог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оценива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908000" y="260280"/>
            <a:ext cx="5185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Технологи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80000" y="3573360"/>
            <a:ext cx="3384720" cy="308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2960"/>
            <a:ext cx="702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ак проверь сейчас друж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ы готов начать ур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се ль на мест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се ль в порядк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учка, книжка и тетрад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се ли правильно сидя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се ль внимательно глядя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се ль готовы слуша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210440" y="2997360"/>
            <a:ext cx="1933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ff"/>
                </a:solidFill>
                <a:latin typeface="Times New Roman"/>
              </a:rPr>
              <a:t>Устный  счёт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1420800">
            <a:off x="6587640" y="4005000"/>
            <a:ext cx="18878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971640" y="333360"/>
            <a:ext cx="7575120" cy="5616360"/>
            <a:chOff x="971640" y="333360"/>
            <a:chExt cx="7575120" cy="5616360"/>
          </a:xfrm>
        </p:grpSpPr>
        <p:sp>
          <p:nvSpPr>
            <p:cNvPr id="58" name=""/>
            <p:cNvSpPr/>
            <p:nvPr/>
          </p:nvSpPr>
          <p:spPr>
            <a:xfrm>
              <a:off x="971640" y="531720"/>
              <a:ext cx="801720" cy="8024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31480" y="531720"/>
              <a:ext cx="802080" cy="802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Arial"/>
                </a:rPr>
                <a:t>5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67920" y="2136960"/>
              <a:ext cx="801720" cy="80244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28440" y="2136960"/>
              <a:ext cx="801720" cy="802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87520" y="2136960"/>
              <a:ext cx="802080" cy="8024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50200" y="2037960"/>
              <a:ext cx="801720" cy="80244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45040" y="3640680"/>
              <a:ext cx="801720" cy="80244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17000" y="3742560"/>
              <a:ext cx="802080" cy="8020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77880" y="3742560"/>
              <a:ext cx="802080" cy="802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50200" y="3640680"/>
              <a:ext cx="801720" cy="80244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56120" y="5045400"/>
              <a:ext cx="802080" cy="8024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7000" y="5045400"/>
              <a:ext cx="802080" cy="904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87520" y="5045400"/>
              <a:ext cx="802080" cy="802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50200" y="5045400"/>
              <a:ext cx="801720" cy="80244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70960" y="633240"/>
              <a:ext cx="802080" cy="802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10080" y="531720"/>
              <a:ext cx="802080" cy="80244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73360" y="934920"/>
              <a:ext cx="115812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33920" y="934920"/>
              <a:ext cx="133812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74840" y="934920"/>
              <a:ext cx="133884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52280" y="2439360"/>
              <a:ext cx="133704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91400" y="2538360"/>
              <a:ext cx="133884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30520" y="2538360"/>
              <a:ext cx="133704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40840" y="4044240"/>
              <a:ext cx="133668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79960" y="4143240"/>
              <a:ext cx="133884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09800" y="4143240"/>
              <a:ext cx="133668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52280" y="5449320"/>
              <a:ext cx="133704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79960" y="5449320"/>
              <a:ext cx="133884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0880" y="5449320"/>
              <a:ext cx="1338840" cy="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61280" y="633240"/>
              <a:ext cx="80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07360" y="38145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78240" y="22071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Times New Roman"/>
                </a:rPr>
                <a:t>8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45760" y="51174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c0504d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40840" y="333360"/>
              <a:ext cx="89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Times New Roman"/>
                </a:rPr>
                <a:t>+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01400" y="434520"/>
              <a:ext cx="101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Times New Roman"/>
                </a:rPr>
                <a:t>- 4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42320" y="434520"/>
              <a:ext cx="12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Times New Roman"/>
                </a:rPr>
                <a:t>+ 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40840" y="1933920"/>
              <a:ext cx="114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504d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c0504d"/>
                  </a:solidFill>
                  <a:latin typeface="Times New Roman"/>
                </a:rPr>
                <a:t>- 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68520" y="2037960"/>
              <a:ext cx="114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c0504d"/>
                  </a:solidFill>
                  <a:latin typeface="Times New Roman"/>
                </a:rPr>
                <a:t>+ 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98000" y="2037960"/>
              <a:ext cx="101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504d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c0504d"/>
                  </a:solidFill>
                  <a:latin typeface="Times New Roman"/>
                </a:rPr>
                <a:t>- 5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08320" y="3541680"/>
              <a:ext cx="89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c0504d"/>
                  </a:solidFill>
                  <a:latin typeface="Times New Roman"/>
                </a:rPr>
                <a:t>+ 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68520" y="3640680"/>
              <a:ext cx="139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Times New Roman"/>
                </a:rPr>
                <a:t>+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75120" y="36406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c0504d"/>
                  </a:solidFill>
                  <a:latin typeface="Times New Roman"/>
                </a:rPr>
                <a:t>- 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08320" y="4844880"/>
              <a:ext cx="89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Times New Roman"/>
                </a:rPr>
                <a:t>-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68520" y="4946040"/>
              <a:ext cx="127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504d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c0504d"/>
                  </a:solidFill>
                  <a:latin typeface="Times New Roman"/>
                </a:rPr>
                <a:t>+ 3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98000" y="4946040"/>
              <a:ext cx="12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Times New Roman"/>
                </a:rPr>
                <a:t>+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5219640" y="765000"/>
            <a:ext cx="6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80360" y="62064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227664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227664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c0504d"/>
                </a:solidFill>
                <a:latin typeface="Times New Roman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96360" y="2276640"/>
            <a:ext cx="7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3789360"/>
            <a:ext cx="10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3860640"/>
            <a:ext cx="6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12000" y="378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5157720"/>
            <a:ext cx="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5229360"/>
            <a:ext cx="5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5229360"/>
            <a:ext cx="6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Times New Roman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200560" y="2486160"/>
                <a:ext cx="1270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200560" y="2486160"/>
                <a:ext cx="1270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Запиши  произведения, замени их суммой и найди значение  каждого  выражен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У  5 котят по  1 ленточке.                                               Сколько всего ленточек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Текст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655640" cy="1536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1656000" cy="180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727280" cy="1582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300720" y="4365720"/>
            <a:ext cx="2016360" cy="1727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588000" y="189000"/>
            <a:ext cx="165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23:16:19Z</dcterms:created>
  <dc:creator>home</dc:creator>
  <dc:description/>
  <dc:language>en-US</dc:language>
  <cp:lastModifiedBy>User</cp:lastModifiedBy>
  <dcterms:modified xsi:type="dcterms:W3CDTF">2012-02-04T15:47:22Z</dcterms:modified>
  <cp:revision>42</cp:revision>
  <dc:subject/>
  <dc:title>НОВЫЙ ГОД В СТРАНЕ МАТЕМАТИКИ</dc:title>
</cp:coreProperties>
</file>