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1EE-6A3F-4E74-ACC2-7F7897BA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BBF-4832-47BE-955F-8045533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9B3-6966-4453-9213-127D8D54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32A-76FF-4B6E-B90C-A3F5F9B9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D02-6FE4-45C2-B69D-4351F2C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2A9-3E2F-42BE-8935-225A875C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B5B-4B80-473D-81BA-6F29544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0BE-3BBB-4976-90C4-7BE6DEE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E13-8251-4C38-B8B6-FA03D6D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674-6ECF-4270-B172-E793A11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393-CCE5-4929-BC0A-51630F4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F35-7B0F-46ED-9F16-6EFF4E2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7DB-BAC8-4CD9-A935-90FAE0C5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75438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по английскому языку по теме «Спорт» с применением оборудования лингафонного кабине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-й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учебник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English II”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второв И.Н. Верещагина, К.А. Бондаренко, Т.А. Приты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фонетически грамот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 у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мение правильно произносить отдельные английские звуки и понимать знаки транскрип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фонетически правильному чтению текста и умению использовать полученные знания в разных видах рече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социокультурную компетен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умение работать в па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ӕ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W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V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ʧ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i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ei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ʤ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l-GR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ϴ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ð]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fter the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ride a h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play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 can s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un and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ren can play computer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ke it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play with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seven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 thanks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, thanks, can, cannot, My brother can run. The monkeys can jump. Can your dog jump? Yes, he can. My cat can jump,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ɑ: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, aunt, can’t, My little sister can’t read. She can read but she can’t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draw a 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draw a big 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draw a big brown 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the dialogue and read it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ушай диалог и прочитай его. --- Упр. 7, стр. 74 ( Звуковое задание № 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b: Hi, Bi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ll: H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b: Can you play hopscotch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ll: Yes, I 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b: Do you want to play with u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ll: With great plea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your own dialogue and act it out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умай свой диалог и разыграй его в пара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the song “Hello, Goodbye!” (The Beatles), part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3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слушай песн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т, 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итлз), часть 1, звуковое задание № 3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say “Yes”, I say “N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say “Stop” and I say ‘Go, go, g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h, n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say “Goodbye” and I say “Hello, hello, hell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don’t know why you say ”Goodby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say “Hello, hello, hell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don’t know why you say “Goodby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say “Hell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and repeat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аписано с паузами для повторе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 with us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вучит песн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 to the music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вучит музык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7 (10, 12,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31:31Z</dcterms:created>
  <dc:creator>Мама</dc:creator>
  <dc:description/>
  <dc:language>en-US</dc:language>
  <cp:lastModifiedBy>1</cp:lastModifiedBy>
  <dcterms:modified xsi:type="dcterms:W3CDTF">2012-02-02T15:28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