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168-2FD2-4564-94F9-181EDCAD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B9D-68AF-4BAB-80BF-2EEDE3C1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C30-61C3-441D-ACE6-40FEF62F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75B-979E-4905-A67F-E9379E9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6821-2BEC-4D42-A6FB-6D77B98F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A2C-ABF7-4784-AAF7-EF90A88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ADAD-70B9-41F4-BCEE-BD134CB9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B1C-B295-48BC-B190-C5823B4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F967-5728-4918-A60B-6D15548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84B-5C07-46B8-B5D2-FCDC7C9E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4FA2-EBFA-4918-8904-2E6FE20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4AF-9AC9-40E2-BAA0-2B43177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C32C-E62E-41E2-A01F-5363766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4288-FFE6-4B62-9144-8720A4C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AEE-1C2A-4685-AF6C-0A43C539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69B-214E-4CF1-9934-5568EFD4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FDAF-EF70-4F71-9ADB-224930EB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93B7-AD21-4445-8187-158F51E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6D70-8780-4C12-961E-E2A84D1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18E0-7D51-4C7E-A823-CEA2D5D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626E-EF2B-405B-AEE4-E42735F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13CE-5DF4-4D7A-94D1-E4E583A0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55E-A6DE-4F42-AB14-5928F69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9308-455D-49A5-8468-68C06BDC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0B59-BAF7-45A6-A202-5F15AAD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324E-30FA-42A2-85C0-2E01B1F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9928-47CD-4479-A844-680AFB7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66F1-8D4B-497A-8105-8D1D1DE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1D94-B9F1-4AAC-8050-F891E6B8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4F47-5B87-4325-B663-A3A5B06D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B4F0-5BDC-4196-8129-C1E5C1B3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80CE-021B-4634-8EF0-6CE3FF86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BBAF-D96C-4EE1-B288-43E67ACA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67E-69E1-4AF4-8486-27D2BE8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C084-27C3-4D06-A2BE-E838F81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94B1-BE95-4800-ACD9-B32676DE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EF8F-F60F-4568-BCC8-47FAC073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6DAF-A83B-4383-A108-CC4C695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5F23-CD63-4669-B9D2-A0DB411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8F78-B4FE-4574-9062-4BD918C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18A6-5E47-436B-ABB7-D3F41582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BE8D-CDBD-486C-9DDC-4ADC0957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A539-8E58-4ACB-A81D-DE7D8120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AC7-870E-4625-B052-E38899E7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CC3-1A64-452E-B802-4FDFECB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0D9-AB85-45C9-89C5-1B01E20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21C-BB23-4903-8A32-BECE1EB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D2D-1DBC-4C79-99D3-DD48210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C401-4E7A-4D04-982E-443189DD997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FD13-6322-404D-BA2F-66D4C6473BB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40E-24D0-4586-AE99-7AC33CB3D6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B92-AFB0-4139-B5BE-F26AF768AAC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933480" y="1285920"/>
            <a:ext cx="8267760" cy="2504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41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улин С 511 г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Наталья\Мои документы\Мои рисунки\sd10.gif"/>
          <p:cNvPicPr/>
          <p:nvPr/>
        </p:nvPicPr>
        <p:blipFill>
          <a:blip r:embed="rId2"/>
          <a:stretch/>
        </p:blipFill>
        <p:spPr>
          <a:xfrm>
            <a:off x="0" y="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 настоящий период формируется единое мировое образовательное пространство, выражающееся, прежде всего, в гармонизации образовательных стандартов, подходов, учебных планов, специальностей в разных странах мир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ткрытое образовательное пространство предполагает рост мобильности студентов и сотрудничества преподавателей университетов разных стран, что, как ожидается, будет способствовать достижению гражданами успехов в выбранной профессии, улучшению системы трудоустройства выпускников университетов, повышению статуса этих стран в сфере образова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адемическая мобильность автоматически и зачастую подсознательно развивает в студентах определенные качества: умение выбирать пути взаимодействия с окружающим миром; способность мыслить в сравнительном аспекте; способность к межкультурной коммуникации; способность изменять самовосприятие; способность рассматривать свою страну в кросскультурном аспекте; знание о других культурах, изученных изнутри и д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дним из основных инструментов развития академической мобильности является признание квалификаций и документов об образовании. В связи с этим существует определенная законодательная база, которая помогает закрепить на национальном и международном уровне сопоставление дипломов различных вуз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адемическая мобильность может осуществляться по трем основным направления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утригородская мобильность, которая предполагает возможность выбора различных учебных курсов в разных университетах в рамках одного горо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утрироссийская моби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ждународная мобильнос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стоящее время в России предпринимаются практические шаги по осуществлению эффективной академической мобильности по всем трем основным направлениям. Руководствуясь опытом зарубежных стран, учитывая специфику российского образования, разрабатываются совместные образовательные программы и проекты, имеющие своей конечной целью подготовку высококвалифицированных специалистов по различным направлени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9:49:46Z</dcterms:created>
  <dc:creator>Admin</dc:creator>
  <dc:description/>
  <dc:language>en-US</dc:language>
  <cp:lastModifiedBy>Admin</cp:lastModifiedBy>
  <dcterms:modified xsi:type="dcterms:W3CDTF">2011-12-23T10:35:09Z</dcterms:modified>
  <cp:revision>2</cp:revision>
  <dc:subject/>
  <dc:title>Слайд 1</dc:title>
</cp:coreProperties>
</file>