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30.png" ContentType="image/png"/>
  <Override PartName="/ppt/media/image28.png" ContentType="image/png"/>
  <Override PartName="/ppt/media/image32.png" ContentType="image/png"/>
  <Override PartName="/ppt/media/image36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4883-23AA-4F1E-9A6C-DE0F92448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а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624F-6DBC-4E65-A0FE-E88E278A9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лавательный кр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EBC8-97B4-426F-9555-86E5615DE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Нич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C91E-F4D5-4E14-AC73-27C74180AA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2 к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CDB2-7CE7-43F2-9916-A5F0E17B5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нджамин Спок. Ребенок и уход за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315F-EE48-4606-84B0-156A590B4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Олимпи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79E-73C3-42CB-A753-CB91539D5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Олимпи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8CD6-AECF-44FC-9484-DEE88F7A2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1B35-B068-462F-997C-578E96C8C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B1D3-2809-47EF-9626-463DE2038C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FE5D-0DC2-4DB9-BA04-DB8D9EA1E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Шахм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C1C4-5BF9-4F0A-B3E5-0E8B2CC45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еппи длинный чу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05C6-5FCA-49EC-90ED-92ED49B10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B329-E310-4755-B10D-503F14C10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B2C5-7AED-449A-8A8F-7015C6594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болель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9F66-2479-4D41-8858-AFB12DD9B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вирусонос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6CAF-1348-4970-973C-2B9909719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дон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9B91-956B-4452-A69F-7C05FBF7B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куриль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072E-4872-4E64-A496-067FDA971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B2DC-FA01-4EFC-AC0C-0CCF742C2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43E0-0A57-46F8-86CC-7BF30293A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9E74-C036-49EF-9511-2A98FCA9F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3E34-F7E2-4ED4-B3AC-ADDB398BD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A423-7CA7-4B83-831F-10272AC0B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34D5-AEF9-473D-B908-0C0BE25EA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1C81-3487-4E35-B329-D437E0F83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4601-3803-41FE-9E9D-3F2F34DB6C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EBE-322C-4061-B07E-2BE196F5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ECA-20DD-4447-806A-594F61B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02F-1FB2-46B4-BD53-FE716C87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4ED-7C38-4F48-A9FD-CE8664B9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E1B8-477C-409D-BCB6-699CDFEC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509-B083-4405-9521-C0FB08E5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4BA2-2782-4B41-A916-90521609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4B71-2D4E-471C-85D5-5CC0B3FC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BDEF-E50C-439C-BC20-312D6484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5963-A739-4E56-A910-A217490A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8FD6-A04A-4453-B8FB-CAF3FEE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BFA-CFF1-4C53-A085-D5079CE4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1B98-FA39-4CA9-A5B9-BAEE7137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90E7-23FC-4262-903C-E5F8AD5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8881-DC87-4A70-A324-1405B0A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8060-C1BB-4238-897B-D3313DEA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F159-A071-4C53-9F5C-A14B52E5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1A5A-13CB-475B-824A-BE5AF581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6061-04CB-4BAF-9F49-8AD0E21C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C159-42BB-43C5-B714-69169CCF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5200-9960-4AE3-AF13-9ED1F376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C251-F75D-4EDA-A671-4A73BC3A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E61-72FD-4C30-9CAA-14E5F4A4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AAE0-4C8C-4BB9-A02C-C4732FA3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4B36-28BC-462B-AB53-F80455A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9CB9-5906-4F46-A1B8-E86A57BE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568F-51A4-4153-881C-8D22EBB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09B3-1D83-4728-9491-5BED1520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77A0-91E8-42BF-8AD4-27BCA911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989D-F112-4855-8F8D-1E59A049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B9BB-C240-4759-870F-7197C7DA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D8AC-C780-4126-B206-52DB02AF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5EFB-5282-46F4-8A3E-210F8508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E85-11C2-485E-A697-CC9DCDB2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05EA-A34E-4759-92F5-EDE6B61A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DB0E-BF0E-4881-A1BD-F9325ABA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0D208-54FF-4268-9A32-84D22D1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6C0E-387B-4EBD-9519-D56CD584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4F3F-E7F9-494A-8C0E-7B1D39B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57839-FDB8-4F81-8BDB-807D7780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EBB58-65A0-4C46-8142-8D93F96B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61B9-23AE-4671-99AA-6338D523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E40A-AD50-4565-9D8B-405A1857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6EC72-656C-4881-8B15-B9747B2D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9BF-2970-4B79-83E5-512C8056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301C1-AF3D-4331-ADCC-4AE5937C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BA5EA-6853-413F-83D1-A66C20F3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13CC1-B023-4FEC-B618-4745523C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9B0C6-DD0C-4A23-AC63-11A7E9D5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7D424-B527-463B-8897-D9C1DD18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270A-8D48-4AB3-A094-0C0A15FB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EFBE-DE4D-4CE7-82EB-AE2D571E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4AFB0-8CF5-4F6A-95AA-62B1C582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1DD67-BAD8-4D5A-BD33-0343FFA0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C6AE-7329-4057-9963-061EF0EC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95A-859A-4065-B86A-78BE2911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6D80C-ED71-4584-9DD1-714421F5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714-BE82-4190-B221-6C30514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D7A-4B3A-4114-9063-6F59831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67B-58ED-43F2-AA81-027CB48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F024-A6E1-4E6B-A624-0634BC9D308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98A9-54DE-42FA-AA1F-01C5D75D937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1597-2E79-4DE6-9B02-6E14C1EF5A7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69E0-D61C-430E-8008-982FE21EC9F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1C7A-9E0E-4882-BE67-A1B464D89B4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549360"/>
            <a:ext cx="6986880" cy="2528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D:\Documents and Settings\Александр\Local Settings\Temporary Internet Files\Content.IE5\PZHHX8CE\MC900296239[1].wmf"/>
          <p:cNvPicPr/>
          <p:nvPr/>
        </p:nvPicPr>
        <p:blipFill>
          <a:blip r:embed="rId2"/>
          <a:stretch/>
        </p:blipFill>
        <p:spPr>
          <a:xfrm>
            <a:off x="4714920" y="3500280"/>
            <a:ext cx="29941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1060560" y="49320"/>
            <a:ext cx="6267240" cy="1096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320" y="1213920"/>
            <a:ext cx="6255000" cy="36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000000"/>
                </a:solidFill>
                <a:latin typeface="Trebuchet MS"/>
              </a:rPr>
              <a:t>Самая плавательная обувь?</a:t>
            </a:r>
            <a:endParaRPr b="0" lang="en-US" sz="5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096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42960" y="1071720"/>
            <a:ext cx="714384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амое детское плавательное средство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1060560" y="49320"/>
            <a:ext cx="6267240" cy="1096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714240" y="1285920"/>
            <a:ext cx="6607440" cy="32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амый мирный итог поединка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2427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6255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амое крупное спортивное мероприятие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1060560" y="195120"/>
            <a:ext cx="6267240" cy="12369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373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амая длинная дистанция в лёгкой атлетике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3824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625500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rebuchet MS"/>
              </a:rPr>
              <a:t>По книгам какого американского олимпийского чемпиона по гребле все примерные родители всего мира воспитывают своих детей?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1060560" y="195120"/>
            <a:ext cx="6267240" cy="1309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22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амое «спортивное» женское имя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1060560" y="195120"/>
            <a:ext cx="6267240" cy="13845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21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амая спортивная деревня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1060560" y="262080"/>
            <a:ext cx="6267240" cy="14572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42560" y="1142640"/>
            <a:ext cx="800100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Кольца какого цвета нет на олимпийском флаге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) Голубого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) Зелёного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) Коричневого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) Чёрного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1060560" y="195120"/>
            <a:ext cx="6267240" cy="16700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85480" y="1214280"/>
            <a:ext cx="7786440" cy="485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Кольцо какого цвета на олимпийском флаге символизирует Европу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) Жёлтого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) Голубого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) Красного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) Зелёного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5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096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2560" y="1785600"/>
            <a:ext cx="800100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Что такое Здоровый образ жизни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)Сохранение и улучшение здоровья люд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ведение позволяющее сэкономить время и деньги на услугах Здравоохран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рганизация всех сторон жизни, позволяющая  увеличить продолжительность жизни и повысить ее качество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0238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85840" y="85680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Самый умный вид спорта?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023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85840" y="1071360"/>
            <a:ext cx="785808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Самая сильная сказочная девочка?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981000" y="1932120"/>
            <a:ext cx="64310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1060560" y="334800"/>
            <a:ext cx="6267240" cy="10303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31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 кого вы превратитесь, ЕСЛИ 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придёте на приём к врачу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1060560" y="49320"/>
            <a:ext cx="6267240" cy="1243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373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 кого вы превратитесь, ЕСЛИ 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вдруг получите травму в результате транспортного происшествия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1060560" y="195120"/>
            <a:ext cx="6267240" cy="123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6255000" cy="23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 кого вы превратитесь, ЕСЛИ 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придёте с друзьями на футбольный матч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0969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143000" y="2214360"/>
            <a:ext cx="625464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 кого вы превратитесь, ЕСЛИ 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придёте на работу  с насморком, кашлем, температурой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0969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35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 кого вы превратитесь, ЕСЛИ 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не раз сдадите свою кровь на благое дело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309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6255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 кого вы превратитесь, ЕСЛИ 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вас застанут с сигаретой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-128520" y="189000"/>
            <a:ext cx="883908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0238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85840" y="1213920"/>
            <a:ext cx="7858080" cy="564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Что такое физическая подготовленность?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) Сочетание объема и интенсивности при выполнении двигательных действ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) Двигательное действие доведенное до автоматизм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)</a:t>
            </a:r>
            <a:r>
              <a:rPr b="0" lang="ru-RU" sz="28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ровень развития физических качест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08080" y="189000"/>
            <a:ext cx="799128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103320" y="328680"/>
            <a:ext cx="7931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1060560" y="1695600"/>
            <a:ext cx="6310080" cy="2492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D:\Documents and Settings\Александр\Local Settings\Temporary Internet Files\Content.IE5\GDUCG970\MC900308182[1].wmf"/>
          <p:cNvPicPr/>
          <p:nvPr/>
        </p:nvPicPr>
        <p:blipFill>
          <a:blip r:embed="rId2"/>
          <a:stretch/>
        </p:blipFill>
        <p:spPr>
          <a:xfrm>
            <a:off x="5214960" y="4357800"/>
            <a:ext cx="183024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993600" y="5541840"/>
            <a:ext cx="6334200" cy="1322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КСЮША\ФИЗ\ДЕВИЗЫ И РЕЧОВКИ\РЕЧЕВКИ ДЛЯ УТРЕННЕЙ ГИМНАСТИКИ\8.jpg"/>
          <p:cNvPicPr/>
          <p:nvPr/>
        </p:nvPicPr>
        <p:blipFill>
          <a:blip r:embed="rId2"/>
          <a:stretch/>
        </p:blipFill>
        <p:spPr>
          <a:xfrm>
            <a:off x="357120" y="214200"/>
            <a:ext cx="749628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060560" y="49320"/>
            <a:ext cx="6267240" cy="1170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856800"/>
            <a:ext cx="814392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В какой игре количество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игроков составляет 6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rebuchet MS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rebuchet MS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14" descr="Викторина"/>
          <p:cNvPicPr/>
          <p:nvPr/>
        </p:nvPicPr>
        <p:blipFill>
          <a:blip r:embed="rId2"/>
          <a:srcRect l="14500" t="8278" r="43917" b="11055"/>
          <a:stretch/>
        </p:blipFill>
        <p:spPr>
          <a:xfrm>
            <a:off x="2857680" y="2428920"/>
            <a:ext cx="2286000" cy="2930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Викторина"/>
          <p:cNvPicPr/>
          <p:nvPr/>
        </p:nvPicPr>
        <p:blipFill>
          <a:blip r:embed="rId3"/>
          <a:srcRect l="7583" t="9596" r="66047" b="39501"/>
          <a:stretch/>
        </p:blipFill>
        <p:spPr>
          <a:xfrm>
            <a:off x="5572080" y="3571920"/>
            <a:ext cx="2473200" cy="3056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D:\Documents and Settings\allex\Рабочий стол\fut-segodnya.jpg"/>
          <p:cNvPicPr/>
          <p:nvPr/>
        </p:nvPicPr>
        <p:blipFill>
          <a:blip r:embed="rId4"/>
          <a:stretch/>
        </p:blipFill>
        <p:spPr>
          <a:xfrm>
            <a:off x="357120" y="2071800"/>
            <a:ext cx="2219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1060560" y="-23760"/>
            <a:ext cx="6267240" cy="1030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13840" y="714240"/>
            <a:ext cx="7929720" cy="614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Какой вид спорта не входит в олимпийскую программу в 2012 году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Картинка 3 из 159412"/>
          <p:cNvPicPr/>
          <p:nvPr/>
        </p:nvPicPr>
        <p:blipFill>
          <a:blip r:embed="rId2"/>
          <a:stretch/>
        </p:blipFill>
        <p:spPr>
          <a:xfrm>
            <a:off x="3006720" y="2500200"/>
            <a:ext cx="2363760" cy="2428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D:\Documents and Settings\allex\Мои документы\Downloads\78sn7BrGNKKs1tuVKdZemd0KeSI0WOO15ZHHFrAF5BQ.jpg"/>
          <p:cNvPicPr/>
          <p:nvPr/>
        </p:nvPicPr>
        <p:blipFill>
          <a:blip r:embed="rId3"/>
          <a:stretch/>
        </p:blipFill>
        <p:spPr>
          <a:xfrm>
            <a:off x="571680" y="192888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D:\Documents and Settings\allex\Мои документы\Downloads\img_23738.jpg"/>
          <p:cNvPicPr/>
          <p:nvPr/>
        </p:nvPicPr>
        <p:blipFill>
          <a:blip r:embed="rId4"/>
          <a:stretch/>
        </p:blipFill>
        <p:spPr>
          <a:xfrm>
            <a:off x="5429160" y="3643200"/>
            <a:ext cx="2573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096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778680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Физическая культура это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дин из видов человеческой культуры, специфика которой заключается в оптимизации природных свойств челове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) Образовательная область в детском сад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3)</a:t>
            </a:r>
            <a:r>
              <a:rPr b="0" lang="ru-RU" sz="32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сестороннее совершенствование и укрепление тела путем физических упражнен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060560" y="122400"/>
            <a:ext cx="6267240" cy="1096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57120" y="1000080"/>
            <a:ext cx="778680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Какие лучше применять упражнения для снижения веса тела?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)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пражнения на растяжку мышц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)</a:t>
            </a: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пражнения из положения леж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)</a:t>
            </a:r>
            <a:r>
              <a:rPr b="0" lang="ru-RU" sz="28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пражнения с небольшим отягощением и большим количеством повторен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1060560" y="146160"/>
            <a:ext cx="6267240" cy="7254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13840" y="114300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Кто является инициатором возрождения современных олимпийских игр?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) Иоханнес Аквилл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) Пьер де Куберте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3) Жан Жак Руссо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060560" y="146160"/>
            <a:ext cx="6267240" cy="725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13840" y="1143000"/>
            <a:ext cx="79297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де и когда дебютировали в Олимпийских играх российские спортсмены?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) Хельсинки 1952 год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) Лондон 1908 год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3) Стокгольм 1912 год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2:44:59Z</dcterms:created>
  <dc:creator>WIN7XP</dc:creator>
  <dc:description/>
  <dc:language>en-US</dc:language>
  <cp:lastModifiedBy>Forester</cp:lastModifiedBy>
  <dcterms:modified xsi:type="dcterms:W3CDTF">2012-02-04T08:52:34Z</dcterms:modified>
  <cp:revision>28</cp:revision>
  <dc:subject/>
  <dc:title>Викторина  ко дню здоровью</dc:title>
</cp:coreProperties>
</file>