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3.png" ContentType="image/png"/>
  <Override PartName="/ppt/media/image20.gif" ContentType="image/gif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1-31T11:29:10.406000000" idx="1">
    <p:pos x="10" y="10"/>
    <p:text>Емельянова Е.А.-учитель русского языка и литературу ГБОУ СОШ №440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ельянова У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79D-8F5B-4366-8769-4694CE621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CA59-5598-4524-A160-6BEACA2D2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ельянова У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ельянова У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484D-58B1-4C44-8F6F-335470219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3C8-4BD5-463F-8590-5285596C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793-8223-46B7-9DCE-F0525BB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4B0-2F09-4930-B9F9-1FE4F43C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30A-C1F1-4765-819C-5CC1687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3DE8-5330-47D3-95EE-F94611C1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198-7408-43F8-A44B-8C16B0BC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7E6E-2CA1-45AB-8182-466C40E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D1C5-5222-43A4-8FC4-180276E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FE79-EB64-42AF-B61A-03293F4F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C0E8-7CC6-4A5A-B02E-A73C03E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E21-05C9-49F2-BD86-09F2178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816-4D64-46DB-87F9-2B4C83F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5A5-905F-4E2D-8182-A9E068C7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884-93E9-4989-82C1-CA2E246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FE5A-8187-44FA-A36C-591EADE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EBD3-809C-48A9-94F6-2ED8A46B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D449-4AE5-49C9-9C3D-7CE06A91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85A5-5B29-41FC-AC7B-A1EF3329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9D402-ACB8-44E0-96ED-53C381B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ED7B-6E4D-4BC6-AB4B-344AE38B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B9EC-ADAA-4B94-87E0-5222ECE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A896-127B-4EFC-AA1B-523D82C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820-7F0A-469E-9261-5728ABA5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02F3-64EA-41A5-88D5-A71FB4F3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097B-52AC-409C-B2FA-EE0649C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FA06-D004-4AE7-9B0A-FCD84E2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71A8-8A1C-4CC4-A739-7B89426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D212-C031-40E6-B9C8-FA2CDBB4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44D4-BC61-4286-8A6C-16FBDCB8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5C57-9D2F-4E26-98F5-949959F0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A7A6-DBA4-41E4-A3A9-2BF49309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EDAF-3862-4C22-B75D-A132C94B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313A-6280-428F-9243-C48B9CE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6D2-FDCD-4A7D-BAAC-4F7AD33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7988-7A8F-4F43-865D-310D431B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2541-BB0E-4588-AC63-6240C50D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24F1-2825-4C50-915F-5A32137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FAF5-E081-461E-9449-36C29C7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DEDD-080D-4190-B96C-12845BC1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C0CE-A49A-4637-9A81-37D81D1B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C704-7A2D-40D9-958D-DBD5609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9D96-8263-46A2-8873-72639841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7533-96C8-4711-BDC2-C8EFB974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19AF-7A7A-4A7A-BC0A-0A607AD8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47D-8A21-4DC6-9351-02D33848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234D-638F-4934-9C10-A8E436F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D09A-2435-4C1E-90D1-B66204E8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DB86E-B2EF-484C-9689-05E0480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987E-EC07-4A81-A189-2E6560E7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854F-D5B4-48B9-A0F1-C45F9BF5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002F-0F2A-4C3F-A94A-89E7131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647A-3C2F-4934-BAAE-E4A1AD5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70C8-7B28-44D1-996A-E90ADBA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705D-2503-4F1C-8011-F742C5AE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4070-3800-427F-91D8-ED6A7228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D67-43A1-4F38-AD2A-0F0FA978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F5ACB-7872-4FF1-9250-C902432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374B-AB06-4F3A-B4B5-EFADA02C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D64A-05B8-4941-8349-D4247F0C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F481F-DDB1-49AC-BBDE-53DFDE2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8B97-BD68-4F7C-9D7A-85F72BEE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E93C-7569-4A3C-8756-1CEA2245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3EBB6-7AB0-498F-BC6F-630A2F6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AA48-E1BB-4A3E-B3BE-AB55C85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4A5A-8D65-411C-8CFA-5D5CCF1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539F-8504-49BE-B15E-8D01C63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20E-42EC-41E8-A1F0-8390FBC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8077-9E12-4BA2-B21A-E86A864E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DD037-BD48-4F00-8E40-C52126A9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A418-B764-46BF-B637-7B276B9C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E84-5B00-4AD1-8604-32ACFDE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9A3-7A8A-4584-9601-424115A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86A-ABEB-4F93-83E6-C8F57BC2E9AA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9C8E-5954-4BE3-A0F5-04ACA786A153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E74-6D8D-4434-B44D-B0409551BE06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C90B-806F-4EEC-A1ED-1B62B80EB789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C33A-6351-422F-B9E7-97FD21E3493B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BCCD-D246-4626-87EA-562422CA3973}" type="slidenum">
              <a:rPr b="0" lang="ru-RU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phorism.ru/author/a7784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jplus.ru/img4/s/a/san_vladimch/Vratar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0735d"/>
              </a:solidFill>
              <a:latin typeface="Verdana"/>
            </a:endParaRPr>
          </a:p>
        </p:txBody>
      </p:sp>
      <p:grpSp>
        <p:nvGrpSpPr>
          <p:cNvPr id="273" name="WordArt 59"/>
          <p:cNvGrpSpPr/>
          <p:nvPr/>
        </p:nvGrpSpPr>
        <p:grpSpPr>
          <a:xfrm>
            <a:off x="768240" y="676440"/>
            <a:ext cx="7418520" cy="2474640"/>
            <a:chOff x="768240" y="676440"/>
            <a:chExt cx="7418520" cy="2474640"/>
          </a:xfrm>
        </p:grpSpPr>
        <p:pic>
          <p:nvPicPr>
            <p:cNvPr id="274" name="WordArt 59" descr=""/>
            <p:cNvPicPr/>
            <p:nvPr/>
          </p:nvPicPr>
          <p:blipFill>
            <a:blip r:embed="rId1"/>
            <a:stretch/>
          </p:blipFill>
          <p:spPr>
            <a:xfrm>
              <a:off x="768240" y="676440"/>
              <a:ext cx="741852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85880" y="692280"/>
              <a:ext cx="7386480" cy="24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bdae2"/>
                  </a:solidFill>
                  <a:latin typeface="Times New Roman"/>
                  <a:ea typeface="Times New Roman"/>
                </a:rPr>
                <a:t>Здоровьесберегающие технологи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bdae2"/>
                  </a:solidFill>
                  <a:latin typeface="Times New Roman"/>
                  <a:ea typeface="Times New Roman"/>
                </a:rPr>
                <a:t>на уроках русского язы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66"/>
          <p:cNvSpPr/>
          <p:nvPr/>
        </p:nvSpPr>
        <p:spPr>
          <a:xfrm>
            <a:off x="1527120" y="632952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7"/>
          <p:cNvSpPr/>
          <p:nvPr/>
        </p:nvSpPr>
        <p:spPr>
          <a:xfrm>
            <a:off x="1887480" y="6400800"/>
            <a:ext cx="60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http://freebooks.net.ua/uploads/posts/2010-09/1285233556_spravochnik-shkolnika-russkij-yazyk-5-11-klassy.jpg"/>
          <p:cNvPicPr/>
          <p:nvPr/>
        </p:nvPicPr>
        <p:blipFill>
          <a:blip r:embed="rId2"/>
          <a:srcRect l="0" t="0" r="0" b="15625"/>
          <a:stretch/>
        </p:blipFill>
        <p:spPr>
          <a:xfrm>
            <a:off x="2928960" y="3643200"/>
            <a:ext cx="3048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55640" y="141300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айте определение выражения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Вид спортивной гимнастики   (аэроб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Система физических упражнений, способствующая общему развитию организма и укреплению здоровья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имнаст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Расслабление и снятие психического напряжения     (релаксац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 Правила времяпровождения  (распорядок дн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D6C-1C50-495F-8795-BCEE3A6DF5C9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1444320" y="7858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ий словарный дикт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646-E9DD-4130-BD49-598C94DDE7AA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071880" y="4429080"/>
          <a:ext cx="2643120" cy="1523880"/>
        </p:xfrm>
        <a:graphic>
          <a:graphicData uri="http://schemas.openxmlformats.org/drawingml/2006/table">
            <a:tbl>
              <a:tblPr/>
              <a:tblGrid>
                <a:gridCol w="2643120"/>
              </a:tblGrid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 2" charset="2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</a:t>
                      </a: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  ( где   ) ,   [   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   </a:t>
                      </a: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  [    ], а [   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 [    ], (чт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1"/>
          <p:cNvSpPr/>
          <p:nvPr/>
        </p:nvSpPr>
        <p:spPr>
          <a:xfrm>
            <a:off x="1071720" y="516960"/>
            <a:ext cx="6643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Работа с новым матери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комьтесь с русскими пословицами и поговорками о здоровье. Выберите те, которые вам наиболее понравились, и объясните  их смыс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рен да редька, лук да капуста - лихого не подпус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Где просто, там живут лет со 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м   и  здоровье дороже вс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еловека лень не кормит, а здоровье только пор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Даже собака знает, что травой леча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роанализируйте  выбранные предложения, постройте схемы для объяснения постановки знаков препинан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E6B-179F-4122-9F95-B53AB31B26FE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5880" y="831960"/>
            <a:ext cx="7858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 вами афоризмы  известных  людей.  Выберите наиболее вам понравившиеся, объясните, как вы их понимае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Здоровье не ценят, пока не приходит болезнь. </a:t>
            </a:r>
            <a:r>
              <a:rPr b="0" lang="ru-RU" sz="1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(Томас Фулл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- вещь удивительная, потому что  его можно накопить.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ea typeface="Times New Roman"/>
                <a:hlinkClick r:id="rId1"/>
              </a:rPr>
              <a:t>Георгий     Александр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и насыщение, ни голод и ничто другое не хорошо, если преступить        меру   природы.    </a:t>
            </a:r>
            <a:r>
              <a:rPr b="0" lang="ru-RU" sz="1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(  </a:t>
            </a:r>
            <a:r>
              <a:rPr b="0" i="1" lang="ru-RU" sz="1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Гиппокра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доровье не купишь, так как им можно только расплачива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ru-RU" sz="1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(С.Крытый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не бегаешь, пока здоров, придется побегать, когда заболеешь.       </a:t>
            </a:r>
            <a:r>
              <a:rPr b="0" lang="ru-RU" sz="1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(Гора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йдите в  предложениях союзы. Одинаковы ли они по составу?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, одни состоят из одного слова, другие – из двух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называются такие союзы? Воспользуйтесь  информацией, данной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учебник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состоящие из одного слова, называются простыми, а из двух и более слов – составным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547-5174-439A-92A1-9E0F558F30C6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214880" y="1500120"/>
          <a:ext cx="3886200" cy="8002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ратите внимание на их написание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Rectangle 1"/>
          <p:cNvSpPr/>
          <p:nvPr/>
        </p:nvSpPr>
        <p:spPr>
          <a:xfrm>
            <a:off x="785880" y="497520"/>
            <a:ext cx="7572240" cy="5277600"/>
          </a:xfrm>
          <a:prstGeom prst="rect">
            <a:avLst/>
          </a:prstGeom>
          <a:noFill/>
          <a:ln w="93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  сложные предложения из двух простых, используя следующие союз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содержит витамины и минеральные вещества.  Она особенно полезна 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нис тренирует   все мышцы, укрепляет сердце, кости, улучшает кровообращение.  Многие люди выбирают этот вид спор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 от гриппа была поставлена вовремя. Удалось избежать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  дает большую нагрузку на зрение.  Необходимо соблюдать  некоторые правила  работы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071720" y="1500120"/>
            <a:ext cx="2143080" cy="368280"/>
          </a:xfrm>
          <a:prstGeom prst="rect">
            <a:avLst/>
          </a:prstGeom>
          <a:noFill/>
          <a:ln w="93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4216320" y="1857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859000" y="2214720"/>
            <a:ext cx="2171160" cy="368280"/>
          </a:xfrm>
          <a:prstGeom prst="rect">
            <a:avLst/>
          </a:prstGeom>
          <a:noFill/>
          <a:ln w="93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0"/>
          <p:cNvSpPr/>
          <p:nvPr/>
        </p:nvSpPr>
        <p:spPr>
          <a:xfrm>
            <a:off x="1144080" y="2214720"/>
            <a:ext cx="1712520" cy="368280"/>
          </a:xfrm>
          <a:prstGeom prst="rect">
            <a:avLst/>
          </a:prstGeom>
          <a:noFill/>
          <a:ln w="93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л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3354120" y="2214720"/>
            <a:ext cx="2093400" cy="368280"/>
          </a:xfrm>
          <a:prstGeom prst="rect">
            <a:avLst/>
          </a:prstGeom>
          <a:noFill/>
          <a:ln w="9360">
            <a:solidFill>
              <a:srgbClr val="a943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ижний колонтитул 9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8D4-BEA8-4183-B3F6-0290840EE525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428760" y="439200"/>
            <a:ext cx="828648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шите, расставив пропущенные запятые, объясните орфограммы. Над сочинительными союзами надпишите букву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, над подчинительными –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итый и благодетельный цели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-600 тому назад  в одном из городов на Руси вспыхнула   эпидемия неизвес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болезни    и   из портовых районов она быстро ра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илась  по всей округе.  Это была чума     св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ствовавшая тогда   в  Европе. Но на счастье,  в   одном  городе нашелся человек, который пред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оставшимся жителям мазаться маслом одного р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я  - змеиной  травой. Так называли древние славяне это р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е    потому что   прим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ли его при лечени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усов змей. А мы называем это р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е чесн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ена Владимира Мономаха крестьяне ели чеснок с солью и черным   хлебом   а по праз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м в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ли чесночный сту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историк Геродот  сообщал, что на стр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льстве п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иды Хеопса рабочие получали чеснок, лук и редьку для сохр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ия здоровья и работ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ие воины ж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 чеснок перед битвами  когда им предст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а рукопашная схва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0D8-BCB5-430C-B6A5-F66470096F24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"/>
          <p:cNvSpPr/>
          <p:nvPr/>
        </p:nvSpPr>
        <p:spPr>
          <a:xfrm>
            <a:off x="500040" y="599400"/>
            <a:ext cx="8072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 текст. Как в старину люди  укрепляли  свое здоров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одавние времен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было  бань,    люди парились в печках.    С собой брали посудину с квас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еник, предварительно его р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в . Человек л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ся на с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у, р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ызгивая в разные стороны квас или воду. От горячих стенок печи пар валил во все стороны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начинал себя с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ь веничком. Напарившись, вылезали из печи и сразу же выл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 на себя ушат х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ной воды. Конечно, в печи пари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ло не очень удобно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ни стали строить на берегу рек или прудов. В углу бани делал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ой очаг,   на него клали булыжники. После того как   булыжники р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ялись, на них из  шайки выплескивали воду. Жаркий пар зап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ял  всю баню.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жары невмоготу становилось, выб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 люди прямо голышом на улицу и сразу в речку или пруд бр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сь.   Однако же   потом опять в баню б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и. От такой закалки ни одна болезнь не могла од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шите, исправив орфограммы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кажите союзы. Над сочинительными союзами надпишите букву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, над подчинительными –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42960" y="1071720"/>
            <a:ext cx="3168720" cy="4525920"/>
          </a:xfrm>
          <a:prstGeom prst="rect">
            <a:avLst/>
          </a:prstGeom>
          <a:solidFill>
            <a:srgbClr val="993300">
              <a:alpha val="87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чинение –интервью  по картине А.Сайкиной «Детская спортивная школ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12C-F920-46C1-8473-76411B731F69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mso935C8"/>
          <p:cNvPicPr/>
          <p:nvPr/>
        </p:nvPicPr>
        <p:blipFill>
          <a:blip r:embed="rId1"/>
          <a:stretch/>
        </p:blipFill>
        <p:spPr>
          <a:xfrm>
            <a:off x="3714840" y="1214280"/>
            <a:ext cx="5018040" cy="4137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374" name="WordArt 6"/>
          <p:cNvSpPr txBox="1"/>
          <p:nvPr/>
        </p:nvSpPr>
        <p:spPr>
          <a:xfrm>
            <a:off x="2916360" y="476280"/>
            <a:ext cx="5256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c23">
                    <a:alpha val="78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Работа по карти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c23">
                  <a:alpha val="78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5" name="Нижний колонтитул 6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solidFill>
            <a:srgbClr val="a9432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35d"/>
                </a:solidFill>
                <a:latin typeface="Verdana"/>
              </a:rPr>
              <a:t>          </a:t>
            </a:r>
            <a:r>
              <a:rPr b="1" lang="ru-RU" sz="3200" spc="-1" strike="noStrike">
                <a:solidFill>
                  <a:srgbClr val="f0735d"/>
                </a:solidFill>
                <a:latin typeface="Verdana"/>
              </a:rPr>
              <a:t>Рассказ по картине </a:t>
            </a:r>
            <a:br>
              <a:rPr sz="3200"/>
            </a:br>
            <a:r>
              <a:rPr b="1" lang="ru-RU" sz="3200" spc="-1" strike="noStrike">
                <a:solidFill>
                  <a:srgbClr val="f0735d"/>
                </a:solidFill>
                <a:latin typeface="Verdana"/>
              </a:rPr>
              <a:t>С. А. Григорьева «Вратарь».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8C5E-B917-41F6-AC0D-7812852AA93E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http://www.ljplus.ru/img4/s/a/san_vladimch/Vrat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2357280"/>
            <a:ext cx="5391000" cy="2791080"/>
          </a:xfrm>
          <a:prstGeom prst="rect">
            <a:avLst/>
          </a:prstGeom>
          <a:ln w="42480">
            <a:solidFill>
              <a:srgbClr val="994733"/>
            </a:solidFill>
            <a:miter/>
          </a:ln>
        </p:spPr>
      </p:pic>
      <p:sp>
        <p:nvSpPr>
          <p:cNvPr id="379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03280" y="529920"/>
            <a:ext cx="8354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Физминут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ь часть речи названного слова. Если это существительное – хлопаем, если глагол – топа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кцина, бежать, насморк, забыться, микстура, прививка, вырасти, гигиена, закаляться, ангина, витамины, беречь, чувствовать, нездоровиться , болез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12C7-698D-475E-8833-BC8ECAC72962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99680" y="428760"/>
            <a:ext cx="8002440" cy="367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SimSun"/>
              </a:rPr>
              <a:t>Психологическая страниц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для орфографического разб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..лезно и пр..ятно см..треть на аквариум с разн..цветными рыбками. Плавно раскачивающиеся вод..росли и плавающие рыбки погружают нас в состояние нев..сомости. Всё наше тело медленно ра..слабляется, кров..носные сосуды ра..ширяются, сердце нач..нает биться ровнее, полностью исч..зают напряжение в теле и г..ловная боль. Аквариум – пр..красное средство от страха в зубном кабине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43D6-A671-433F-9726-3D2EA58B99AC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http://www.fonchik.ru/wp-content/uploads/2010/01/aquarium.gif"/>
          <p:cNvPicPr/>
          <p:nvPr/>
        </p:nvPicPr>
        <p:blipFill>
          <a:blip r:embed="rId1"/>
          <a:stretch/>
        </p:blipFill>
        <p:spPr>
          <a:xfrm>
            <a:off x="2643120" y="2928960"/>
            <a:ext cx="4000680" cy="3571920"/>
          </a:xfrm>
          <a:prstGeom prst="rect">
            <a:avLst/>
          </a:prstGeom>
          <a:ln w="0">
            <a:noFill/>
          </a:ln>
        </p:spPr>
      </p:pic>
      <p:sp>
        <p:nvSpPr>
          <p:cNvPr id="3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214200" y="285840"/>
            <a:ext cx="4786560" cy="59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та о здоровье – </a:t>
            </a:r>
            <a:r>
              <a:rPr b="1" i="1" lang="ru-RU" sz="36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36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В.А.Сухомлинский</a:t>
            </a:r>
            <a:r>
              <a:rPr b="0" i="1" lang="ru-RU" sz="1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F:\для фестиваля\картинки\5.jpg"/>
          <p:cNvPicPr/>
          <p:nvPr/>
        </p:nvPicPr>
        <p:blipFill>
          <a:blip r:embed="rId1"/>
          <a:stretch/>
        </p:blipFill>
        <p:spPr>
          <a:xfrm>
            <a:off x="4857840" y="1500120"/>
            <a:ext cx="3786120" cy="2843280"/>
          </a:xfrm>
          <a:prstGeom prst="rect">
            <a:avLst/>
          </a:prstGeom>
          <a:ln w="0">
            <a:noFill/>
          </a:ln>
        </p:spPr>
      </p:pic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698-2A0A-4F99-AB80-B03093839D2A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0" descr="Горы"/>
          <p:cNvPicPr/>
          <p:nvPr/>
        </p:nvPicPr>
        <p:blipFill>
          <a:blip r:embed="rId1"/>
          <a:stretch/>
        </p:blipFill>
        <p:spPr>
          <a:xfrm>
            <a:off x="1187280" y="936720"/>
            <a:ext cx="6624720" cy="52988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D469-23E7-44D7-ADF7-807F2AB49103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21-James Last - Andante Aus Sinfonia Concertanite Kv 364 (.mp3" descr=""/>
          <p:cNvPicPr/>
          <p:nvPr/>
        </p:nvPicPr>
        <p:blipFill>
          <a:blip r:embed="rId2"/>
          <a:stretch/>
        </p:blipFill>
        <p:spPr>
          <a:xfrm>
            <a:off x="7286760" y="557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5" descr=""/>
          <p:cNvPicPr/>
          <p:nvPr/>
        </p:nvPicPr>
        <p:blipFill>
          <a:blip r:embed="rId3"/>
          <a:stretch/>
        </p:blipFill>
        <p:spPr>
          <a:xfrm>
            <a:off x="895320" y="-152280"/>
            <a:ext cx="762012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72431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EB1-86E5-410D-A8A8-0974C350FB32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714240" y="143496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ожете ли вы    теперь  отличать сочинительные союзы от подчинительных?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акие новые знания о профилактике простудных заболеваний вы  приобрели на уро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F:\для фестиваля\картинки\сова с указкой..jpg"/>
          <p:cNvPicPr/>
          <p:nvPr/>
        </p:nvPicPr>
        <p:blipFill>
          <a:blip r:embed="rId1"/>
          <a:stretch/>
        </p:blipFill>
        <p:spPr>
          <a:xfrm>
            <a:off x="5715000" y="2857680"/>
            <a:ext cx="2879640" cy="295272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j0298653"/>
          <p:cNvPicPr/>
          <p:nvPr/>
        </p:nvPicPr>
        <p:blipFill>
          <a:blip r:embed="rId1"/>
          <a:stretch/>
        </p:blipFill>
        <p:spPr>
          <a:xfrm>
            <a:off x="1589040" y="2195640"/>
            <a:ext cx="1782720" cy="1058760"/>
          </a:xfrm>
          <a:prstGeom prst="rect">
            <a:avLst/>
          </a:prstGeom>
          <a:ln w="0">
            <a:noFill/>
          </a:ln>
        </p:spPr>
      </p:pic>
      <p:sp>
        <p:nvSpPr>
          <p:cNvPr id="397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F62-F88C-49D3-9AF4-38CA02505F91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WordArt 9" descr=""/>
          <p:cNvPicPr/>
          <p:nvPr/>
        </p:nvPicPr>
        <p:blipFill>
          <a:blip r:embed="rId2"/>
          <a:stretch/>
        </p:blipFill>
        <p:spPr>
          <a:xfrm>
            <a:off x="1657440" y="420840"/>
            <a:ext cx="5968800" cy="950760"/>
          </a:xfrm>
          <a:prstGeom prst="rect">
            <a:avLst/>
          </a:prstGeom>
          <a:ln w="0">
            <a:noFill/>
          </a:ln>
        </p:spPr>
      </p:pic>
      <p:sp>
        <p:nvSpPr>
          <p:cNvPr id="399" name="Cloud"/>
          <p:cNvSpPr/>
          <p:nvPr/>
        </p:nvSpPr>
        <p:spPr>
          <a:xfrm>
            <a:off x="0" y="1366920"/>
            <a:ext cx="5219640" cy="3790800"/>
          </a:xfrm>
          <a:prstGeom prst="pie">
            <a:avLst/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таких уроков – обогащение словарного запаса учащихся, закрепление орфографических и пунктуационных навыков на материале, который поможет детям грамотно заботиться о своём здоровье, предупредить вредные привычки, будет способствовать их стремлению к здоровому образу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loud"/>
          <p:cNvSpPr/>
          <p:nvPr/>
        </p:nvSpPr>
        <p:spPr>
          <a:xfrm>
            <a:off x="3924360" y="2133720"/>
            <a:ext cx="5219640" cy="3887640"/>
          </a:xfrm>
          <a:prstGeom prst="pie">
            <a:avLst/>
          </a:prstGeom>
          <a:solidFill>
            <a:srgbClr val="edc1b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ие уроки повышают интерес к предмету, помогают учителю установить доверительные отношения с детьми, максимально использовать индивидуальные особенности и способности учащихся для повышения результативности их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ижний колонтитул 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80010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педагога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елать урок таким, чтобы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ме приобретения знаний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 приобрёл здоровье или хотя бы не потерял его.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4" name="Picture 18" descr="091a4d171ddd98033093c327794eff6f&amp;sa=X&amp;ei=0X85TomPBoOs-gboopDAAg&amp;ved=0CAQQ8wc&amp;usg=AFQjCNF2S2nID7KSZIbr5RARWlmllXu5pA"/>
          <p:cNvPicPr/>
          <p:nvPr/>
        </p:nvPicPr>
        <p:blipFill>
          <a:blip r:embed="rId1"/>
          <a:stretch/>
        </p:blipFill>
        <p:spPr>
          <a:xfrm>
            <a:off x="4071960" y="2357280"/>
            <a:ext cx="3657600" cy="3581640"/>
          </a:xfrm>
          <a:prstGeom prst="rect">
            <a:avLst/>
          </a:prstGeom>
          <a:ln w="0">
            <a:noFill/>
          </a:ln>
        </p:spPr>
      </p:pic>
      <p:sp>
        <p:nvSpPr>
          <p:cNvPr id="285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558-58D3-40E8-8947-412E110B7B13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 ученика в норме, если: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8" name="Picture 2" descr="F:\для фестиваля\картинки\сова 2.jpg"/>
          <p:cNvPicPr/>
          <p:nvPr/>
        </p:nvPicPr>
        <p:blipFill>
          <a:blip r:embed="rId1"/>
          <a:stretch/>
        </p:blipFill>
        <p:spPr>
          <a:xfrm>
            <a:off x="500040" y="1857240"/>
            <a:ext cx="2546280" cy="248472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7"/>
          <p:cNvSpPr/>
          <p:nvPr/>
        </p:nvSpPr>
        <p:spPr>
          <a:xfrm>
            <a:off x="3143160" y="1285920"/>
            <a:ext cx="571500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в физическом плане</a:t>
            </a:r>
            <a:r>
              <a:rPr b="0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в социальном плане</a:t>
            </a:r>
            <a:r>
              <a:rPr b="0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 – он коммуникабелен, общител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в эмоциональном плане</a:t>
            </a:r>
            <a:r>
              <a:rPr b="0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 – ребенок уравновешен, способен удивляться и восхищ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в интеллектуальном плане</a:t>
            </a:r>
            <a:r>
              <a:rPr b="0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в нравственном плане</a:t>
            </a:r>
            <a:r>
              <a:rPr b="0" i="1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 – он признает основные общечеловеческие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2C54-AFF6-4D54-92B2-324F7F833B50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ижний колонтитул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FB6D-63DB-4BB0-939C-2C898EE618A8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Овал 6"/>
          <p:cNvGrpSpPr/>
          <p:nvPr/>
        </p:nvGrpSpPr>
        <p:grpSpPr>
          <a:xfrm>
            <a:off x="3267000" y="2517840"/>
            <a:ext cx="2316240" cy="1603440"/>
            <a:chOff x="3267000" y="2517840"/>
            <a:chExt cx="2316240" cy="1603440"/>
          </a:xfrm>
        </p:grpSpPr>
        <p:pic>
          <p:nvPicPr>
            <p:cNvPr id="294" name="Овал 6" descr=""/>
            <p:cNvPicPr/>
            <p:nvPr/>
          </p:nvPicPr>
          <p:blipFill>
            <a:blip r:embed="rId1"/>
            <a:stretch/>
          </p:blipFill>
          <p:spPr>
            <a:xfrm>
              <a:off x="3267000" y="2517840"/>
              <a:ext cx="23162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672000" y="2781360"/>
              <a:ext cx="151452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новные техн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Овал 7"/>
          <p:cNvGrpSpPr/>
          <p:nvPr/>
        </p:nvGrpSpPr>
        <p:grpSpPr>
          <a:xfrm>
            <a:off x="622440" y="2803680"/>
            <a:ext cx="2249280" cy="1091880"/>
            <a:chOff x="622440" y="2803680"/>
            <a:chExt cx="2249280" cy="1091880"/>
          </a:xfrm>
        </p:grpSpPr>
        <p:pic>
          <p:nvPicPr>
            <p:cNvPr id="297" name="Овал 7" descr=""/>
            <p:cNvPicPr/>
            <p:nvPr/>
          </p:nvPicPr>
          <p:blipFill>
            <a:blip r:embed="rId2"/>
            <a:stretch/>
          </p:blipFill>
          <p:spPr>
            <a:xfrm>
              <a:off x="622440" y="2803680"/>
              <a:ext cx="2249280" cy="10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17720" y="2990880"/>
              <a:ext cx="1465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рганизация уро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Овал 8"/>
          <p:cNvGrpSpPr/>
          <p:nvPr/>
        </p:nvGrpSpPr>
        <p:grpSpPr>
          <a:xfrm>
            <a:off x="3267000" y="785880"/>
            <a:ext cx="2249640" cy="1109520"/>
            <a:chOff x="3267000" y="785880"/>
            <a:chExt cx="2249640" cy="1109520"/>
          </a:xfrm>
        </p:grpSpPr>
        <p:pic>
          <p:nvPicPr>
            <p:cNvPr id="300" name="Овал 8" descr=""/>
            <p:cNvPicPr/>
            <p:nvPr/>
          </p:nvPicPr>
          <p:blipFill>
            <a:blip r:embed="rId3"/>
            <a:stretch/>
          </p:blipFill>
          <p:spPr>
            <a:xfrm>
              <a:off x="3267000" y="785880"/>
              <a:ext cx="22496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60840" y="990720"/>
              <a:ext cx="1465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ередование видов раб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Овал 9"/>
          <p:cNvGrpSpPr/>
          <p:nvPr/>
        </p:nvGrpSpPr>
        <p:grpSpPr>
          <a:xfrm>
            <a:off x="3481560" y="4657680"/>
            <a:ext cx="2101680" cy="1090800"/>
            <a:chOff x="3481560" y="4657680"/>
            <a:chExt cx="2101680" cy="1090800"/>
          </a:xfrm>
        </p:grpSpPr>
        <p:pic>
          <p:nvPicPr>
            <p:cNvPr id="303" name="Овал 9" descr=""/>
            <p:cNvPicPr/>
            <p:nvPr/>
          </p:nvPicPr>
          <p:blipFill>
            <a:blip r:embed="rId4"/>
            <a:stretch/>
          </p:blipFill>
          <p:spPr>
            <a:xfrm>
              <a:off x="3481560" y="4657680"/>
              <a:ext cx="210168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854520" y="4848120"/>
              <a:ext cx="13636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стовые зад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Овал 10"/>
          <p:cNvGrpSpPr/>
          <p:nvPr/>
        </p:nvGrpSpPr>
        <p:grpSpPr>
          <a:xfrm>
            <a:off x="6340320" y="2657520"/>
            <a:ext cx="2028960" cy="1305000"/>
            <a:chOff x="6340320" y="2657520"/>
            <a:chExt cx="2028960" cy="1305000"/>
          </a:xfrm>
        </p:grpSpPr>
        <p:pic>
          <p:nvPicPr>
            <p:cNvPr id="306" name="Овал 10" descr=""/>
            <p:cNvPicPr/>
            <p:nvPr/>
          </p:nvPicPr>
          <p:blipFill>
            <a:blip r:embed="rId5"/>
            <a:stretch/>
          </p:blipFill>
          <p:spPr>
            <a:xfrm>
              <a:off x="6340320" y="2657520"/>
              <a:ext cx="2028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700680" y="2879640"/>
              <a:ext cx="13147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чно-модуль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Овал 12"/>
          <p:cNvGrpSpPr/>
          <p:nvPr/>
        </p:nvGrpSpPr>
        <p:grpSpPr>
          <a:xfrm>
            <a:off x="981000" y="1231920"/>
            <a:ext cx="2090880" cy="1090440"/>
            <a:chOff x="981000" y="1231920"/>
            <a:chExt cx="2090880" cy="1090440"/>
          </a:xfrm>
        </p:grpSpPr>
        <p:pic>
          <p:nvPicPr>
            <p:cNvPr id="309" name="Овал 12" descr=""/>
            <p:cNvPicPr/>
            <p:nvPr/>
          </p:nvPicPr>
          <p:blipFill>
            <a:blip r:embed="rId6"/>
            <a:stretch/>
          </p:blipFill>
          <p:spPr>
            <a:xfrm>
              <a:off x="981000" y="1231920"/>
              <a:ext cx="20908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352520" y="1419120"/>
              <a:ext cx="1352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становка комфор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Овал 13"/>
          <p:cNvGrpSpPr/>
          <p:nvPr/>
        </p:nvGrpSpPr>
        <p:grpSpPr>
          <a:xfrm>
            <a:off x="5767560" y="944640"/>
            <a:ext cx="2249280" cy="1305000"/>
            <a:chOff x="5767560" y="944640"/>
            <a:chExt cx="2249280" cy="1305000"/>
          </a:xfrm>
        </p:grpSpPr>
        <p:pic>
          <p:nvPicPr>
            <p:cNvPr id="312" name="Овал 13" descr=""/>
            <p:cNvPicPr/>
            <p:nvPr/>
          </p:nvPicPr>
          <p:blipFill>
            <a:blip r:embed="rId7"/>
            <a:stretch/>
          </p:blipFill>
          <p:spPr>
            <a:xfrm>
              <a:off x="5767560" y="944640"/>
              <a:ext cx="22492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161040" y="1165320"/>
              <a:ext cx="14652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озировка учебных нагру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Овал 14"/>
          <p:cNvGrpSpPr/>
          <p:nvPr/>
        </p:nvGrpSpPr>
        <p:grpSpPr>
          <a:xfrm>
            <a:off x="1268280" y="4443480"/>
            <a:ext cx="2017800" cy="1092240"/>
            <a:chOff x="1268280" y="4443480"/>
            <a:chExt cx="2017800" cy="1092240"/>
          </a:xfrm>
        </p:grpSpPr>
        <p:pic>
          <p:nvPicPr>
            <p:cNvPr id="315" name="Овал 14" descr=""/>
            <p:cNvPicPr/>
            <p:nvPr/>
          </p:nvPicPr>
          <p:blipFill>
            <a:blip r:embed="rId8"/>
            <a:stretch/>
          </p:blipFill>
          <p:spPr>
            <a:xfrm>
              <a:off x="1268280" y="4443480"/>
              <a:ext cx="20178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627200" y="4633920"/>
              <a:ext cx="1303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изкульт-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Овал 15"/>
          <p:cNvGrpSpPr/>
          <p:nvPr/>
        </p:nvGrpSpPr>
        <p:grpSpPr>
          <a:xfrm>
            <a:off x="5840280" y="4443480"/>
            <a:ext cx="2749680" cy="1324080"/>
            <a:chOff x="5840280" y="4443480"/>
            <a:chExt cx="2749680" cy="1324080"/>
          </a:xfrm>
        </p:grpSpPr>
        <p:pic>
          <p:nvPicPr>
            <p:cNvPr id="318" name="Овал 15" descr=""/>
            <p:cNvPicPr/>
            <p:nvPr/>
          </p:nvPicPr>
          <p:blipFill>
            <a:blip r:embed="rId9"/>
            <a:stretch/>
          </p:blipFill>
          <p:spPr>
            <a:xfrm>
              <a:off x="5840280" y="4443480"/>
              <a:ext cx="27496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05400" y="4667400"/>
              <a:ext cx="18194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ноуровневые зад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Овал 4"/>
          <p:cNvSpPr/>
          <p:nvPr/>
        </p:nvSpPr>
        <p:spPr>
          <a:xfrm>
            <a:off x="2235240" y="46641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21"/>
          <p:cNvSpPr/>
          <p:nvPr/>
        </p:nvSpPr>
        <p:spPr>
          <a:xfrm flipV="1">
            <a:off x="4355280" y="1785600"/>
            <a:ext cx="1800" cy="78588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22"/>
          <p:cNvSpPr/>
          <p:nvPr/>
        </p:nvSpPr>
        <p:spPr>
          <a:xfrm flipV="1">
            <a:off x="4428360" y="4071960"/>
            <a:ext cx="1800" cy="6429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23"/>
          <p:cNvSpPr/>
          <p:nvPr/>
        </p:nvSpPr>
        <p:spPr>
          <a:xfrm>
            <a:off x="5500800" y="3214800"/>
            <a:ext cx="928440" cy="14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7"/>
          <p:cNvSpPr/>
          <p:nvPr/>
        </p:nvSpPr>
        <p:spPr>
          <a:xfrm>
            <a:off x="2786040" y="3286080"/>
            <a:ext cx="571680" cy="180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32"/>
          <p:cNvSpPr/>
          <p:nvPr/>
        </p:nvSpPr>
        <p:spPr>
          <a:xfrm flipV="1">
            <a:off x="5214960" y="1999800"/>
            <a:ext cx="928800" cy="78588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35"/>
          <p:cNvSpPr/>
          <p:nvPr/>
        </p:nvSpPr>
        <p:spPr>
          <a:xfrm flipH="1" flipV="1">
            <a:off x="5286240" y="3714840"/>
            <a:ext cx="857520" cy="100008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38"/>
          <p:cNvSpPr/>
          <p:nvPr/>
        </p:nvSpPr>
        <p:spPr>
          <a:xfrm flipH="1" flipV="1">
            <a:off x="2857680" y="1999800"/>
            <a:ext cx="714240" cy="78588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41"/>
          <p:cNvSpPr/>
          <p:nvPr/>
        </p:nvSpPr>
        <p:spPr>
          <a:xfrm flipV="1">
            <a:off x="2857680" y="3857760"/>
            <a:ext cx="857160" cy="7142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ижний колонтитул 20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57120" y="1857240"/>
          <a:ext cx="8429760" cy="4025880"/>
        </p:xfrm>
        <a:graphic>
          <a:graphicData uri="http://schemas.openxmlformats.org/drawingml/2006/table">
            <a:tbl>
              <a:tblPr/>
              <a:tblGrid>
                <a:gridCol w="1685880"/>
                <a:gridCol w="1989360"/>
                <a:gridCol w="1382760"/>
                <a:gridCol w="1685880"/>
                <a:gridCol w="1685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DejaVu Sans"/>
                        </a:rPr>
                        <a:t>Критерии здоровье- сбере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DejaVu Sans"/>
                        </a:rPr>
                        <a:t>Рациональ-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DejaVu Sans"/>
                        </a:rPr>
                        <a:t>Недостаточно рациональ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DejaVu Sans"/>
                        </a:rPr>
                        <a:t>Нерациональ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28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оличество видов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иды учебной деятельност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опрос, письмо, чтение, слушание, рассказ, ответы на вопрос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ссматривание, спис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331" name="Заголовок 1"/>
          <p:cNvSpPr/>
          <p:nvPr/>
        </p:nvSpPr>
        <p:spPr>
          <a:xfrm>
            <a:off x="285840" y="500040"/>
            <a:ext cx="8686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итерии здоровьесбережения и уровни гигиенической рациональности уро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612-64F7-4DB4-8357-79FC793B9899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642960" y="2444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умственной деятельности учащихся в ходе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71680" y="1143000"/>
          <a:ext cx="8072280" cy="4797360"/>
        </p:xfrm>
        <a:graphic>
          <a:graphicData uri="http://schemas.openxmlformats.org/drawingml/2006/table">
            <a:tbl>
              <a:tblPr/>
              <a:tblGrid>
                <a:gridCol w="2017440"/>
                <a:gridCol w="2019240"/>
                <a:gridCol w="2017800"/>
                <a:gridCol w="2017800"/>
              </a:tblGrid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ь урока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432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432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рузка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432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432b"/>
                    </a:solidFill>
                  </a:tcPr>
                </a:tc>
              </a:tr>
              <a:tr h="1293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 этап. Врабаты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неве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ая, переходящая в продуктивную. Повт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 этап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работоспособность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снижение на 15-й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ая, творческая, знакомство с новым материа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0db"/>
                    </a:solidFill>
                  </a:tcPr>
                </a:tc>
              </a:tr>
              <a:tr h="1293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 этап. Конечный поры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ое повышение работ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6e0d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ая, отработка узловых моментов пройден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6e0db"/>
                    </a:solidFill>
                  </a:tcPr>
                </a:tc>
              </a:tr>
            </a:tbl>
          </a:graphicData>
        </a:graphic>
      </p:graphicFrame>
      <p:sp>
        <p:nvSpPr>
          <p:cNvPr id="336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5949-A694-4FC2-8A69-8D97F0839CD6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47EC-AC9C-4333-9F6B-2FAA05AE0D84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500040" y="1513440"/>
            <a:ext cx="8072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1.  Союз  как часть речи. Простые и составные сою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создание  условий  для актуализация знаний учащихся о союзе,  для  формирования  умений  различать простые союзы от сложных,   расставлять знаки препинания.  Ознакомление учащихся с советами по сохранению и укреплению здоровь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F7EC-D08C-4CBD-942F-2D71E481EA5A}" type="slidenum">
              <a:rPr b="0" lang="ru-RU" sz="1000" spc="-1" strike="noStrike">
                <a:solidFill>
                  <a:srgbClr val="90999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285920" y="57384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и о здоровье на уроках русского языка (цикл уроков по теме «Союз» в 7 клас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1143000" y="130644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Словарный дикт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, п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ка, 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астика, стр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, фитн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а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к 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а, пагубные  п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ки, п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ика заболеваний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ивны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ции, а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з,  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ью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, д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я, советы сп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листа, 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ональное питание, б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ница,  безопасное по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ните в своем диктанте слова и словосочетания, значения которых  направлены на  укрепление здоровь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99e"/>
                </a:solidFill>
                <a:latin typeface="Arial"/>
              </a:rPr>
              <a:t>Емельяно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6:48:06Z</dcterms:created>
  <dc:creator>Admin</dc:creator>
  <dc:description/>
  <dc:language>en-US</dc:language>
  <cp:lastModifiedBy>учитель</cp:lastModifiedBy>
  <dcterms:modified xsi:type="dcterms:W3CDTF">2012-01-31T08:31:13Z</dcterms:modified>
  <cp:revision>240</cp:revision>
  <dc:subject/>
  <dc:title>Здоровьесберегающие технологии на уроках русского языка</dc:title>
</cp:coreProperties>
</file>