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A5FE-820C-4B93-9DD5-670B6DE90C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1B3B-9CB8-46D0-9E20-436E357854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935C-BD93-44EF-9EE7-19D9F7F953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3826-4788-4891-8C7A-07EF7B58F5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54A5-E05E-4CA0-81BD-092ADC3481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8A5F-9EA0-4197-A833-83B44795C2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D761-491C-41B3-BE5E-C5DFD5D574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DEFC-9937-4D9F-B529-FA3A29E272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2C04-814F-4376-9788-20F61BFD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8F04-A439-44B0-98F8-D75322DF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382F8-0606-4B86-BCA2-4A8FBC46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9E562-BA22-49C8-9E97-B6334076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512C5-31F7-40AF-9479-D6E38101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685AE-A100-489B-9181-A4DAD2D8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E45FB-AE7D-455A-A91D-454F0B87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E32C0-CDDB-404D-AF99-C4CC905A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857AA-F93F-40DA-B069-F75E9009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4F56F-01BF-4024-B126-4FFEB739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8177A-FF45-4160-B6F1-788E6F79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69F73-D359-41AD-ACA3-281642EC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A47C-02D6-4AD0-A3E0-EB75582A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9914A-EA50-4336-B58E-C02E1AB6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F9AFD-7B3A-4B7F-B594-916EFCF8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0B29B-0FC6-4872-9FA1-BA454008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A8787-0C08-44B7-8AED-F54D6544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B9669-B487-40F3-BCF9-9D9F8D8B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6B637-0C68-49BE-8EE0-73EEB98E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F8263-BDC2-4CCB-BF5F-4F80101B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78F53-99BA-41BF-90B4-17472559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EE5F4-02D6-4B75-835E-71A53C21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D1C58-0FA8-40BB-950C-5C682957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1E9-996F-4739-A727-897AA1C0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9AE52-B129-4F5A-B6C0-13ABAAE4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7C6C-4A3A-4FF2-A2D5-765B7834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0EB1-BCA7-47C4-BC1B-7F9DD209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2601-2249-4196-881B-6353633A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6148-219F-4C1E-ABA0-5984B754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8355-40CF-4572-B1D1-D388CF00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C1CB-E859-45F3-8157-CD205475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7DE1-5F1C-44E7-9C19-7C94D5B9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3A5-25FB-49DE-A1CB-3548412B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184C-B371-4496-9059-277C457B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07BD-5596-49A1-A613-ACCD71B2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4086-CE1A-49E7-A5A7-DF0CB98C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8931-603A-4E57-9F70-95F02746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D2A8-975F-4C9E-A4A3-D3F5D375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96A3C-6396-4FE7-A8F3-EA845B3F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3EFDF-4AB3-443D-8950-6514C05C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49C6E-804E-4279-894D-F8226113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DFC57-52C1-47C4-A664-12B52274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22612-0F9F-4DC8-BC5C-4F17106F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342-DC67-4824-A47E-3B4A5319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8433D-92CB-448C-958F-758CAB18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4FB3B-59C2-4702-B66D-F8E1A546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787CD-F499-4EE9-A977-305543C7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5F656-C7C1-4A9F-AB9D-5AE0CD96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C4838-919D-4197-8DAE-B5E660FC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BB470-B127-47FF-AB11-1508327C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8B8EE-934A-4D11-A784-BFC10D0E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90E81-2F5E-453E-84F7-D448748B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3A48C-5402-444C-B7E8-60ED8D36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8896B-7042-456E-A231-886CA10E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5EA-4F3B-41F7-A4E2-5D63BA02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5F742-2507-43FE-9980-6E878790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E0830-BED5-48B2-AFE3-C24519C3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8D9DD-FA31-47CF-BC54-F48BD10F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0AFF0-D143-49D7-AADE-EBA3CE6D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A9EA0-EF21-42FB-BA33-3158F5A7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2ECB9-D40A-443F-8F36-8E07EBFA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DB1EF-318D-4341-BCA7-7658B03F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F1EA1-43E4-4796-86DB-6CE12227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88B1C-F5B3-478E-BA2F-9964A5B1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899D7-421D-4CD4-9F3B-D975DEE1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817-494B-4549-B4B4-3BC71FDB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98EB0-97EE-4AE8-9BEB-E55A6AED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D5779-2FF6-4F41-952E-90EA6290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E4B2A-5B68-4B59-8B25-E0A11009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78630-3AFB-4C40-8D16-9D567371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24139-8F4D-4B54-AD82-481976A0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C9041-1C7C-4795-828F-4A55472A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94374-5554-4096-9904-A8C910F5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4301F-40E5-4B92-9E32-C9C823F4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B5735-A595-40CB-BF64-FA55A7A6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03A6B-5996-4446-8BA0-979F0953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DA99-2D83-4740-B31B-93B75F27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6C905-1A61-4744-8628-13905C45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91278-2BCD-4E47-A5DA-AFBD0F45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A4573-BC20-44DB-8C1C-D07C251D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F5DE6-AA7D-49E7-B863-46FD8AF1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9D802-E2D9-40BE-BD6C-13B342EE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FBFAC-2D8F-452F-A6D6-F5D6AEDA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5D0F2-B536-4FE8-AF67-F61136E4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9298B-7138-4AF3-B020-369361F5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9A804-D3C5-4910-ABEF-B1BF0119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F11F4-AAE8-4E39-8D41-BE78F601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8C3-E922-406E-9126-76C847B0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BE3F3-697A-4A3C-87A4-B17FE8C5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6E4A0-1BE1-4DD7-818E-9D53B855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92CC4-42D3-4A6D-B588-A60BE3DE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00E67-3A6D-4AEE-8D57-EC2B6763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C2B57-E493-4215-B89A-D0969ED9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B52E7-96EE-425F-B9F1-93F84A38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E06CF-6E76-417E-9AF9-28175C4F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C797B-16D5-49DE-B0FD-C2598D89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2CF64-632A-4C95-9EC8-6FABD545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5B395-CAEF-4961-9BB9-01652BA4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D2D-D91D-468B-AD9F-73CBB114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2017A-0D7D-4094-A6A9-EB78137B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6205F-903C-4F34-961D-B00A22DD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EC459-AA78-4E4A-9CE4-716A5707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A3E0F-34C6-47F5-864B-973B556B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92312-6662-46E8-829F-C2B0102C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B492F-52B6-4A0E-BD5C-2843AC66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4D66E-91F8-477F-8B61-88277C2C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12263-1337-4F10-98EF-D26139E5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9DB92-99CA-4065-8B07-7988DB67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47E34-7C7C-4122-B451-0BDAC539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BA4-8BDF-477F-B4BC-62121DF4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CFE60-3F13-4ACE-BF21-AC6638FA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2EF3B-6B8A-4B94-B405-1E83D271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D11A9-5EB4-4C2C-B795-AC390D0C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06D87-2898-470F-9BED-669689A9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D69D9-D47C-4AF9-BD8E-F35D2526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D3FA9-5C34-414B-BF39-FD97E6D5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7DAD0-7C28-4080-BDEB-4A75E2A4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66D06-4ECE-42FC-BAC7-18FDCA35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E8737-959A-42E5-BEA8-F56129CE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8DBF7-F04D-4442-B3A4-C96FBDA4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1A26-2081-409F-8000-C3EE021A5A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41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B0B8-273B-4B81-A877-675BD6AA77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6719-E2E7-493B-B95F-04C0D65F04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9EC7-9440-4668-BBF4-9CF4960E6B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EF0D-80FA-46CF-9D3B-9B259A315A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78A6-D186-4F19-BBC5-1AD0A16B1D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C169-C825-47FF-BCE1-D2CFC4816DC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5CC9-86FB-4702-AC89-6ED250061F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729D-65FA-43E0-A7D4-6576273262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96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999B-6129-4776-9486-26E75E242A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Box 7"/>
          <p:cNvSpPr/>
          <p:nvPr/>
        </p:nvSpPr>
        <p:spPr>
          <a:xfrm>
            <a:off x="0" y="25891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АКСИОМА ПАРАЛЛЕЛЬНЫХ ПРЯМЫ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Дуга 3"/>
          <p:cNvSpPr/>
          <p:nvPr/>
        </p:nvSpPr>
        <p:spPr>
          <a:xfrm rot="8644200">
            <a:off x="1561680" y="2036880"/>
            <a:ext cx="322200" cy="295200"/>
          </a:xfrm>
          <a:custGeom>
            <a:avLst/>
            <a:gdLst>
              <a:gd name="textAreaLeft" fmla="*/ 161280 w 322200"/>
              <a:gd name="textAreaRight" fmla="*/ 302760 w 322200"/>
              <a:gd name="textAreaTop" fmla="*/ 0 h 295200"/>
              <a:gd name="textAreaBottom" fmla="*/ 77040 h 295200"/>
            </a:gdLst>
            <a:ahLst/>
            <a:rect l="textAreaLeft" t="textAreaTop" r="textAreaRight" b="textAreaBottom"/>
            <a:pathLst>
              <a:path stroke="0" w="322263" h="295275">
                <a:moveTo>
                  <a:pt x="161132" y="0"/>
                </a:moveTo>
                <a:lnTo>
                  <a:pt x="161132" y="0"/>
                </a:lnTo>
                <a:arcTo wR="161132" hR="147638" stAng="-5400000" swAng="3815836"/>
                <a:lnTo>
                  <a:pt x="161132" y="147638"/>
                </a:lnTo>
                <a:close/>
              </a:path>
              <a:path fill="none" w="322263" h="295275">
                <a:moveTo>
                  <a:pt x="161132" y="0"/>
                </a:moveTo>
                <a:lnTo>
                  <a:pt x="161132" y="0"/>
                </a:lnTo>
                <a:arcTo wR="161132" hR="147638" stAng="-5400000" swAng="3815836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Дуга 4"/>
          <p:cNvSpPr/>
          <p:nvPr/>
        </p:nvSpPr>
        <p:spPr>
          <a:xfrm rot="9097800">
            <a:off x="1463400" y="1945440"/>
            <a:ext cx="279360" cy="295560"/>
          </a:xfrm>
          <a:custGeom>
            <a:avLst/>
            <a:gdLst>
              <a:gd name="textAreaLeft" fmla="*/ 158400 w 279360"/>
              <a:gd name="textAreaRight" fmla="*/ 266400 w 279360"/>
              <a:gd name="textAreaTop" fmla="*/ 1080 h 295560"/>
              <a:gd name="textAreaBottom" fmla="*/ 84960 h 295560"/>
            </a:gdLst>
            <a:ahLst/>
            <a:rect l="textAreaLeft" t="textAreaTop" r="textAreaRight" b="textAreaBottom"/>
            <a:pathLst>
              <a:path stroke="0" w="279400" h="295275">
                <a:moveTo>
                  <a:pt x="158359" y="1323"/>
                </a:moveTo>
                <a:lnTo>
                  <a:pt x="158359" y="1323"/>
                </a:lnTo>
                <a:arcTo wR="139700" hR="147638" stAng="-4963951" swAng="3379795"/>
                <a:lnTo>
                  <a:pt x="139700" y="147638"/>
                </a:lnTo>
                <a:close/>
              </a:path>
              <a:path fill="none" w="279400" h="295275">
                <a:moveTo>
                  <a:pt x="158359" y="1323"/>
                </a:moveTo>
                <a:lnTo>
                  <a:pt x="158359" y="1323"/>
                </a:lnTo>
                <a:arcTo wR="139700" hR="147638" stAng="-4963951" swAng="3379795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ая соединительная линия 5"/>
          <p:cNvSpPr/>
          <p:nvPr/>
        </p:nvSpPr>
        <p:spPr>
          <a:xfrm>
            <a:off x="1652760" y="1919160"/>
            <a:ext cx="0" cy="1657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ая соединительная линия 6"/>
          <p:cNvSpPr/>
          <p:nvPr/>
        </p:nvSpPr>
        <p:spPr>
          <a:xfrm flipH="1">
            <a:off x="932040" y="1919160"/>
            <a:ext cx="720720" cy="16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ая соединительная линия 7"/>
          <p:cNvSpPr/>
          <p:nvPr/>
        </p:nvSpPr>
        <p:spPr>
          <a:xfrm>
            <a:off x="932040" y="3576600"/>
            <a:ext cx="144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ая соединительная линия 8"/>
          <p:cNvSpPr/>
          <p:nvPr/>
        </p:nvSpPr>
        <p:spPr>
          <a:xfrm flipH="1" flipV="1">
            <a:off x="1652760" y="1919160"/>
            <a:ext cx="720720" cy="16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ая соединительная линия 9"/>
          <p:cNvSpPr/>
          <p:nvPr/>
        </p:nvSpPr>
        <p:spPr>
          <a:xfrm flipH="1" flipV="1">
            <a:off x="1292400" y="2545920"/>
            <a:ext cx="72720" cy="142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ая соединительная линия 10"/>
          <p:cNvSpPr/>
          <p:nvPr/>
        </p:nvSpPr>
        <p:spPr>
          <a:xfrm flipV="1">
            <a:off x="1940760" y="2545920"/>
            <a:ext cx="71640" cy="142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11"/>
          <p:cNvSpPr/>
          <p:nvPr/>
        </p:nvSpPr>
        <p:spPr>
          <a:xfrm>
            <a:off x="0" y="44280"/>
            <a:ext cx="91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ТЕОР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0" y="404640"/>
            <a:ext cx="91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Bookman Old Style"/>
              </a:rPr>
              <a:t>В РАВНОБЕДРЕННОМ ТРЕУГОЛЬНИКЕ БИССЕКТРИСА, ПРОВЕДЕННАЯ К ОСНОВАНИЮ, ЯВЛЯЕТСЯ МЕДИАНОЙ И ВЫС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1469880" y="1538280"/>
            <a:ext cx="32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4"/>
          <p:cNvSpPr/>
          <p:nvPr/>
        </p:nvSpPr>
        <p:spPr>
          <a:xfrm>
            <a:off x="573120" y="3338640"/>
            <a:ext cx="32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5"/>
          <p:cNvSpPr/>
          <p:nvPr/>
        </p:nvSpPr>
        <p:spPr>
          <a:xfrm>
            <a:off x="2373480" y="3338640"/>
            <a:ext cx="32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7"/>
          <p:cNvSpPr/>
          <p:nvPr/>
        </p:nvSpPr>
        <p:spPr>
          <a:xfrm>
            <a:off x="1411200" y="2182680"/>
            <a:ext cx="32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8"/>
          <p:cNvSpPr/>
          <p:nvPr/>
        </p:nvSpPr>
        <p:spPr>
          <a:xfrm>
            <a:off x="1614600" y="2279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20"/>
          <p:cNvSpPr/>
          <p:nvPr/>
        </p:nvSpPr>
        <p:spPr>
          <a:xfrm>
            <a:off x="1476360" y="3576600"/>
            <a:ext cx="32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22"/>
          <p:cNvSpPr/>
          <p:nvPr/>
        </p:nvSpPr>
        <p:spPr>
          <a:xfrm>
            <a:off x="3997440" y="2205000"/>
            <a:ext cx="514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– медиана треуголь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23"/>
          <p:cNvSpPr/>
          <p:nvPr/>
        </p:nvSpPr>
        <p:spPr>
          <a:xfrm>
            <a:off x="1403280" y="3287880"/>
            <a:ext cx="32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24"/>
          <p:cNvSpPr/>
          <p:nvPr/>
        </p:nvSpPr>
        <p:spPr>
          <a:xfrm>
            <a:off x="1619280" y="32878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25"/>
          <p:cNvSpPr/>
          <p:nvPr/>
        </p:nvSpPr>
        <p:spPr>
          <a:xfrm>
            <a:off x="3995640" y="2708280"/>
            <a:ext cx="51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– высота треуголь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26"/>
          <p:cNvSpPr/>
          <p:nvPr/>
        </p:nvSpPr>
        <p:spPr>
          <a:xfrm>
            <a:off x="0" y="4154400"/>
            <a:ext cx="914256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Bookman Old Style"/>
              </a:rPr>
              <a:t>ВЫСОТА РАВНОБЕДРЕННОГО ТРЕУГОЛЬНИКА, ПРОВЕДЕННАЯ К ОСНОВАНИЮ, ЯВЛЯЕТСЯ МЕДИАНОЙ И БИССЕКТРИС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Bookman Old Style"/>
              </a:rPr>
              <a:t>МЕДИАНА РАВНОБЕДРЕННОГО ТРЕУГОЛЬНИКА, ПРОВЕДЕННАЯ К ОСНОВАНИЮ, ЯВЛЯЕТСЯ ВЫСОТОЙ И БИССЕКТРИС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36"/>
          <p:cNvSpPr/>
          <p:nvPr/>
        </p:nvSpPr>
        <p:spPr>
          <a:xfrm>
            <a:off x="0" y="6308640"/>
            <a:ext cx="903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3"/>
          <p:cNvSpPr/>
          <p:nvPr/>
        </p:nvSpPr>
        <p:spPr>
          <a:xfrm>
            <a:off x="0" y="264960"/>
            <a:ext cx="914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СЛЕДСТВИЯ ИЗ АКСИОМЫ ПАРАЛЛЕЛЬНЫХ ПРЯМ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ookman Old Style"/>
              </a:rPr>
              <a:t>1. ЕСЛИ ПРЯМАЯ ПЕРЕСЕКАЕТ ОДНУ ИЗ ДВУХ ПАРАЛЛЕЛЬНЫХ ПРЯМЫХ, ТО ОНА ПЕРЕСЕКАЕТ И ДРУГ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Прямая соединительная линия 7"/>
          <p:cNvSpPr/>
          <p:nvPr/>
        </p:nvSpPr>
        <p:spPr>
          <a:xfrm>
            <a:off x="2627280" y="5084640"/>
            <a:ext cx="367344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8"/>
          <p:cNvSpPr/>
          <p:nvPr/>
        </p:nvSpPr>
        <p:spPr>
          <a:xfrm>
            <a:off x="6043680" y="4653000"/>
            <a:ext cx="32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9"/>
          <p:cNvSpPr/>
          <p:nvPr/>
        </p:nvSpPr>
        <p:spPr>
          <a:xfrm>
            <a:off x="4389480" y="3213000"/>
            <a:ext cx="32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Блок-схема: узел 10"/>
          <p:cNvSpPr/>
          <p:nvPr/>
        </p:nvSpPr>
        <p:spPr>
          <a:xfrm rot="4651200">
            <a:off x="4728960" y="3582720"/>
            <a:ext cx="119160" cy="122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ая соединительная линия 12"/>
          <p:cNvSpPr/>
          <p:nvPr/>
        </p:nvSpPr>
        <p:spPr>
          <a:xfrm>
            <a:off x="2627280" y="3645000"/>
            <a:ext cx="367344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3"/>
          <p:cNvSpPr/>
          <p:nvPr/>
        </p:nvSpPr>
        <p:spPr>
          <a:xfrm>
            <a:off x="6116760" y="3213000"/>
            <a:ext cx="32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ая соединительная линия 14"/>
          <p:cNvSpPr/>
          <p:nvPr/>
        </p:nvSpPr>
        <p:spPr>
          <a:xfrm flipV="1">
            <a:off x="3635280" y="2708280"/>
            <a:ext cx="2232000" cy="1944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5"/>
          <p:cNvSpPr/>
          <p:nvPr/>
        </p:nvSpPr>
        <p:spPr>
          <a:xfrm>
            <a:off x="5540400" y="2349360"/>
            <a:ext cx="54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ая соединительная линия 23"/>
          <p:cNvSpPr/>
          <p:nvPr/>
        </p:nvSpPr>
        <p:spPr>
          <a:xfrm flipV="1">
            <a:off x="2484360" y="4653000"/>
            <a:ext cx="1150920" cy="1008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3"/>
          <p:cNvSpPr/>
          <p:nvPr/>
        </p:nvSpPr>
        <p:spPr>
          <a:xfrm>
            <a:off x="0" y="264960"/>
            <a:ext cx="914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СЛЕДСТВИЯ ИЗ АКСИОМЫ ПАРАЛЛЕЛЬНЫХ ПРЯМ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ookman Old Style"/>
              </a:rPr>
              <a:t>2</a:t>
            </a:r>
            <a:r>
              <a:rPr b="0" lang="ru-RU" sz="2400" spc="-1" strike="noStrike">
                <a:solidFill>
                  <a:srgbClr val="008000"/>
                </a:solidFill>
                <a:latin typeface="Bookman Old Style"/>
              </a:rPr>
              <a:t>. ЕСЛИ ДВЕ ПРЯМЫЕ ПАРАЛЛЕЛЬНЫ ТРЕТЬЕЙ ПРЯМОЙ, ТО ОНИ ПАРАЛЛЕ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ая соединительная линия 7"/>
          <p:cNvSpPr/>
          <p:nvPr/>
        </p:nvSpPr>
        <p:spPr>
          <a:xfrm>
            <a:off x="2771640" y="3645000"/>
            <a:ext cx="3672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8"/>
          <p:cNvSpPr/>
          <p:nvPr/>
        </p:nvSpPr>
        <p:spPr>
          <a:xfrm>
            <a:off x="6188040" y="3213000"/>
            <a:ext cx="32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ая соединительная линия 12"/>
          <p:cNvSpPr/>
          <p:nvPr/>
        </p:nvSpPr>
        <p:spPr>
          <a:xfrm>
            <a:off x="2771640" y="3068640"/>
            <a:ext cx="3672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3"/>
          <p:cNvSpPr/>
          <p:nvPr/>
        </p:nvSpPr>
        <p:spPr>
          <a:xfrm>
            <a:off x="6259680" y="2637000"/>
            <a:ext cx="32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ая соединительная линия 16"/>
          <p:cNvSpPr/>
          <p:nvPr/>
        </p:nvSpPr>
        <p:spPr>
          <a:xfrm>
            <a:off x="2771640" y="4653000"/>
            <a:ext cx="3672000" cy="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7"/>
          <p:cNvSpPr/>
          <p:nvPr/>
        </p:nvSpPr>
        <p:spPr>
          <a:xfrm>
            <a:off x="6188040" y="4221000"/>
            <a:ext cx="32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36"/>
          <p:cNvSpPr/>
          <p:nvPr/>
        </p:nvSpPr>
        <p:spPr>
          <a:xfrm>
            <a:off x="0" y="6308640"/>
            <a:ext cx="903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258920" y="1719360"/>
            <a:ext cx="6985080" cy="37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просмотр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979640" y="1827360"/>
            <a:ext cx="5761080" cy="31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оздат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Рисунок 1" descr="портрет Евклид.jpg"/>
          <p:cNvPicPr/>
          <p:nvPr/>
        </p:nvPicPr>
        <p:blipFill>
          <a:blip r:embed="rId1"/>
          <a:stretch/>
        </p:blipFill>
        <p:spPr>
          <a:xfrm>
            <a:off x="549360" y="433440"/>
            <a:ext cx="3760560" cy="587052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2" descr="портретЛобачевский.jpg"/>
          <p:cNvPicPr/>
          <p:nvPr/>
        </p:nvPicPr>
        <p:blipFill>
          <a:blip r:embed="rId2"/>
          <a:stretch/>
        </p:blipFill>
        <p:spPr>
          <a:xfrm>
            <a:off x="4486320" y="433440"/>
            <a:ext cx="4322880" cy="58752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866880" y="-46080"/>
            <a:ext cx="585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5 Постулат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7400880" y="4869000"/>
            <a:ext cx="1743120" cy="19890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219640" y="2205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44360" y="879480"/>
            <a:ext cx="4572000" cy="3382920"/>
          </a:xfrm>
          <a:prstGeom prst="cloudCallout">
            <a:avLst>
              <a:gd name="adj1" fmla="val -25865"/>
              <a:gd name="adj2" fmla="val 6225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90400" y="1353960"/>
            <a:ext cx="3791160" cy="29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От всякой точки до всякой точки можно провести пряму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Ограниченную прямую можно непрерывно продолжать по прям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Из всякого центра всяким раствором может быть описан кру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Все прямые углы равны между соб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289800">
            <a:off x="4716360" y="1052640"/>
            <a:ext cx="4427640" cy="3384360"/>
          </a:xfrm>
          <a:prstGeom prst="cloudCallout">
            <a:avLst>
              <a:gd name="adj1" fmla="val 18245"/>
              <a:gd name="adj2" fmla="val 71648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148360" y="1844640"/>
            <a:ext cx="42847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ерез две точки можно провести одну и только одну пряму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ямая продолжается бесконеч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 любого центра можно провести окружность любым радиус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е прямые углы равны между соб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2952720" y="4437000"/>
            <a:ext cx="2857680" cy="2000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05" name=""/>
          <p:cNvSpPr/>
          <p:nvPr/>
        </p:nvSpPr>
        <p:spPr>
          <a:xfrm rot="10800000">
            <a:off x="5907240" y="4602240"/>
            <a:ext cx="814320" cy="823680"/>
          </a:xfrm>
          <a:custGeom>
            <a:avLst/>
            <a:gdLst>
              <a:gd name="textAreaLeft" fmla="*/ 0 w 814320"/>
              <a:gd name="textAreaRight" fmla="*/ 814680 w 814320"/>
              <a:gd name="textAreaTop" fmla="*/ 0 h 823680"/>
              <a:gd name="textAreaBottom" fmla="*/ 824040 h 82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 rot="10800000">
            <a:off x="2054880" y="4438800"/>
            <a:ext cx="803160" cy="823680"/>
          </a:xfrm>
          <a:custGeom>
            <a:avLst/>
            <a:gdLst>
              <a:gd name="textAreaLeft" fmla="*/ -360 w 803160"/>
              <a:gd name="textAreaRight" fmla="*/ 803160 w 803160"/>
              <a:gd name="textAreaTop" fmla="*/ 0 h 823680"/>
              <a:gd name="textAreaBottom" fmla="*/ 824040 h 82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-138240" y="4422600"/>
            <a:ext cx="1795320" cy="2522520"/>
            <a:chOff x="-138240" y="4422600"/>
            <a:chExt cx="1795320" cy="2522520"/>
          </a:xfrm>
        </p:grpSpPr>
        <p:sp>
          <p:nvSpPr>
            <p:cNvPr id="508" name=""/>
            <p:cNvSpPr/>
            <p:nvPr/>
          </p:nvSpPr>
          <p:spPr>
            <a:xfrm>
              <a:off x="239400" y="5446440"/>
              <a:ext cx="1417680" cy="149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-138240" y="4422600"/>
              <a:ext cx="1697040" cy="2460600"/>
              <a:chOff x="-138240" y="4422600"/>
              <a:chExt cx="1697040" cy="2460600"/>
            </a:xfrm>
          </p:grpSpPr>
          <p:sp>
            <p:nvSpPr>
              <p:cNvPr id="510" name=""/>
              <p:cNvSpPr/>
              <p:nvPr/>
            </p:nvSpPr>
            <p:spPr>
              <a:xfrm>
                <a:off x="110880" y="4505040"/>
                <a:ext cx="1111320" cy="1835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38240" y="4422600"/>
                <a:ext cx="1697040" cy="2460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12" name=""/>
          <p:cNvSpPr/>
          <p:nvPr/>
        </p:nvSpPr>
        <p:spPr>
          <a:xfrm>
            <a:off x="8396280" y="649116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450720" y="20019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.И.Лобачевский пытался рассуждать о доказательстве 5 постулата по методу от противного. Допустив, что пятый постулат Евклида не верен, а остальные аксиомы справедливы, мы рано или поздно придем к противоречию. Тем самым он и будет доказ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446200" y="3654360"/>
            <a:ext cx="561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оведем доказатель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устим, что пятый постулат не верен: через точку А, не принадлежащую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можно провести более чем одну прямую, которая не пересекается с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0280" y="236520"/>
            <a:ext cx="62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казательство 5 постул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800280" y="3768840"/>
            <a:ext cx="1752480" cy="125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8396280" y="649116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960"/>
                            </p:stCondLst>
                            <p:childTnLst>
                              <p:par>
                                <p:cTn id="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ая соединительная линия 2"/>
          <p:cNvSpPr/>
          <p:nvPr/>
        </p:nvSpPr>
        <p:spPr>
          <a:xfrm>
            <a:off x="357120" y="4714920"/>
            <a:ext cx="7929720" cy="71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Овал 3"/>
          <p:cNvSpPr/>
          <p:nvPr/>
        </p:nvSpPr>
        <p:spPr>
          <a:xfrm>
            <a:off x="3643200" y="2214720"/>
            <a:ext cx="71640" cy="45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4"/>
          <p:cNvSpPr/>
          <p:nvPr/>
        </p:nvSpPr>
        <p:spPr>
          <a:xfrm>
            <a:off x="7929720" y="42148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5"/>
          <p:cNvSpPr/>
          <p:nvPr/>
        </p:nvSpPr>
        <p:spPr>
          <a:xfrm>
            <a:off x="3714840" y="17859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ая соединительная линия 7"/>
          <p:cNvSpPr/>
          <p:nvPr/>
        </p:nvSpPr>
        <p:spPr>
          <a:xfrm flipH="1">
            <a:off x="3642840" y="714240"/>
            <a:ext cx="1800" cy="5643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8"/>
          <p:cNvSpPr/>
          <p:nvPr/>
        </p:nvSpPr>
        <p:spPr>
          <a:xfrm>
            <a:off x="3286080" y="5716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4" name="Соединительная линия уступом 10"/>
          <p:cNvCxnSpPr/>
          <p:nvPr/>
        </p:nvCxnSpPr>
        <p:spPr>
          <a:xfrm flipH="1" rot="16200000">
            <a:off x="3642480" y="4357440"/>
            <a:ext cx="357840" cy="358200"/>
          </a:xfrm>
          <a:prstGeom prst="bentConnector3">
            <a:avLst>
              <a:gd name="adj1" fmla="val 49949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525" name="Прямая соединительная линия 12"/>
          <p:cNvSpPr/>
          <p:nvPr/>
        </p:nvSpPr>
        <p:spPr>
          <a:xfrm>
            <a:off x="214200" y="2214720"/>
            <a:ext cx="7858080" cy="71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8001000" y="17146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Соединительная линия уступом 15"/>
          <p:cNvCxnSpPr/>
          <p:nvPr/>
        </p:nvCxnSpPr>
        <p:spPr>
          <a:xfrm flipV="1" rot="10800000">
            <a:off x="3214080" y="1999800"/>
            <a:ext cx="429120" cy="215280"/>
          </a:xfrm>
          <a:prstGeom prst="bentConnector3">
            <a:avLst>
              <a:gd name="adj1" fmla="val 98404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528" name="TextBox 18"/>
          <p:cNvSpPr/>
          <p:nvPr/>
        </p:nvSpPr>
        <p:spPr>
          <a:xfrm>
            <a:off x="3786120" y="557208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  c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   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и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ıı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2"/>
              <p:cNvSpPr txBox="1"/>
              <p:nvPr/>
            </p:nvSpPr>
            <p:spPr>
              <a:xfrm>
                <a:off x="4143240" y="5643720"/>
                <a:ext cx="3556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3"/>
              <p:cNvSpPr txBox="1"/>
              <p:nvPr/>
            </p:nvSpPr>
            <p:spPr>
              <a:xfrm>
                <a:off x="5214960" y="5643720"/>
                <a:ext cx="3556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med" advTm="15000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Прямоугольник 11"/>
          <p:cNvSpPr/>
          <p:nvPr/>
        </p:nvSpPr>
        <p:spPr>
          <a:xfrm>
            <a:off x="6588000" y="3933720"/>
            <a:ext cx="228600" cy="216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15"/>
          <p:cNvSpPr/>
          <p:nvPr/>
        </p:nvSpPr>
        <p:spPr>
          <a:xfrm>
            <a:off x="6588000" y="2708280"/>
            <a:ext cx="228600" cy="216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ая соединительная линия 7"/>
          <p:cNvSpPr/>
          <p:nvPr/>
        </p:nvSpPr>
        <p:spPr>
          <a:xfrm flipV="1">
            <a:off x="6588000" y="1413000"/>
            <a:ext cx="0" cy="424800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ая соединительная линия 3"/>
          <p:cNvSpPr/>
          <p:nvPr/>
        </p:nvSpPr>
        <p:spPr>
          <a:xfrm>
            <a:off x="5003640" y="4149720"/>
            <a:ext cx="3672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4"/>
          <p:cNvSpPr/>
          <p:nvPr/>
        </p:nvSpPr>
        <p:spPr>
          <a:xfrm>
            <a:off x="8420040" y="3718080"/>
            <a:ext cx="32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5"/>
          <p:cNvSpPr/>
          <p:nvPr/>
        </p:nvSpPr>
        <p:spPr>
          <a:xfrm>
            <a:off x="6188040" y="2276640"/>
            <a:ext cx="32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Блок-схема: узел 6"/>
          <p:cNvSpPr/>
          <p:nvPr/>
        </p:nvSpPr>
        <p:spPr>
          <a:xfrm rot="4651200">
            <a:off x="6527520" y="2647800"/>
            <a:ext cx="119160" cy="1224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2"/>
          <p:cNvSpPr/>
          <p:nvPr/>
        </p:nvSpPr>
        <p:spPr>
          <a:xfrm>
            <a:off x="6588000" y="5229360"/>
            <a:ext cx="32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ая соединительная линия 13"/>
          <p:cNvSpPr/>
          <p:nvPr/>
        </p:nvSpPr>
        <p:spPr>
          <a:xfrm>
            <a:off x="5003640" y="2708280"/>
            <a:ext cx="3672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4"/>
          <p:cNvSpPr/>
          <p:nvPr/>
        </p:nvSpPr>
        <p:spPr>
          <a:xfrm>
            <a:off x="8493120" y="2276640"/>
            <a:ext cx="32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ая соединительная линия 16"/>
          <p:cNvSpPr/>
          <p:nvPr/>
        </p:nvSpPr>
        <p:spPr>
          <a:xfrm flipV="1">
            <a:off x="5292720" y="2204640"/>
            <a:ext cx="3382920" cy="792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19"/>
          <p:cNvSpPr/>
          <p:nvPr/>
        </p:nvSpPr>
        <p:spPr>
          <a:xfrm>
            <a:off x="8493120" y="1773360"/>
            <a:ext cx="5428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ая соединительная линия 20"/>
          <p:cNvSpPr/>
          <p:nvPr/>
        </p:nvSpPr>
        <p:spPr>
          <a:xfrm>
            <a:off x="108000" y="4149720"/>
            <a:ext cx="504036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ая соединительная линия 22"/>
          <p:cNvSpPr/>
          <p:nvPr/>
        </p:nvSpPr>
        <p:spPr>
          <a:xfrm flipV="1">
            <a:off x="108000" y="2997000"/>
            <a:ext cx="5184720" cy="1223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16"/>
          <p:cNvSpPr/>
          <p:nvPr/>
        </p:nvSpPr>
        <p:spPr>
          <a:xfrm>
            <a:off x="0" y="2060640"/>
            <a:ext cx="914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АКСИОМА ПАРАЛЛЕЛЬНЫХ ПРЯМ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ookman Old Style"/>
              </a:rPr>
              <a:t>ЧЕРЕЗ ТОЧКУ, НЕ ЛЕЖАЩУЮ НА ДАННОЙ ПРЯМОЙ, ПРОХОДИТ ТОЛЬКО ОДНА ПРЯМАЯ, ПАРАЛЛЕЛЬНАЯ ДА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16"/>
          <p:cNvSpPr/>
          <p:nvPr/>
        </p:nvSpPr>
        <p:spPr>
          <a:xfrm>
            <a:off x="0" y="2732040"/>
            <a:ext cx="914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ookman Old Style"/>
              </a:rPr>
              <a:t>УТВЕРЖДЕНИЯ, КОТОРЫЕ ВЫВОДЯТСЯ НЕПОСРЕДСТВЕННО ИЗ АКСИОМ ИЛИ ТЕОРЕМ НАЗЫВАЮТСЯ </a:t>
            </a:r>
            <a:r>
              <a:rPr b="0" i="1" lang="en-US" sz="2400" spc="-1" strike="noStrike">
                <a:solidFill>
                  <a:srgbClr val="ff0000"/>
                </a:solidFill>
                <a:latin typeface="Bookman Old Style"/>
              </a:rPr>
              <a:t>СЛЕДСТВ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0T13:16:30Z</dcterms:created>
  <dc:creator>Intel</dc:creator>
  <dc:description/>
  <dc:language>en-US</dc:language>
  <cp:lastModifiedBy>Катерина</cp:lastModifiedBy>
  <dcterms:modified xsi:type="dcterms:W3CDTF">2012-01-29T17:14:11Z</dcterms:modified>
  <cp:revision>156</cp:revision>
  <dc:subject/>
  <dc:title>Слайд 1</dc:title>
</cp:coreProperties>
</file>