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C7F-9752-404F-9801-F8F927EB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94A-2786-4D76-8CB8-CD846680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67B-CC5D-4EC6-A238-19B041A1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008-BCA8-4D3F-AF7A-AEBA8F0F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E2B-01C1-414D-A796-E6CDA5AA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E39-65DA-48EC-BEFA-4680ECB6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D64-B3AD-4FA6-9190-685499D3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7D4-622B-4D35-88F5-08FAA958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4AE-37F5-4D11-8DDD-261E9C2A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969-AE56-4B1A-8CF8-80F47B4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266-9F1E-4789-B037-2F9251A4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549-3C9E-4F81-AD21-B43C93D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C1C-36FB-41DE-B00A-CAB597B3B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Times New Roman"/>
              </a:rPr>
              <a:t>Аппликация</a:t>
            </a:r>
            <a:br>
              <a:rPr sz="8800"/>
            </a:br>
            <a:r>
              <a:rPr b="1" lang="en-US" sz="8800" spc="-1" strike="noStrike">
                <a:solidFill>
                  <a:srgbClr val="0033cc"/>
                </a:solidFill>
                <a:latin typeface="Times New Roman"/>
              </a:rPr>
              <a:t> из  круго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5029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943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55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172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2T07:45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