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0B9-5142-4834-8527-1F6D0071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535-9C28-4A64-9ED2-B755E48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ACD-1C6A-4787-8FC9-95CA6B30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78F-BFCB-4AC9-AAF9-DC8AEB81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FCF5-3C30-4064-B46D-24BEC604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9DD-2B79-4A53-83F8-A4B2B9A1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0DA-594A-4567-BB73-7B4F8FBF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5CA-040C-4168-88EA-305CD74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3559-D4C4-4A39-B223-82D2B35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8C02-0D0E-4C25-9D52-2C8272C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9BB9-9560-44E8-9EDC-F617864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14B-F881-4BF4-9A72-6C37E3B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3F6A-CBDB-4E81-8A7B-81439FB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6F8E-D3FB-4EDC-A116-34167D9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33A2-AA1A-4154-A899-669AC6D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DD2-35B0-4E50-BBE9-6BFD1894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FD5-D71F-46C7-84C4-1DEEEE6E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CD3-86E7-43B5-BCCB-495A68D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E6D-F589-4800-9FD9-DCC800B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678-F657-4D92-AE3A-024763E0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17A-0B94-432F-A523-E801221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76E-0C0B-458B-8E30-D07A8E0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4F6-CA3B-4DB5-8905-E518DDF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388-AC59-4BFF-B966-9277817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C8C-C637-4C63-A27D-5257D3D48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628-6C1B-4A3D-8547-C21CC0E5D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3;&#1072;&#1089;&#1077;&#1082;&#1086;&#1084;&#1099;&#1077;" TargetMode="External"/><Relationship Id="rId4" Type="http://schemas.openxmlformats.org/officeDocument/2006/relationships/hyperlink" Target="http://ru.wikipedia.org/wiki/&#1056;&#1099;&#1073;&#1099;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267920"/>
            <a:ext cx="78469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огдинско-Баскунчакский заповедни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360" y="4365360"/>
            <a:ext cx="5391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зентация составлена  учителем географ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ибо Т.А. МОУ «СОШ №2 г. Нариманов» Астраханской об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динокая высокая гора, меняющая окраску, издающая звуки..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3754440" cy="381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34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64000" y="4437000"/>
            <a:ext cx="331164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никальный мир заповед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24 видов растений Астраханской области, занесены в Красную книгу, 9 произрастают на горе Большое Бог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79640" y="3798720"/>
            <a:ext cx="44640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фауне заповедника насчитыв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аповеднике 47 видов млекопитающ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тиц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– 215 вид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насекомы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– 1027 вид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рыб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- 1 вида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земноводные - 2 ви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пресмыкающиеся- 12 вид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 пауки – 28 вид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тения горы Большое Богд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юльпан Шр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силек Тали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ынь солянковид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имьян клоп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82744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635280" y="4292640"/>
            <a:ext cx="208908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43640" y="4221000"/>
            <a:ext cx="2179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44000" y="-4762440"/>
            <a:ext cx="4428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рис кожис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кость пунц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выль перис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молевка Гельман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лодка Коржин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087640" cy="273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1932120" cy="244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187344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88000" y="4005360"/>
            <a:ext cx="180000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093080" y="4005360"/>
            <a:ext cx="19447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тицы заповед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565360"/>
            <a:ext cx="2674800" cy="139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2133720"/>
            <a:ext cx="245916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улоч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до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епной орел              Ско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2093760" cy="1623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940360" y="458136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тицы заповед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равль Крас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вся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шастая 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859280" y="4114440"/>
            <a:ext cx="3827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еп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03280" y="4581360"/>
            <a:ext cx="1828800" cy="2073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300720" y="1989000"/>
            <a:ext cx="2232000" cy="166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84720" y="4365720"/>
            <a:ext cx="25196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лекопитающие заповед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ой тушканч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йг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вя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пная к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243828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940360" y="1916280"/>
            <a:ext cx="2808360" cy="2112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148360" y="4653000"/>
            <a:ext cx="33843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секомые и рептилии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371680" cy="15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11280" y="1915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скливого гекконч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зорщик-импера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00720" y="256500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хучий красо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92720" y="3284640"/>
            <a:ext cx="2573280" cy="1612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м необходимо уделять наибольшее внимание редким и исчезающим видов на территории заповед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больший интерес представляет гора Большое Богдо, карстовые воронки, которые расположены на карстовых по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600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Цель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 с государственным природным заповедником на территории Астраханск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растения и животные занесены в Красную книгу в заповедн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С целью сохранения уникального природного комплекса Богдинско-Баскунчакский участок от 25.11.93 года №197 постановлением Главы Администрации области был организован Богдинско-Баскунчакский государственный природный заказ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»Природный комплекс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гдинско-Баскунчакского природного заповедника и его охрана.» Астрахань 1998 г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Газета «Волга» 21 мая 2010 года «Путешествие по земле астраханск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«Экологический каркас Астраханской области» Астрахань 2005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2971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нтактная информац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«СОШ №2 г. Нариманов» улица Волжская 6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лефон школы :  61-1-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йт школы: http://30nar-s2.edusite.ru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основных достопримечательностей Ахтубинского района является  крупнейшее в России соленое озеро Баскунчак и самый высокий в Прикаспийской низменности элемент рельефа - гора Большое Бог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4646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следователи заповед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2746440" cy="2881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рстовое происхождение озера Баскунчак в 1895 году  И.В.Мушке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вые геологические исслед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ыли в 1773 году П.С.Паллас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2367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зеро Баскунча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сновные с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озера 110 к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неправильную форму ромба, протяженность 18 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 источников несут свои соленые воды в озеро Баскунча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84720" y="4757760"/>
            <a:ext cx="2448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18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зеро Баскунчак - уникальное творение природы и крупнейшее месторождение соли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40524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292720" y="2349360"/>
            <a:ext cx="318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оль озера Баскунча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25116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ра Большое Богд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Общие с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Самая высокая точка Астраханской области. Ёе высота 152 м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сота горы увеличивается с каждым годом примерно на 1 мм из-за выпирающего соляного куп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«Поющей" горой - даже при умеренном движении воздуха слышен неясный гул, напоминающий бормота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ольшое Богд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16360" y="1981080"/>
            <a:ext cx="3970440" cy="397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96396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9:50:24Z</dcterms:created>
  <dc:creator>Admin</dc:creator>
  <dc:description/>
  <dc:language>en-US</dc:language>
  <cp:lastModifiedBy>Admin</cp:lastModifiedBy>
  <dcterms:modified xsi:type="dcterms:W3CDTF">2010-12-18T07:26:18Z</dcterms:modified>
  <cp:revision>15</cp:revision>
  <dc:subject/>
  <dc:title>Слайд 1</dc:title>
</cp:coreProperties>
</file>