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149-4F31-4F8E-895C-0FCD828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E92-8F02-4AAF-9B08-1BBFE3E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594-5B1B-4B76-9913-DF8D7AF6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729-FC13-45C8-BA8E-C64578C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AD1-8B10-40F4-8FC3-7C5FD679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CA4-B5A8-4731-9E68-4DAC2BA1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90AB-8F94-4AD8-9329-9FB25EB7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003-F6FB-47EF-94FC-8D2C79F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B90-796C-4840-8B85-9E12A30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6C77-81C3-46D7-BE3F-6889E86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4A4-3FA3-484D-9087-5952208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528-FCD0-487A-A7DA-D830197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F94-6924-454B-8270-FBFE9E3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552-CF01-4A33-9A87-8BC6E86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DB1-83AD-407E-A3D6-D7B0A288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D699-4D46-4871-BC8F-5CE8E612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AF45-35D1-433B-A1D1-4E67C567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CE9-137C-4E6B-BCD5-6B3FBA6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F28-C3D1-4384-BA72-4502C0E6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1F0-84B0-464B-A5B6-69168F47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B81-57ED-4AA8-A84D-01766DE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80B-7953-479E-9228-190CAFF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40C-50E5-4480-8F17-B4D5232C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BFE-2356-44B9-A188-274D022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7C7-3905-47CF-9BDE-973491C989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EE4-51E5-45D3-A67A-E3F92865CD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sanka.ru/" TargetMode="External"/><Relationship Id="rId2" Type="http://schemas.openxmlformats.org/officeDocument/2006/relationships/hyperlink" Target="http://www.proshkolu.ru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997360"/>
            <a:ext cx="5975280" cy="1396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ury Schoolbook"/>
              </a:rPr>
              <a:t>ЕЁ ВЕЛИЧЕСТВО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ury Schoolbook"/>
              </a:rPr>
              <a:t>ОСАНКА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ury Schoolbook"/>
              </a:rPr>
              <a:t>И ПОРТФЕЛЬ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508720" y="4652640"/>
            <a:ext cx="345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нопкин Кирилл Евгеньевич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ченик 3-б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ириллова Юлия Николаев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0"/>
            <a:ext cx="59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ниципальное бюджетное 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5877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Задон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342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17720" y="24210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9280" y="18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Неправильные привычные положения тела быстро приводят к искривлению позвоночника, грудной клетки, таза, нижних конечностей, включая сто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Основная задача осанки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– предохранение опорно-двигательной системы от перегрузки и травмы.</a:t>
            </a: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916280"/>
            <a:ext cx="73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   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Century Schoolbook"/>
              </a:rPr>
              <a:t>Малейшее отклонение в развитии осанки могут привести к тяжелым деформациям позвоночника и конечностей</a:t>
            </a: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0920" y="3213000"/>
            <a:ext cx="2521080" cy="288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009960" cy="352728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8000" y="189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entury Schoolbook"/>
              </a:rPr>
              <a:t>Чтобы сохранить здоровье позвоночника</a:t>
            </a:r>
            <a:r>
              <a:rPr b="0" lang="en-US" sz="2400" spc="-1" strike="noStrike">
                <a:solidFill>
                  <a:srgbClr val="003300"/>
                </a:solidFill>
                <a:latin typeface="Century Schoolbook"/>
              </a:rPr>
              <a:t>, нам помогут  в этом и физкультура, и правильная мебель в классе, и, конечно  же, портфель, подобранный с учетом всех санитарных прав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680000" cy="4581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959280" cy="458136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Unicode MS"/>
              </a:rPr>
              <a:t>Из истории портф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4135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851280" y="2421000"/>
            <a:ext cx="4753080" cy="3385800"/>
          </a:xfrm>
          <a:prstGeom prst="rect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entury Schoolbook"/>
              </a:rPr>
              <a:t>Портфель</a:t>
            </a:r>
            <a:r>
              <a:rPr b="0" lang="en-US" sz="2400" spc="-1" strike="noStrike">
                <a:solidFill>
                  <a:srgbClr val="0033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entury Schoolbook"/>
              </a:rPr>
              <a:t>слово французского происхождения. В переводе на русский «носить лист». Означает четырехугольную сумку с застежкой, обычно кожаную. Слово ранец (заплечная сумка) появилось на Руси в 17-м 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5640" y="18900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336600"/>
                </a:solidFill>
                <a:latin typeface="Century Schoolbook"/>
              </a:rPr>
              <a:t>В советское время ранцы делали со съёмными лямками, что превращало его в портфель.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179880" cy="34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24360" cy="453708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00cc"/>
                </a:solidFill>
                <a:latin typeface="Century Schoolbook"/>
              </a:rPr>
              <a:t>В странах Европы и Америки дети начальных классов так же ходят в школу с портфелями и ран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484280"/>
            <a:ext cx="72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entury Schoolbook"/>
              </a:rPr>
              <a:t>Учащиеся начальной школы Пекина используют чемоданы, потому что количество учебников и школьных принадлежностей постоянно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28464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00cc"/>
                </a:solidFill>
                <a:latin typeface="Century Schoolbook"/>
              </a:rPr>
              <a:t>А в Тайване уже создали 10-и дюймовый ПК (компьютер), который весит около килограмма и включает в себя все учебники и днев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867280" y="3987720"/>
            <a:ext cx="3276720" cy="2870280"/>
          </a:xfrm>
          <a:prstGeom prst="rect">
            <a:avLst/>
          </a:prstGeom>
          <a:ln cap="rnd" w="57240">
            <a:solidFill>
              <a:srgbClr val="703d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8000" y="-478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entury Schoolbook"/>
              </a:rPr>
              <a:t>В нашей стране принято считать, что вес школьного портфеля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entury Schoolbook"/>
              </a:rPr>
              <a:t>не должен превышать 10% (процентов) от веса школьника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628640"/>
            <a:ext cx="7848720" cy="3448080"/>
          </a:xfrm>
          <a:prstGeom prst="rect">
            <a:avLst/>
          </a:prstGeom>
          <a:noFill/>
          <a:ln cap="rnd" w="1908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Century Schoolbook"/>
              </a:rPr>
              <a:t>Ранец должен отвечать следующим требова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Он должен иметь жёсткую заднюю стенку ил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алюминиевую рамку внутри спинки портф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Он не должен деформироваться при укладке шк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Ранец не должен быть шире плеч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Ранец должен иметь необходимое количество карма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каждый из которых выполняет определённую фун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Ширина лямки 4-4,5 санти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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Его материал должен быть прочным, лёгк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entury Schoolbook"/>
              </a:rPr>
              <a:t>водонепроницаемым и удобным для чистки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522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56360" y="5229360"/>
            <a:ext cx="1428840" cy="1419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14284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18900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Schoolbook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Century Schoolbook"/>
              </a:rPr>
              <a:t>Неправильно подобранные ремни могут сдавливать нервные окончания на плечах и руках, и вызывать их </a:t>
            </a:r>
            <a:r>
              <a:rPr b="1" lang="en-US" sz="2400" spc="-1" strike="noStrike">
                <a:solidFill>
                  <a:srgbClr val="cc0000"/>
                </a:solidFill>
                <a:latin typeface="Century Schoolbook"/>
              </a:rPr>
              <a:t>онемение</a:t>
            </a:r>
            <a:r>
              <a:rPr b="1" lang="en-US" sz="2400" spc="-1" strike="noStrike">
                <a:solidFill>
                  <a:srgbClr val="000099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537080" cy="295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24000" y="501336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sto MT"/>
              </a:rPr>
              <a:t>Необходимо носить ранцы с ортопедической сп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166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692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entury Schoolbook"/>
              </a:rPr>
              <a:t>Мною было  проведено исследование в  3-б классе,  в форме анке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773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gency FB"/>
              </a:rPr>
              <a:t>В результате исследования, я узнал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4365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gency FB"/>
              </a:rPr>
              <a:t>Преобладает в основ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3480" y="115920"/>
            <a:ext cx="76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gency FB"/>
              </a:rPr>
              <a:t>Изучение портфелей уч-ся 3-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9120" y="2360520"/>
            <a:ext cx="8104320" cy="2140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050920" y="4782960"/>
            <a:ext cx="65264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321300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gency FB"/>
              </a:rPr>
              <a:t>Портфель будущего все учащиеся нашего класса видят электронным, легким и небольшим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08720" y="4797360"/>
            <a:ext cx="2665440" cy="169236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5640" y="4941720"/>
            <a:ext cx="2369880" cy="1575000"/>
          </a:xfrm>
          <a:prstGeom prst="rect">
            <a:avLst/>
          </a:prstGeom>
          <a:ln w="57240">
            <a:solidFill>
              <a:srgbClr val="99ffcc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09040" y="3952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gency FB"/>
              </a:rPr>
              <a:t>Купили портф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64803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180000"/>
            <a:ext cx="69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gency FB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gency FB"/>
              </a:rPr>
              <a:t>Ещё  я прочитал, что Корея перейдёт на цифровые учебники и сменит ранцы на планшеты к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6083280" cy="463392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entury Schoolbook"/>
              </a:rPr>
              <a:t>Содержан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Введ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I. Портфель и его влияние на осанку учеников младшего школьного возра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1.1. Понятие осан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1.2. Значение осанки в жизни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1.3. Как портфель появился в школе и санитарно-гигиенические требования к нем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II. Изучение соответствия санитарно-гигиеническим нормам  портфелей учащихся 3-б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Заключение. Прило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260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 Unicode MS"/>
              </a:rPr>
              <a:t>Что же касается блока вопросов об осанке, то я получил следующи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00" y="371628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Практически у всех учащихся  осанку контролируют дома и  в ш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3360" y="4221000"/>
            <a:ext cx="76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7 человек из класса имеют небольшое нарушение осанки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8000" y="5013360"/>
            <a:ext cx="676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Таким образом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, только у 15 обучающихся моего класса вес пустого портфеля не превышает нормы для нашего возраста. Но у всех детей вес портфеля с принадлежностями был значительно выше норматива, следовательно это влияет на осанку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9740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23840" y="6444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 Unicode MS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Arial Unicode MS"/>
              </a:rPr>
              <a:t>Думаю</a:t>
            </a:r>
            <a:r>
              <a:rPr b="0" lang="en-US" sz="2400" spc="-1" strike="noStrike">
                <a:solidFill>
                  <a:srgbClr val="a50021"/>
                </a:solidFill>
                <a:latin typeface="Arial Unicode MS"/>
              </a:rPr>
              <a:t>, моя работа заставит ребят из нашего класса и их родителей задуматься о своем здоровье,  и в следующий раз, при покупке портфеля, примут во внимание научные рекомендации по выбору портф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3357720"/>
            <a:ext cx="70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Arial Unicode MS"/>
              </a:rPr>
              <a:t>Моим одноклассникам</a:t>
            </a:r>
            <a:r>
              <a:rPr b="0" lang="en-US" sz="2400" spc="-1" strike="noStrike">
                <a:solidFill>
                  <a:srgbClr val="a50021"/>
                </a:solidFill>
                <a:latin typeface="Arial Unicode MS"/>
              </a:rPr>
              <a:t> не помешает побольше внимания уделять занятиям спортом для укрепления мышц позвоночника. Своими исследованиями я обязательно поделюсь с ребятами свое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769080" cy="494496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174920" cy="367164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816360" cy="424800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16320" y="333360"/>
            <a:ext cx="365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ejaVu Serif Condensed"/>
              </a:rPr>
              <a:t>Заключение</a:t>
            </a:r>
            <a:r>
              <a:rPr b="0" lang="en-US" sz="4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125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sto MT"/>
              </a:rPr>
              <a:t>В ходе работы я понял, что неправильное ношение тяжелых предметов может отрицательно сказаться на позвоночнике, и именно школьный ранец может стать другом или врагом для нашей спины.</a:t>
            </a: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3645000"/>
            <a:ext cx="691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Вывод: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После систематических занятий детьми специальными физическими упражнениями и играми, влияющими на осанку, она изменилась, стала нормальной. А с остальными учащимися необходимо еще вести интенсивную работу для исправления неправильной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4360" y="126828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DejaVu Sans Light"/>
              </a:rPr>
              <a:t>Обязательно помните об осанке, ведь она – залог здоровья всего организм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ОБИЕ ПО ВЫБОРУ ШКОЛЬНОГО РАН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907920"/>
            <a:ext cx="842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ольный ранец должен быть выполнен из гигиеничного водоотталкивающего лёгк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начальной школы лучше всего подходят именно ранцы с жестким корпус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алисты рекомендуют приобретать лёгкие ранцы (от 500 гр. до 1300 гр.) с твёрдой спинкой и широкими лямками (не уже 35 мм). По санитарным правилам нашей страны школьный ранец вместе со всем содержимым не должен весить больше трёх килограм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нец должен хорошо держать форму и не деформироваться при укладывании школьных принадлежностей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ранец выбран или используется не правильно, то это может серьезно навредить позвоночнику и осанке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ирина портфеля не должна превышать ширину плеч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хний край не должен быть выше плеч, а нижний - ниже бёд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ите, чтобы ребёнок носил ранец на спине на обоих плечах, а не 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562320"/>
            <a:ext cx="727236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писок литературы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Толковый словарь русского языка Ушакова, слова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.И.Ожегова, медицинский слов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Правда, о школьных портфелях // Сайт «Здор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Протасов Б.И.  Что такое осанка? // Сай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osank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Федотова В.А. О школьном портфеле для млад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кольников.// Сай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proshkolu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«Лечебная физическая культура» 2003г С.Н.Поп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Статья «Ваша осанка» Авдеев А.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Статья «Исправление осанки у детей» Воробьева В.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епановой И. 2005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4360" y="620640"/>
            <a:ext cx="7920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СПАСИБО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З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Schoolbook"/>
              </a:rPr>
              <a:t>Цель работ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Century Schoolbook"/>
              </a:rPr>
              <a:t>исследование соответствия школьных портфелей учащихся 3-б класса МБОУ СОШ №2  г.Задонска санитарным требованиям.       Изучение влияния портфеля на осанку детей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50760" y="717480"/>
            <a:ext cx="54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1640" y="33336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Schoolbook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12536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Schoolbook"/>
              </a:rPr>
              <a:t>     </a:t>
            </a:r>
            <a:r>
              <a:rPr b="0" lang="en-US" sz="2800" spc="-1" strike="noStrike">
                <a:solidFill>
                  <a:srgbClr val="000066"/>
                </a:solidFill>
                <a:latin typeface="Century Schoolbook"/>
              </a:rPr>
              <a:t>Осанку можно корректировать и  исправлять, если целенаправленно выполнять комплексы упражнений, заниматься физкультурой и спортом, и постоянно вести наблюдения. И в скором будущем вам в спину будут смотреть с восхищ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476280"/>
            <a:ext cx="74898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entury Schoolbook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выяснить, что такое осанка, особенности осанки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младших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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познакомиться с историей появления портф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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узнать у детского врача требования к школьному портфе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узнать о правильной и неправильной осанке и ее значе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для здоровь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исследовать  соответствие портфелей заявленны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требов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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разработать рекомендации для учеников 1-4 классов п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выбору портф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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изучить литературу, в которой рассказывается о физически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упражнениях для формирования правильной оса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понаблюдать за изменениями здоровья при вы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профилактических упражнений и утренней заря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89000"/>
            <a:ext cx="73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Объекты исследова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человеческий организм</a:t>
            </a: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осанка,</a:t>
            </a: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школьный портфель (ранец)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7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Субъект (предмет) исследования:</a:t>
            </a: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ученики  3-б класса  МБОУ СОШ №2, влияние портфеля на осан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8936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Методы и приемы исследования</a:t>
            </a: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Schoolbook"/>
              </a:rPr>
              <a:t>анализ литературы и электронных ресурсов, наблюдение, беседа, опрос, 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1928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entury Schoolbook"/>
              </a:rPr>
              <a:t>ПОНЯТИЕ ОСАНКИ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692280"/>
            <a:ext cx="79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i="1" lang="en-US" sz="2000" spc="-1" strike="noStrike">
                <a:solidFill>
                  <a:srgbClr val="000066"/>
                </a:solidFill>
                <a:latin typeface="Century Schoolbook"/>
              </a:rPr>
              <a:t>Своё исследование я начал с медицинского словаря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Осанка – это привычное положение тела при стоянии, ходьбе и сидении, которая характеризуется вертикальным ненапряженным положением позвоно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421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В словаре Ушакова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, осанка - внешность, манера держать свою фиг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Осанка обычно ассоциируется с выправкой, привычной позой, манерой держат 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3816360" cy="256212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557360"/>
            <a:ext cx="813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Читая  сказки, былины можно любоваться царственной осанкой принцесс, богатырей, рыцарей.</a:t>
            </a:r>
            <a:r>
              <a:rPr b="1" lang="en-US" sz="2000" spc="-1" strike="noStrike">
                <a:solidFill>
                  <a:srgbClr val="000099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Принято считать, что царственных особ отличает горделивая посадка головы и прямая сп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2951280" cy="3284280"/>
          </a:xfrm>
          <a:prstGeom prst="rect">
            <a:avLst/>
          </a:prstGeom>
          <a:ln w="57240">
            <a:solidFill>
              <a:srgbClr val="000066"/>
            </a:solidFill>
            <a:prstDash val="sysDot"/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435640" y="3284640"/>
            <a:ext cx="3024000" cy="3354120"/>
          </a:xfrm>
          <a:prstGeom prst="rect">
            <a:avLst/>
          </a:prstGeom>
          <a:ln w="57240">
            <a:solidFill>
              <a:srgbClr val="000066"/>
            </a:solidFill>
            <a:prstDash val="sysDot"/>
            <a:miter/>
          </a:ln>
        </p:spPr>
      </p:pic>
      <p:sp>
        <p:nvSpPr>
          <p:cNvPr id="175" name=""/>
          <p:cNvSpPr/>
          <p:nvPr/>
        </p:nvSpPr>
        <p:spPr>
          <a:xfrm>
            <a:off x="179280" y="11592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gency FB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Agency FB"/>
              </a:rPr>
              <a:t>Слово «осанка» образовано от корня «-сан-», от этого корня произошли слова «сан», «сановник», «приосаниться». А слово «сан» означало высокий чин или   званье, знатная дол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189000"/>
            <a:ext cx="792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В старой Англии, для выработки хорошей осанки применялся специальный покрой одежды воспитанников – сидеть, ссутулившись в такой одежде просто невозможно. Одежда болезненно врезывалась в кож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Century Schoolbook"/>
              </a:rPr>
              <a:t>Гимназическое образование в России отличалось строгим режимом воспитания. Воспитанников заставляли выполнять специальные упражнения,  чтобы вырабатывать стройную осанку. В дореволюционных гимназиях с плохой осанкой боролись радикально – отхаживая воспитанников линейкой.</a:t>
            </a:r>
            <a:r>
              <a:rPr b="0" lang="en-US" sz="2000" spc="-1" strike="noStrike">
                <a:solidFill>
                  <a:srgbClr val="000099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824720" cy="3095640"/>
          </a:xfrm>
          <a:prstGeom prst="rect">
            <a:avLst/>
          </a:prstGeom>
          <a:ln w="381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14:54Z</dcterms:created>
  <dc:creator>User</dc:creator>
  <dc:description/>
  <dc:language>en-US</dc:language>
  <cp:lastModifiedBy>User</cp:lastModifiedBy>
  <dcterms:modified xsi:type="dcterms:W3CDTF">2012-01-26T18:17:08Z</dcterms:modified>
  <cp:revision>15</cp:revision>
  <dc:subject/>
  <dc:title>Осанка и портфель</dc:title>
</cp:coreProperties>
</file>