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1.xml.rels" ContentType="application/vnd.openxmlformats-package.relationships+xml"/>
  <Override PartName="/ppt/notesSlides/_rels/notesSlide80.xml.rels" ContentType="application/vnd.openxmlformats-package.relationships+xml"/>
  <Override PartName="/ppt/notesSlides/notesSlide80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54.jpeg" ContentType="image/jpeg"/>
  <Override PartName="/ppt/media/image53.jpeg" ContentType="image/jpeg"/>
  <Override PartName="/ppt/media/image50.gif" ContentType="image/gif"/>
  <Override PartName="/ppt/media/image56.jpeg" ContentType="image/jpeg"/>
  <Override PartName="/ppt/media/image49.jpeg" ContentType="image/jpeg"/>
  <Override PartName="/ppt/media/image55.jpeg" ContentType="image/jpeg"/>
  <Override PartName="/ppt/media/image40.gif" ContentType="image/gif"/>
  <Override PartName="/ppt/media/image6.jpeg" ContentType="image/jpeg"/>
  <Override PartName="/ppt/media/explode.wav" ContentType="audio/x-wav"/>
  <Override PartName="/ppt/media/image5.jpeg" ContentType="image/jpeg"/>
  <Override PartName="/ppt/media/image62.jpeg" ContentType="image/jpeg"/>
  <Override PartName="/ppt/media/image4.jpeg" ContentType="image/jpeg"/>
  <Override PartName="/ppt/media/image61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media/image17.jpeg" ContentType="image/jpeg"/>
  <Override PartName="/ppt/media/chimes.wav" ContentType="audio/x-wav"/>
  <Override PartName="/ppt/media/image21.jpeg" ContentType="image/jpeg"/>
  <Override PartName="/ppt/media/image36.gif" ContentType="image/gif"/>
  <Override PartName="/ppt/media/image59.jpeg" ContentType="image/jpeg"/>
  <Override PartName="/ppt/media/image58.jpeg" ContentType="image/jpeg"/>
  <Override PartName="/ppt/media/image57.jpeg" ContentType="image/jpeg"/>
  <Override PartName="/ppt/media/image19.jpeg" ContentType="image/jpeg"/>
  <Override PartName="/ppt/media/image32.gif" ContentType="image/gif"/>
  <Override PartName="/ppt/media/image20.jpeg" ContentType="image/jpeg"/>
  <Override PartName="/ppt/media/image26.jpeg" ContentType="image/jpeg"/>
  <Override PartName="/ppt/media/image18.jpeg" ContentType="image/jpeg"/>
  <Override PartName="/ppt/media/image51.jpeg" ContentType="image/jpeg"/>
  <Override PartName="/ppt/media/image7.jpeg" ContentType="image/jpeg"/>
  <Override PartName="/ppt/media/image41.gif" ContentType="image/gif"/>
  <Override PartName="/ppt/media/image2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29.jpeg" ContentType="image/jpeg"/>
  <Override PartName="/ppt/media/cashreg.wav" ContentType="audio/x-wav"/>
  <Override PartName="/ppt/media/image37.gif" ContentType="image/gif"/>
  <Override PartName="/ppt/media/image25.jpeg" ContentType="image/jpeg"/>
  <Override PartName="/ppt/media/image30.jpeg" ContentType="image/jpeg"/>
  <Override PartName="/ppt/media/image9.jpeg" ContentType="image/jpeg"/>
  <Override PartName="/ppt/media/image33.gif" ContentType="image/gif"/>
  <Override PartName="/ppt/media/image34.gif" ContentType="image/gif"/>
  <Override PartName="/ppt/media/image38.gif" ContentType="image/gif"/>
  <Override PartName="/ppt/media/image42.gif" ContentType="image/gif"/>
  <Override PartName="/ppt/media/image35.gif" ContentType="image/gif"/>
  <Override PartName="/ppt/media/image44.jpeg" ContentType="image/jpeg"/>
  <Override PartName="/ppt/media/image45.jpeg" ContentType="image/jpeg"/>
  <Override PartName="/ppt/media/image43.gif" ContentType="image/gif"/>
  <Override PartName="/ppt/media/image46.png" ContentType="image/png"/>
  <Override PartName="/ppt/media/image47.jpeg" ContentType="image/jpeg"/>
  <Override PartName="/ppt/media/image48.jpeg" ContentType="image/jpeg"/>
  <Override PartName="/ppt/media/image52.jpeg" ContentType="image/jpeg"/>
  <Override PartName="/ppt/media/ricochet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D1F2-2131-4554-8750-F5FC416F5B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FC63-D1D5-4EDA-8E44-460DBF1E69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067B-E289-47C0-B46B-E4CB36D706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D4B-FEAD-43CF-AADA-FEA6D81A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5CA-44E8-4AAF-A8A1-51916BA4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CC333-4000-4FD7-B26F-67D52782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F9ED2-9BC2-4F05-B73B-8728F20F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20B3A-A2F0-4D2D-BC81-37823ABA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CA8B9-1AD8-49F9-BE6F-07BBE9E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7B348-F7A7-4B01-A03F-E8C1401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2D643-C987-4884-9069-C1E68983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D1B2D-DE2D-447F-8531-CA8AAFEA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6CC22-15BA-4CDC-8FC9-0B17DF51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35A37-C0B5-4376-AC87-698820F8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4307F-03F3-44F5-BBBE-A370CAA3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899-F216-49F7-A99B-216091D4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B4280-63F9-4ED4-8C88-A54EA94E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87BFC-FF16-4318-A244-0ED94A04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AA893-6E96-4ABD-8133-37B3BB6A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BDB88-480E-4149-BA05-F09BA0D8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CF534-1246-432B-9D59-2D311DB5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7B1CE-D4A0-4095-9418-906FB63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A44C6-C7B9-4BA2-AEC6-390346B1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73493-F891-4D0F-90A8-3DE0957D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F2B84-EBD2-4B4F-9643-9EF131FA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D05C7-BF7E-4AB6-B8EB-BB28016E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88B-45E1-46B4-B5EA-58A79927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BFB00-7895-4AF4-A53E-CB8D5A88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99407-6659-4FD1-9627-B5C47069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DBA08-F3FA-4988-BDA8-2C149ECA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EFD0E-BCD1-4015-AF65-C431A8B9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E1180-C5C7-47AD-BFC6-636B988F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E09DD-34E8-45F1-8457-7336C9C8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4B68F-EEE1-4A52-804C-790F4673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1CB2C-B8D9-44F3-9703-84E7A54B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6BC68-0127-4FEB-9541-73CA77C8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04D76-348A-4DA4-AAF6-4EC73C9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A268-D44F-4347-9624-6F0DEA70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7B6C5-DF86-48F5-8126-97E0CC78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482EC-E991-414C-906E-8A88BE53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C2A13-4C58-4049-83EF-D8C76C38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8B247-9A22-40F3-9A9D-D9F91A80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4CB26-742C-4069-9D54-420F51AF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A2991-2F7C-4A1E-B242-C9CD095C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EFEA5-FF0E-48C2-BA8E-586C9F33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B5272-D2AC-4C0F-84CC-BADCE9D5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E49C3-F11A-4E45-85AE-1B2E99A9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CBB38-B724-417F-906C-CFFE48EB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CBC-C0F2-4C25-834E-667190F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28EBD-69AE-4D3B-BBE4-FCF4A1AB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19976-FB37-4903-B71B-7CE8856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A4404-4936-4FCA-AA59-31960C5A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80A90-B1A8-476C-8F3A-9921CA8F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2F642-39B2-4803-AFA5-63FD08EB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0F83E-86A6-4EEF-9D25-7DCCA164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EF8E1-DB1F-461A-BF0A-248B9FC0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61DEF-8670-4C40-A053-5663C77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AB647-0B67-49B0-AB51-F253F81A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D1960-6721-470C-8C45-3BDECE52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0898-B5AD-4FC2-976E-1E154B39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1E3C6-4871-4345-BB76-538E0CDB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C4FAB-7CD5-4450-9024-8EC98B0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E823A-9C0C-4608-B35D-F814DCD7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3C8FE-0BAF-466F-B50E-F3BD20CC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C8996-BB3A-4839-B530-B0DBA099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5FD62-4CA0-46FC-8CC5-29DFCFC6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6CC3A-AFAD-4F9F-8FD2-309B269C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128FC-4C73-4F08-89EE-39F7AD1B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F1E3C-EFFA-4FED-9B45-E1574F43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BC74C-0D11-4DB1-AD7C-284818E9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F99A-1678-42E4-A722-2E76D454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EFF49-8DA5-4AFC-864B-C611897D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50147-643E-46EF-8536-93169744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9BA39-4748-48D1-BA88-EC4FB694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EC935-D075-40A8-8534-5D20C0DD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055A4-D379-4D43-AC7C-FE4D9C50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3339A-14CD-4D95-939A-70E1227A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9CB1C-9539-4585-9FB7-0BA26E58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5E5A8-7311-43D1-AB84-6C2629D5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EEB9F-3548-4D22-ADCB-5FAFC916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D1EF7-B074-48F5-9701-1B4862CE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BB5F-DD82-42C4-AE85-E0B9BC2F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22723-C659-474D-BCCE-403B737B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2D282-7AE9-403F-8B7E-B94780D4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D01AB-727D-49C1-9DFC-DD259E0B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F1C2B-0CA5-47F5-8F59-1D5D122D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59CC4-43D4-4A68-8890-4B082434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24D1E-C73F-4D90-8A8C-1A6392D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B355B-3701-4523-8A16-14E2EA47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A49F0-84E3-4896-B58B-D039FE27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F4C8B-074C-4437-ABE5-09C0FD8A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5E390-2A61-4EC4-8820-3AD7B75B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A263-F9D4-43A1-A2B8-FBDECE6C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76FEB-B04F-4E58-ACBD-8FD0BC85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10DDA-C575-4FB2-BBFA-F21EA449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85187-6F82-4C6E-8CAE-D85D1628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D2658-A838-4A4E-B129-64E30472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C41C0-A130-4E8C-9249-8C220478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3E70D-D039-4B64-8091-B12B1212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FFB7A-4C8B-477B-864D-451E3A4D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32D59-FC41-4DC0-B64E-D3E4CFB4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900CA-7B93-4F83-B5E8-A864636D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E4005-888E-48A2-BA72-B0CB7542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3599-B19C-4980-8FCF-96FA626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87A8A-4859-4DA0-B438-34348232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28D33-F0F4-455F-BA73-EACA99ED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4F3E7-A333-4266-B361-DC232919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C67-A37A-4DF8-827C-B62E5E3C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8F2C-1104-4A06-B917-454D77C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D73E-AD9B-4FBB-8DB3-5C86828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5E8C-2933-42C5-8B92-0CE22F65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D881-DF78-4026-AC78-781D766E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E3E2-4154-4984-8E6E-07F6E13A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538B-013C-463C-B430-1B0F80A7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4BF24-C5BC-4FDC-A413-5141E215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02361-4BC5-4CF3-AC22-5C73C0BB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26ED-0CC5-4C75-AB37-42AB9360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BCE5-6A65-47D1-AA28-51CC352E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6C1-C209-4241-8043-DDF4CA21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386C-6DA9-4682-AFFC-914CE575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B5F5-197A-4F2E-964A-D13CF37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DD3B-6562-43DC-9107-F66A67B7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F080-42F2-4B83-80E5-27EB24AB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8E24-C76F-405E-A357-AEFBA1EA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428E-6598-4EC7-95BB-8EF1C494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D1F5-EB6F-4B06-B0EB-24E8AE7A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7AB71-D467-4971-94AB-CD044C06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8266-C0DF-4BF8-B988-5EE9A40F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A807-97A5-4271-8AF7-42B80FEF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7D4-F866-4275-8956-C407B322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95B2E-E882-4BF8-8958-2E55A67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7118-FC34-4665-AB26-A4ABDCFE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C5A80-07D7-474C-AF7C-3A0D81A0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C89B-7932-497A-864C-0550C976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637D7-C888-46D8-82C8-929E0C3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FCF0-1DF8-4495-98CC-E7197F92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8369-8D61-4579-B83C-7E112098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9AE3-C289-4855-B283-C01C6E38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B336-5E2A-4D0F-8A61-51C1EB4C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F0045-8445-4254-8EA7-7F7E15B6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094-B366-4DCC-BCAD-48EE0702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427E-AC19-48B9-94C3-900145D0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66B8C-A3A6-40EC-925C-19A026BC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2E4C8-E626-4F1A-BFB3-61ABF5A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C728C-2515-48D3-A189-AEAD1BFE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D8231-A64F-41FF-BC4B-A158E30E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A90BA-A8CC-4C87-B547-509C8389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7B300-15B9-46CF-AC5E-127E816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273BD-1743-444B-A986-0C68611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463C-FBA7-4530-AA51-496A7E0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F7598-B890-46FE-8CC0-0F02C996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669-0D78-4C54-924B-390AC4EF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21869-3ABC-4165-B16D-815D8B25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72B4B-3709-4D41-90D1-EC71FB16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AF332-C699-4F8B-8886-0639C15D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F398F-60D2-4855-8E17-B56A9B1B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0F4A-BB29-4177-B02E-1C24A67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F1675-2461-4B02-B012-FE8CE5EB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9D162-3B3C-43FF-8CDA-37656B93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3B25B-41BA-4673-BF19-3097847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163E9-357B-4444-B065-528D3D42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F668-0071-40F1-A665-97DA0E7D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4BD-8A45-443A-970A-D949F12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58C17-8BEF-4C9B-9AAE-5D3C68F2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D1E77-B357-4D1A-8DFC-9EC5652C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2B5C-CA21-40D0-AA62-45A29DA4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42481-A639-4538-8E43-6CD107C7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7CB6D-35C1-4B54-95B9-9AC4FB58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EA187-740B-4277-8B9F-9A44BD6A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50C01-9F68-468A-AE85-F3781A7B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4561A-8DF5-4837-9C1D-EF0586BD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A86BA-C341-4510-8CC0-BF9B74FA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EB6EC-C722-449E-B157-8A51FF02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B17-174C-4EF8-BDCB-8BC6B88A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17B4D-36B7-4D50-8963-4749F18B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1A2A3-56A0-4894-8E9E-37218D44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2A16C-5744-42C0-BC24-23F17807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2010D-45C0-44B4-ACC7-6B4E2909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D1B37-47D1-46C8-8FBF-9E9A6769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3CF82-5B56-4843-BDDE-D78A4E09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1A3B2-B357-4C91-8F20-49F50C8A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929BD-C7BC-4B13-9EA0-32892A5B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17EBE-4FFE-4724-A526-67F3E0A1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746C4-CB24-4F64-8C6D-F6A12BE5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A87-AE1B-413D-AA20-4649235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3C40E-D7D6-4C53-99FB-96623C36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531E9-934A-43F4-81D8-1ACAA92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F0198-DE7C-4F4C-99DA-88E792EE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EA8F-46C0-4A93-B39F-E6E441D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FA2C8-99C6-47EF-A143-42731E9C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A780-F655-4DCF-BD9F-16927548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E3402-E3EA-432A-9999-84FCAB8E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74F9A-A0AE-44CA-B037-0531E225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389B8-3201-4687-A51F-B67A0983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2ECFE-B4E1-45F6-984A-D65E9F08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05F7-115B-4EAA-9CDF-C09CFAD57B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D5D3-FA26-4635-9856-33566B736B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C468-27C3-4279-82DD-5DD69FE579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6ABD-24A9-4934-969B-5C197766F0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A7D0-C6C0-41E3-94EC-4B7C1FC3B2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E6F4-5B20-434F-B469-9BD820CE0D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F5E0-BFFD-47A9-9B4C-C30A21F04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2550-5B4B-428F-B402-71391E8728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9F3F-5B25-43A2-A142-2A2CC8EADA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67C7-EB72-4A23-AC06-2E444759D3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FDE3-3E22-4082-9039-80AD9600CE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4BC0-8D7C-4FA2-99F4-899DDA0A1F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DE37-7CAB-453E-AA47-C300D1CA9C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D169-B18E-474D-8B46-2970A4B8C5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9BD1-546F-46D1-B7BC-A4C9156422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78F2-4F9E-4671-97E0-B648690F54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72.xml"/><Relationship Id="rId4" Type="http://schemas.openxmlformats.org/officeDocument/2006/relationships/slide" Target="slide5.xml"/><Relationship Id="rId5" Type="http://schemas.openxmlformats.org/officeDocument/2006/relationships/image" Target="../media/image2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68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67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69.xml"/><Relationship Id="rId20" Type="http://schemas.openxmlformats.org/officeDocument/2006/relationships/slide" Target="slide70.xml"/><Relationship Id="rId21" Type="http://schemas.openxmlformats.org/officeDocument/2006/relationships/slide" Target="slide57.xml"/><Relationship Id="rId22" Type="http://schemas.openxmlformats.org/officeDocument/2006/relationships/slide" Target="slide59.xml"/><Relationship Id="rId23" Type="http://schemas.openxmlformats.org/officeDocument/2006/relationships/slide" Target="slide61.xml"/><Relationship Id="rId24" Type="http://schemas.openxmlformats.org/officeDocument/2006/relationships/slide" Target="slide63.xml"/><Relationship Id="rId25" Type="http://schemas.openxmlformats.org/officeDocument/2006/relationships/slide" Target="slide65.xml"/><Relationship Id="rId26" Type="http://schemas.openxmlformats.org/officeDocument/2006/relationships/slide" Target="slide72.xml"/><Relationship Id="rId27" Type="http://schemas.openxmlformats.org/officeDocument/2006/relationships/slide" Target="slide72.xml"/><Relationship Id="rId28" Type="http://schemas.openxmlformats.org/officeDocument/2006/relationships/slideLayout" Target="../slideLayouts/slideLayout14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6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6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6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6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7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2"/>
          <p:cNvSpPr txBox="1"/>
          <p:nvPr/>
        </p:nvSpPr>
        <p:spPr>
          <a:xfrm>
            <a:off x="1905120" y="685800"/>
            <a:ext cx="5448240" cy="4419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Arial"/>
              </a:rPr>
              <a:t>ЗВЕЗДНЫЙ </a:t>
            </a:r>
            <a:endParaRPr b="0" lang="en-US" sz="4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4" name="WordArt 3"/>
          <p:cNvSpPr txBox="1"/>
          <p:nvPr/>
        </p:nvSpPr>
        <p:spPr>
          <a:xfrm>
            <a:off x="1828800" y="1371600"/>
            <a:ext cx="5457960" cy="449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808080"/>
                  </a:outerShdw>
                </a:effectLst>
                <a:latin typeface="Times New Roman"/>
              </a:rPr>
              <a:t>КАЛЕЙДОСКОП</a:t>
            </a:r>
            <a:endParaRPr b="0" lang="en-US" sz="4800" spc="1" strike="noStrike">
              <a:ln w="0">
                <a:noFill/>
              </a:ln>
              <a:solidFill>
                <a:srgbClr val="ffffff"/>
              </a:solidFill>
              <a:effectLst>
                <a:outerShdw dist="107932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2685960" y="2610000"/>
            <a:ext cx="386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ФИЗИКА</a:t>
            </a:r>
            <a:endParaRPr b="0" lang="en-US" sz="6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849240" y="2394000"/>
            <a:ext cx="799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то является причиной возникновения на Земле приливов и отливов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5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0" y="24768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9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20" name="Picture 10" descr="Earth's Moon 2"/>
          <p:cNvPicPr/>
          <p:nvPr/>
        </p:nvPicPr>
        <p:blipFill>
          <a:blip r:embed="rId4"/>
          <a:stretch/>
        </p:blipFill>
        <p:spPr>
          <a:xfrm>
            <a:off x="0" y="1339920"/>
            <a:ext cx="4730760" cy="354816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11"/>
          <p:cNvSpPr/>
          <p:nvPr/>
        </p:nvSpPr>
        <p:spPr>
          <a:xfrm>
            <a:off x="3633480" y="336600"/>
            <a:ext cx="164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Луна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22" name="Picture 1033" descr="приливы и отливы"/>
          <p:cNvPicPr/>
          <p:nvPr/>
        </p:nvPicPr>
        <p:blipFill>
          <a:blip r:embed="rId5"/>
          <a:stretch/>
        </p:blipFill>
        <p:spPr>
          <a:xfrm>
            <a:off x="4195800" y="2392200"/>
            <a:ext cx="494820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1382760" y="2070000"/>
            <a:ext cx="671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ак определили массу Земли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5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8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9" name="Text Box 11"/>
          <p:cNvSpPr/>
          <p:nvPr/>
        </p:nvSpPr>
        <p:spPr>
          <a:xfrm>
            <a:off x="0" y="0"/>
            <a:ext cx="857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я ускорение свободного падения, радиус Земли и гравитационную постоянную воспользовавшись формулой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Object 10"/>
              <p:cNvSpPr txBox="1"/>
              <p:nvPr/>
            </p:nvSpPr>
            <p:spPr>
              <a:xfrm>
                <a:off x="0" y="2851200"/>
                <a:ext cx="258444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11"/>
              <p:cNvSpPr txBox="1"/>
              <p:nvPr/>
            </p:nvSpPr>
            <p:spPr>
              <a:xfrm>
                <a:off x="4911840" y="3905280"/>
                <a:ext cx="358452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2" name="Text Box 16"/>
          <p:cNvSpPr/>
          <p:nvPr/>
        </p:nvSpPr>
        <p:spPr>
          <a:xfrm>
            <a:off x="2914560" y="3041640"/>
            <a:ext cx="593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пределяют массу Земли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4"/>
          <p:cNvSpPr/>
          <p:nvPr/>
        </p:nvSpPr>
        <p:spPr>
          <a:xfrm>
            <a:off x="3805560" y="61995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843120" y="2394000"/>
            <a:ext cx="789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т чего и как зависит ускорение свободного падения на Земле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8" name="Rectangle 8">
            <a:hlinkClick r:id="rId3" action="ppaction://hlinksldjump"/>
          </p:cNvPr>
          <p:cNvSpPr/>
          <p:nvPr/>
        </p:nvSpPr>
        <p:spPr>
          <a:xfrm>
            <a:off x="1314360" y="6515280"/>
            <a:ext cx="6400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34800" y="279360"/>
            <a:ext cx="8282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т расстояния между телом и центром Земли. С удалением тела от Земли ускорение свободного падения убывает. Из-за сплюснутости Земли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а разных широтах разное. А также из-за залежей полезных ископаемых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ЛАНЕТ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64600" y="1708200"/>
            <a:ext cx="427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то за планета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263160" y="2279520"/>
            <a:ext cx="709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чень маленькая планета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4" name="Text Box 9"/>
          <p:cNvSpPr/>
          <p:nvPr/>
        </p:nvSpPr>
        <p:spPr>
          <a:xfrm>
            <a:off x="399960" y="5403960"/>
            <a:ext cx="874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лижайшая к Солнцу планета.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5" name="Rectangle 10"/>
          <p:cNvSpPr/>
          <p:nvPr/>
        </p:nvSpPr>
        <p:spPr>
          <a:xfrm>
            <a:off x="438120" y="316404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ет никакой жизни, там отсутствует как атмосфере, так и вода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0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2421000" y="2298600"/>
            <a:ext cx="300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Меркурий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ЛАНЕТ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38160" y="2016000"/>
            <a:ext cx="35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то за планет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3605760" y="2041560"/>
            <a:ext cx="55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чень похожа на Землю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-12600" y="2460600"/>
            <a:ext cx="915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вооруженному глазу предстает в виде яркой красно – оранжевой звезды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0" y="36162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ресохшие реки и проливы, свидетельствуют о том, что когда-то эта планета была достаточно теплой и имела такую мощную атмосферу, что вода по её поверхности текла свободно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0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3501720" y="260280"/>
            <a:ext cx="172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Марс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62" name="Picture 8" descr="Mars"/>
          <p:cNvPicPr/>
          <p:nvPr/>
        </p:nvPicPr>
        <p:blipFill>
          <a:blip r:embed="rId4"/>
          <a:stretch/>
        </p:blipFill>
        <p:spPr>
          <a:xfrm>
            <a:off x="892080" y="1217520"/>
            <a:ext cx="6689880" cy="50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66720" y="2476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ТОР РАБОТЫ: Жеманова Екатерина Сергеевна учитель физики МОУ СОШ №3 им. В. Н. Щеголева ЗАТО Свет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ЛАНЕТ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0" y="1450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у планету можно наблюдать невооруженным глазом в определённые времена год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624240" y="97776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за планета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7" name="Rectangle 8"/>
          <p:cNvSpPr/>
          <p:nvPr/>
        </p:nvSpPr>
        <p:spPr>
          <a:xfrm>
            <a:off x="325440" y="2975040"/>
            <a:ext cx="856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крыта толстым слоем атмосферы, которая состоит в основном из углекислого газа и настолько плотна, оказывает сильное давление на поверхность планет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2031840" y="5773680"/>
            <a:ext cx="53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торая планета от Солнца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1026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0" name="Text Box 1027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1" name="Rectangle 1030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2" name="Text Box 1031"/>
          <p:cNvSpPr/>
          <p:nvPr/>
        </p:nvSpPr>
        <p:spPr>
          <a:xfrm>
            <a:off x="3651120" y="488880"/>
            <a:ext cx="20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енер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73" name="Picture 1032" descr="Surface of Venus"/>
          <p:cNvPicPr/>
          <p:nvPr/>
        </p:nvPicPr>
        <p:blipFill>
          <a:blip r:embed="rId4"/>
          <a:stretch/>
        </p:blipFill>
        <p:spPr>
          <a:xfrm>
            <a:off x="1596960" y="1503360"/>
            <a:ext cx="592776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ЛАНЕТ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658320" y="6033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226080" y="1528920"/>
            <a:ext cx="393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то за планета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0" y="2006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иаметр равен 143 884 км – это значит, что он более чем в 11 раз превышает диаметр Земли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8" name="Rectangle 8"/>
          <p:cNvSpPr/>
          <p:nvPr/>
        </p:nvSpPr>
        <p:spPr>
          <a:xfrm>
            <a:off x="0" y="4095720"/>
            <a:ext cx="935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меет  по крайней мере 16 спутников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285840" y="4653000"/>
            <a:ext cx="847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амая большая планета Солнечной системы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1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2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3555000" y="450720"/>
            <a:ext cx="245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Юпитер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84" name="Picture 8" descr="Jupiter 4"/>
          <p:cNvPicPr/>
          <p:nvPr/>
        </p:nvPicPr>
        <p:blipFill>
          <a:blip r:embed="rId4"/>
          <a:stretch/>
        </p:blipFill>
        <p:spPr>
          <a:xfrm>
            <a:off x="1619280" y="1390680"/>
            <a:ext cx="622944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2396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ЛАНЕТ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36000" y="1231920"/>
            <a:ext cx="427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то за планета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76320" y="1771560"/>
            <a:ext cx="906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 30 раз дальше от Солнца, чем Земля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0" y="2978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Иногда оказывается самой далекой от Солнца планетой.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277920" y="4299120"/>
            <a:ext cx="886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азвание совпадает с именем Хозяина морей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026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2" name="Text Box 1027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3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4" name="Text Box 1031"/>
          <p:cNvSpPr/>
          <p:nvPr/>
        </p:nvSpPr>
        <p:spPr>
          <a:xfrm>
            <a:off x="3095640" y="565200"/>
            <a:ext cx="22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ептун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95" name="Picture 1032" descr="Neptune Globe"/>
          <p:cNvPicPr/>
          <p:nvPr/>
        </p:nvPicPr>
        <p:blipFill>
          <a:blip r:embed="rId4"/>
          <a:stretch/>
        </p:blipFill>
        <p:spPr>
          <a:xfrm>
            <a:off x="1406520" y="1674720"/>
            <a:ext cx="5603760" cy="42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ЛНЦ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399960" y="195588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акова примерно температура Солнца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5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1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1699560" y="2684520"/>
            <a:ext cx="269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6000 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5"/>
              <p:cNvSpPr txBox="1"/>
              <p:nvPr/>
            </p:nvSpPr>
            <p:spPr>
              <a:xfrm>
                <a:off x="4241880" y="2432160"/>
                <a:ext cx="16509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ЛНЦ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857160" y="179064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акой элемент является основным в составе Солнца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1026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8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9" name="Text Box 1028"/>
          <p:cNvSpPr/>
          <p:nvPr/>
        </p:nvSpPr>
        <p:spPr>
          <a:xfrm>
            <a:off x="990720" y="22860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0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1" name="Text Box 1031"/>
          <p:cNvSpPr/>
          <p:nvPr/>
        </p:nvSpPr>
        <p:spPr>
          <a:xfrm>
            <a:off x="3537000" y="527040"/>
            <a:ext cx="24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елий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812" name="Picture 1032" descr="Sun 1"/>
          <p:cNvPicPr/>
          <p:nvPr/>
        </p:nvPicPr>
        <p:blipFill>
          <a:blip r:embed="rId5"/>
          <a:stretch/>
        </p:blipFill>
        <p:spPr>
          <a:xfrm>
            <a:off x="1486080" y="1414440"/>
            <a:ext cx="6419520" cy="48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3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Данный урок проводится по типу телевизионной передачи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75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ЛНЦ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0" y="2070000"/>
            <a:ext cx="856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ак происходит солнечное затмение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2"/>
          <p:cNvSpPr/>
          <p:nvPr/>
        </p:nvSpPr>
        <p:spPr>
          <a:xfrm>
            <a:off x="-83520" y="629136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7" name="Text Box 3"/>
          <p:cNvSpPr/>
          <p:nvPr/>
        </p:nvSpPr>
        <p:spPr>
          <a:xfrm>
            <a:off x="7563960" y="629136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8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9" name="Text Box 8"/>
          <p:cNvSpPr/>
          <p:nvPr/>
        </p:nvSpPr>
        <p:spPr>
          <a:xfrm>
            <a:off x="0" y="2031840"/>
            <a:ext cx="34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или частично закрывает Солнце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820" name="Picture 9" descr="0534_003"/>
          <p:cNvPicPr/>
          <p:nvPr/>
        </p:nvPicPr>
        <p:blipFill>
          <a:blip r:embed="rId4"/>
          <a:stretch/>
        </p:blipFill>
        <p:spPr>
          <a:xfrm>
            <a:off x="3159000" y="1838160"/>
            <a:ext cx="5985000" cy="44197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0"/>
          <p:cNvSpPr/>
          <p:nvPr/>
        </p:nvSpPr>
        <p:spPr>
          <a:xfrm>
            <a:off x="0" y="247680"/>
            <a:ext cx="88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Луна при своем движении вокруг Земли полностью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ЛНЦ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528480" y="2336760"/>
            <a:ext cx="7356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очему Солнце светит и греет, а Луна светит, но не греет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6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7" name="Rectangle 6">
            <a:hlinkClick r:id="rId3" action="ppaction://hlinksldjump"/>
          </p:cNvPr>
          <p:cNvSpPr/>
          <p:nvPr/>
        </p:nvSpPr>
        <p:spPr>
          <a:xfrm>
            <a:off x="127620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744480" y="946080"/>
            <a:ext cx="81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9" name="Text Box 8"/>
          <p:cNvSpPr/>
          <p:nvPr/>
        </p:nvSpPr>
        <p:spPr>
          <a:xfrm>
            <a:off x="542880" y="1174680"/>
            <a:ext cx="7878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олнце естественный источник свет, а Луна источник отраженного света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7624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акое еще название у Солнечной систем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612720" y="21844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3" name="Rectangle 8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ЛНЦ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6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7" name="Rectangle 48"/>
          <p:cNvSpPr/>
          <p:nvPr/>
        </p:nvSpPr>
        <p:spPr>
          <a:xfrm>
            <a:off x="2645640" y="289080"/>
            <a:ext cx="376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ОЛНЦЕ 500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8" name="Text Box 51"/>
          <p:cNvSpPr/>
          <p:nvPr/>
        </p:nvSpPr>
        <p:spPr>
          <a:xfrm>
            <a:off x="2021760" y="3098880"/>
            <a:ext cx="540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Гелиоцентрическая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1" name="Text Box 5"/>
          <p:cNvSpPr/>
          <p:nvPr/>
        </p:nvSpPr>
        <p:spPr>
          <a:xfrm>
            <a:off x="744480" y="2260440"/>
            <a:ext cx="802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2" name="Text Box 6"/>
          <p:cNvSpPr/>
          <p:nvPr/>
        </p:nvSpPr>
        <p:spPr>
          <a:xfrm>
            <a:off x="652320" y="1955880"/>
            <a:ext cx="7851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3" name="Rectangle 2"/>
          <p:cNvSpPr/>
          <p:nvPr/>
        </p:nvSpPr>
        <p:spPr>
          <a:xfrm>
            <a:off x="263520" y="2136600"/>
            <a:ext cx="848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 помощью какого созвездия греки проверяли зрение у своих воинов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5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6" name="Rectangle 7">
            <a:hlinkClick r:id="rId3" action="ppaction://hlinksldjump"/>
          </p:cNvPr>
          <p:cNvSpPr/>
          <p:nvPr/>
        </p:nvSpPr>
        <p:spPr>
          <a:xfrm>
            <a:off x="1257480" y="6324480"/>
            <a:ext cx="64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847" name="Picture 8" descr="j0219086"/>
          <p:cNvPicPr/>
          <p:nvPr/>
        </p:nvPicPr>
        <p:blipFill>
          <a:blip r:embed="rId4"/>
          <a:stretch/>
        </p:blipFill>
        <p:spPr>
          <a:xfrm>
            <a:off x="3295800" y="593640"/>
            <a:ext cx="6172200" cy="6264360"/>
          </a:xfrm>
          <a:prstGeom prst="rect">
            <a:avLst/>
          </a:prstGeom>
          <a:ln w="0">
            <a:noFill/>
          </a:ln>
        </p:spPr>
      </p:pic>
      <p:sp>
        <p:nvSpPr>
          <p:cNvPr id="848" name="Rectangle 9"/>
          <p:cNvSpPr/>
          <p:nvPr/>
        </p:nvSpPr>
        <p:spPr>
          <a:xfrm>
            <a:off x="-1440" y="343080"/>
            <a:ext cx="551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ольшая Медведиц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1138320" y="2374920"/>
            <a:ext cx="66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Можно ли открыть новое созвездие?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4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1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463680" y="907920"/>
            <a:ext cx="820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ет. Созвездие – участок неба. Открыть можно звезду.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7" descr="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35" descr="10"/>
          <p:cNvPicPr/>
          <p:nvPr/>
        </p:nvPicPr>
        <p:blipFill>
          <a:blip r:embed="rId2"/>
          <a:stretch/>
        </p:blipFill>
        <p:spPr>
          <a:xfrm>
            <a:off x="0" y="0"/>
            <a:ext cx="3067200" cy="23004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6" descr="11"/>
          <p:cNvPicPr/>
          <p:nvPr/>
        </p:nvPicPr>
        <p:blipFill>
          <a:blip r:embed="rId3"/>
          <a:stretch/>
        </p:blipFill>
        <p:spPr>
          <a:xfrm>
            <a:off x="6039000" y="0"/>
            <a:ext cx="3105000" cy="23288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7" descr="12"/>
          <p:cNvPicPr/>
          <p:nvPr/>
        </p:nvPicPr>
        <p:blipFill>
          <a:blip r:embed="rId4"/>
          <a:stretch/>
        </p:blipFill>
        <p:spPr>
          <a:xfrm>
            <a:off x="0" y="4933800"/>
            <a:ext cx="3022560" cy="2267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8" descr="13"/>
          <p:cNvPicPr/>
          <p:nvPr/>
        </p:nvPicPr>
        <p:blipFill>
          <a:blip r:embed="rId5"/>
          <a:stretch/>
        </p:blipFill>
        <p:spPr>
          <a:xfrm>
            <a:off x="6191280" y="49100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15"/>
          <p:cNvPicPr/>
          <p:nvPr/>
        </p:nvPicPr>
        <p:blipFill>
          <a:blip r:embed="rId6"/>
          <a:stretch/>
        </p:blipFill>
        <p:spPr>
          <a:xfrm>
            <a:off x="2857680" y="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1" descr="16"/>
          <p:cNvPicPr/>
          <p:nvPr/>
        </p:nvPicPr>
        <p:blipFill>
          <a:blip r:embed="rId7"/>
          <a:stretch/>
        </p:blipFill>
        <p:spPr>
          <a:xfrm>
            <a:off x="3009960" y="4991040"/>
            <a:ext cx="3162240" cy="21718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2" descr="32"/>
          <p:cNvPicPr/>
          <p:nvPr/>
        </p:nvPicPr>
        <p:blipFill>
          <a:blip r:embed="rId8"/>
          <a:stretch/>
        </p:blipFill>
        <p:spPr>
          <a:xfrm>
            <a:off x="0" y="2438280"/>
            <a:ext cx="2897280" cy="2454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3" descr="36"/>
          <p:cNvPicPr/>
          <p:nvPr/>
        </p:nvPicPr>
        <p:blipFill>
          <a:blip r:embed="rId9"/>
          <a:stretch/>
        </p:blipFill>
        <p:spPr>
          <a:xfrm>
            <a:off x="2876400" y="2228760"/>
            <a:ext cx="3670560" cy="27399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4" descr="30"/>
          <p:cNvPicPr/>
          <p:nvPr/>
        </p:nvPicPr>
        <p:blipFill>
          <a:blip r:embed="rId10"/>
          <a:stretch/>
        </p:blipFill>
        <p:spPr>
          <a:xfrm>
            <a:off x="6419880" y="2422440"/>
            <a:ext cx="2724120" cy="24544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68" descr="43"/>
          <p:cNvPicPr/>
          <p:nvPr/>
        </p:nvPicPr>
        <p:blipFill>
          <a:blip r:embed="rId11"/>
          <a:stretch/>
        </p:blipFill>
        <p:spPr>
          <a:xfrm>
            <a:off x="2590920" y="2185920"/>
            <a:ext cx="4071960" cy="3016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9" descr="39"/>
          <p:cNvPicPr/>
          <p:nvPr/>
        </p:nvPicPr>
        <p:blipFill>
          <a:blip r:embed="rId12"/>
          <a:stretch/>
        </p:blipFill>
        <p:spPr>
          <a:xfrm>
            <a:off x="0" y="0"/>
            <a:ext cx="2987640" cy="2359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70" descr="31"/>
          <p:cNvPicPr/>
          <p:nvPr/>
        </p:nvPicPr>
        <p:blipFill>
          <a:blip r:embed="rId13"/>
          <a:stretch/>
        </p:blipFill>
        <p:spPr>
          <a:xfrm>
            <a:off x="6259680" y="4917960"/>
            <a:ext cx="2884320" cy="22640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71" descr="26"/>
          <p:cNvPicPr/>
          <p:nvPr/>
        </p:nvPicPr>
        <p:blipFill>
          <a:blip r:embed="rId14"/>
          <a:stretch/>
        </p:blipFill>
        <p:spPr>
          <a:xfrm>
            <a:off x="6400800" y="0"/>
            <a:ext cx="2743200" cy="22827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2" descr="35"/>
          <p:cNvPicPr/>
          <p:nvPr/>
        </p:nvPicPr>
        <p:blipFill>
          <a:blip r:embed="rId15"/>
          <a:stretch/>
        </p:blipFill>
        <p:spPr>
          <a:xfrm>
            <a:off x="0" y="4943520"/>
            <a:ext cx="3100320" cy="22557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3" descr="04"/>
          <p:cNvPicPr/>
          <p:nvPr/>
        </p:nvPicPr>
        <p:blipFill>
          <a:blip r:embed="rId16"/>
          <a:stretch/>
        </p:blipFill>
        <p:spPr>
          <a:xfrm>
            <a:off x="0" y="0"/>
            <a:ext cx="4603680" cy="37148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4" descr="25"/>
          <p:cNvPicPr/>
          <p:nvPr/>
        </p:nvPicPr>
        <p:blipFill>
          <a:blip r:embed="rId17"/>
          <a:stretch/>
        </p:blipFill>
        <p:spPr>
          <a:xfrm>
            <a:off x="4508640" y="3753000"/>
            <a:ext cx="4635360" cy="33908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75" descr="28"/>
          <p:cNvPicPr/>
          <p:nvPr/>
        </p:nvPicPr>
        <p:blipFill>
          <a:blip r:embed="rId18"/>
          <a:stretch/>
        </p:blipFill>
        <p:spPr>
          <a:xfrm>
            <a:off x="4564080" y="0"/>
            <a:ext cx="4579920" cy="37497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6" descr="44"/>
          <p:cNvPicPr/>
          <p:nvPr/>
        </p:nvPicPr>
        <p:blipFill>
          <a:blip r:embed="rId19"/>
          <a:stretch/>
        </p:blipFill>
        <p:spPr>
          <a:xfrm>
            <a:off x="0" y="3714840"/>
            <a:ext cx="4551480" cy="35211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7" descr="18"/>
          <p:cNvPicPr/>
          <p:nvPr/>
        </p:nvPicPr>
        <p:blipFill>
          <a:blip r:embed="rId20"/>
          <a:stretch/>
        </p:blipFill>
        <p:spPr>
          <a:xfrm>
            <a:off x="2381400" y="1854360"/>
            <a:ext cx="4082760" cy="31176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78" descr="своя игра загл"/>
          <p:cNvPicPr/>
          <p:nvPr/>
        </p:nvPicPr>
        <p:blipFill>
          <a:blip r:embed="rId2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65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75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753480" y="2432160"/>
            <a:ext cx="74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колько созвездий на небе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0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1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2734200" y="3017880"/>
            <a:ext cx="367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88 созвездий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81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акие созвездия вы знаете?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 каждое созвездие 5 баллов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зываем по очеред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3658320" y="6033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7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636480" y="2050920"/>
            <a:ext cx="850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еречислите все зодиакальные созвездия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2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3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4" name="Text Box 7"/>
          <p:cNvSpPr/>
          <p:nvPr/>
        </p:nvSpPr>
        <p:spPr>
          <a:xfrm>
            <a:off x="2660760" y="2412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247680" y="628560"/>
          <a:ext cx="8402760" cy="5349960"/>
        </p:xfrm>
        <a:graphic>
          <a:graphicData uri="http://schemas.openxmlformats.org/drawingml/2006/table">
            <a:tbl>
              <a:tblPr/>
              <a:tblGrid>
                <a:gridCol w="1733400"/>
                <a:gridCol w="2278080"/>
                <a:gridCol w="2232000"/>
                <a:gridCol w="2159280"/>
              </a:tblGrid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онь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ен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в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лец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ля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лец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а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зерог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изнецы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сы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олей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к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рпион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ыбы</a:t>
                      </a:r>
                      <a:endParaRPr b="0" lang="en-US" sz="4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457200" y="274680"/>
            <a:ext cx="19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ВЕН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877" name="Picture 3" descr="j0219060"/>
          <p:cNvPicPr/>
          <p:nvPr/>
        </p:nvPicPr>
        <p:blipFill>
          <a:blip r:embed="rId1"/>
          <a:stretch/>
        </p:blipFill>
        <p:spPr>
          <a:xfrm>
            <a:off x="2730600" y="0"/>
            <a:ext cx="675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18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Л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Picture 3" descr="j0219061"/>
          <p:cNvPicPr/>
          <p:nvPr/>
        </p:nvPicPr>
        <p:blipFill>
          <a:blip r:embed="rId1"/>
          <a:stretch/>
        </p:blipFill>
        <p:spPr>
          <a:xfrm>
            <a:off x="2870280" y="260280"/>
            <a:ext cx="650232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34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ЛИЗНЕ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Picture 3" descr="j0219062"/>
          <p:cNvPicPr/>
          <p:nvPr/>
        </p:nvPicPr>
        <p:blipFill>
          <a:blip r:embed="rId1"/>
          <a:stretch/>
        </p:blipFill>
        <p:spPr>
          <a:xfrm>
            <a:off x="3179880" y="476280"/>
            <a:ext cx="628812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157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j0219063"/>
          <p:cNvPicPr/>
          <p:nvPr/>
        </p:nvPicPr>
        <p:blipFill>
          <a:blip r:embed="rId1"/>
          <a:stretch/>
        </p:blipFill>
        <p:spPr>
          <a:xfrm>
            <a:off x="2805120" y="0"/>
            <a:ext cx="6757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ЗВЕЗДНЫЙ КАЛЕЙДОСКО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47680" y="2000160"/>
          <a:ext cx="8610480" cy="4454640"/>
        </p:xfrm>
        <a:graphic>
          <a:graphicData uri="http://schemas.openxmlformats.org/drawingml/2006/table">
            <a:tbl>
              <a:tblPr/>
              <a:tblGrid>
                <a:gridCol w="1434960"/>
                <a:gridCol w="1435320"/>
                <a:gridCol w="1434960"/>
                <a:gridCol w="1434960"/>
                <a:gridCol w="1435320"/>
                <a:gridCol w="14349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ЕМЛЯ</a:t>
                      </a:r>
                      <a:endParaRPr b="0" lang="en-US" sz="2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ЕТЫ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ОЛНЦЕ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ВЕЗДИЯ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СВОЕНИЕ КОСМОСА</a:t>
                      </a:r>
                      <a:endParaRPr b="0" lang="en-US" sz="2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1" name="Text Box 125">
            <a:hlinkClick r:id="rId26" action="ppaction://hlinksldjump"/>
          </p:cNvPr>
          <p:cNvSpPr/>
          <p:nvPr/>
        </p:nvSpPr>
        <p:spPr>
          <a:xfrm>
            <a:off x="3700080" y="62784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198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Picture 3" descr="j0219064"/>
          <p:cNvPicPr/>
          <p:nvPr/>
        </p:nvPicPr>
        <p:blipFill>
          <a:blip r:embed="rId1"/>
          <a:stretch/>
        </p:blipFill>
        <p:spPr>
          <a:xfrm>
            <a:off x="2806560" y="0"/>
            <a:ext cx="675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11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Picture 3" descr="j0219065"/>
          <p:cNvPicPr/>
          <p:nvPr/>
        </p:nvPicPr>
        <p:blipFill>
          <a:blip r:embed="rId1"/>
          <a:stretch/>
        </p:blipFill>
        <p:spPr>
          <a:xfrm>
            <a:off x="2692440" y="0"/>
            <a:ext cx="675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8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Е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Picture 3" descr="j0219066"/>
          <p:cNvPicPr/>
          <p:nvPr/>
        </p:nvPicPr>
        <p:blipFill>
          <a:blip r:embed="rId1"/>
          <a:stretch/>
        </p:blipFill>
        <p:spPr>
          <a:xfrm>
            <a:off x="2771640" y="404640"/>
            <a:ext cx="637236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27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РПИ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Picture 3" descr="j0219067"/>
          <p:cNvPicPr/>
          <p:nvPr/>
        </p:nvPicPr>
        <p:blipFill>
          <a:blip r:embed="rId1"/>
          <a:stretch/>
        </p:blipFill>
        <p:spPr>
          <a:xfrm>
            <a:off x="2784600" y="404640"/>
            <a:ext cx="63594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552240"/>
            <a:ext cx="31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РЕЛ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j0219068"/>
          <p:cNvPicPr/>
          <p:nvPr/>
        </p:nvPicPr>
        <p:blipFill>
          <a:blip r:embed="rId1"/>
          <a:stretch/>
        </p:blipFill>
        <p:spPr>
          <a:xfrm>
            <a:off x="2387520" y="190440"/>
            <a:ext cx="704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66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ЗЕР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Picture 3" descr="j0219069"/>
          <p:cNvPicPr/>
          <p:nvPr/>
        </p:nvPicPr>
        <p:blipFill>
          <a:blip r:embed="rId1"/>
          <a:stretch/>
        </p:blipFill>
        <p:spPr>
          <a:xfrm>
            <a:off x="2387520" y="0"/>
            <a:ext cx="675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0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ДО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Picture 3" descr="j0219070"/>
          <p:cNvPicPr/>
          <p:nvPr/>
        </p:nvPicPr>
        <p:blipFill>
          <a:blip r:embed="rId1"/>
          <a:stretch/>
        </p:blipFill>
        <p:spPr>
          <a:xfrm>
            <a:off x="2386080" y="0"/>
            <a:ext cx="6757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11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Ы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Picture 3" descr="j0219071"/>
          <p:cNvPicPr/>
          <p:nvPr/>
        </p:nvPicPr>
        <p:blipFill>
          <a:blip r:embed="rId1"/>
          <a:stretch/>
        </p:blipFill>
        <p:spPr>
          <a:xfrm>
            <a:off x="2387520" y="0"/>
            <a:ext cx="6756480" cy="6858000"/>
          </a:xfrm>
          <a:prstGeom prst="rect">
            <a:avLst/>
          </a:prstGeom>
          <a:ln w="0">
            <a:noFill/>
          </a:ln>
        </p:spPr>
      </p:pic>
      <p:sp>
        <p:nvSpPr>
          <p:cNvPr id="900" name="Text Box 4"/>
          <p:cNvSpPr/>
          <p:nvPr/>
        </p:nvSpPr>
        <p:spPr>
          <a:xfrm>
            <a:off x="299412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ВОЕНИЕ КОСМОС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3"/>
          <p:cNvSpPr/>
          <p:nvPr/>
        </p:nvSpPr>
        <p:spPr>
          <a:xfrm>
            <a:off x="914400" y="209556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огда и кем был совершен первый полет в космос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3" name="Text Box 4"/>
          <p:cNvSpPr/>
          <p:nvPr/>
        </p:nvSpPr>
        <p:spPr>
          <a:xfrm>
            <a:off x="3658320" y="6033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1026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5" name="Text Box 1027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6" name="Rectangle 1058">
            <a:hlinkClick r:id="rId3" action="ppaction://hlinksldjump"/>
          </p:cNvPr>
          <p:cNvSpPr/>
          <p:nvPr/>
        </p:nvSpPr>
        <p:spPr>
          <a:xfrm>
            <a:off x="1276200" y="6438960"/>
            <a:ext cx="6458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7" name="Text Box 1059"/>
          <p:cNvSpPr/>
          <p:nvPr/>
        </p:nvSpPr>
        <p:spPr>
          <a:xfrm>
            <a:off x="383760" y="603360"/>
            <a:ext cx="846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12 апреля 1961г Юрий Гагарин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908" name="Picture 1060" descr="3"/>
          <p:cNvPicPr/>
          <p:nvPr/>
        </p:nvPicPr>
        <p:blipFill>
          <a:blip r:embed="rId4"/>
          <a:stretch/>
        </p:blipFill>
        <p:spPr>
          <a:xfrm>
            <a:off x="1701720" y="1582560"/>
            <a:ext cx="5878440" cy="451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1233360" y="2108160"/>
            <a:ext cx="670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1108080" y="2008080"/>
            <a:ext cx="723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ем Земля отличается от других планет системы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ВОЕНИЕ КОСМОС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3"/>
          <p:cNvSpPr/>
          <p:nvPr/>
        </p:nvSpPr>
        <p:spPr>
          <a:xfrm>
            <a:off x="914400" y="259092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еречислите ученых основоположников ракетостроения и космонавтики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4" name="Rectangle 12"/>
          <p:cNvSpPr/>
          <p:nvPr/>
        </p:nvSpPr>
        <p:spPr>
          <a:xfrm>
            <a:off x="1276200" y="6458040"/>
            <a:ext cx="6458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5" name="Text Box 14"/>
          <p:cNvSpPr/>
          <p:nvPr/>
        </p:nvSpPr>
        <p:spPr>
          <a:xfrm>
            <a:off x="-453960" y="0"/>
            <a:ext cx="599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. Э. Циолковский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. П. Королев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916" name="Picture 15" descr="Циолковский"/>
          <p:cNvPicPr/>
          <p:nvPr/>
        </p:nvPicPr>
        <p:blipFill>
          <a:blip r:embed="rId1"/>
          <a:stretch/>
        </p:blipFill>
        <p:spPr>
          <a:xfrm>
            <a:off x="5981760" y="2089080"/>
            <a:ext cx="316224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ВОЕНИЕ КОСМОС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3"/>
          <p:cNvSpPr/>
          <p:nvPr/>
        </p:nvSpPr>
        <p:spPr>
          <a:xfrm>
            <a:off x="933480" y="222876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3658320" y="6033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380880" y="216540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то была первая женщина-космонавт? В каком году был совершен ее полет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1026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2" name="Text Box 1027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3" name="Rectangle 1035"/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4" name="Text Box 1037"/>
          <p:cNvSpPr/>
          <p:nvPr/>
        </p:nvSpPr>
        <p:spPr>
          <a:xfrm>
            <a:off x="307800" y="409680"/>
            <a:ext cx="864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алентина Терешкова. 16 июня 1963 года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925" name="Picture 9" descr="терешкова"/>
          <p:cNvPicPr/>
          <p:nvPr/>
        </p:nvPicPr>
        <p:blipFill>
          <a:blip r:embed="rId1"/>
          <a:stretch/>
        </p:blipFill>
        <p:spPr>
          <a:xfrm>
            <a:off x="2225520" y="2087640"/>
            <a:ext cx="422136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ВОЕНИЕ КОСМОС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1257480" y="2533680"/>
            <a:ext cx="7619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8" name="Text Box 4"/>
          <p:cNvSpPr/>
          <p:nvPr/>
        </p:nvSpPr>
        <p:spPr>
          <a:xfrm>
            <a:off x="4079520" y="6156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655560" y="2070000"/>
            <a:ext cx="8418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огда был запущен первый искусственный спутник Земли?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1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2" name="Text Box 5"/>
          <p:cNvSpPr/>
          <p:nvPr/>
        </p:nvSpPr>
        <p:spPr>
          <a:xfrm>
            <a:off x="1927080" y="2050920"/>
            <a:ext cx="51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423720" y="927000"/>
            <a:ext cx="846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4 октября 1957 года СССР запускает первый искусственный спутник Земли.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ВОЕНИЕ КОСМОС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"/>
          <p:cNvSpPr/>
          <p:nvPr/>
        </p:nvSpPr>
        <p:spPr>
          <a:xfrm>
            <a:off x="3927240" y="6156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374760" y="1803240"/>
            <a:ext cx="817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то такое первая, вторая и третья космические скорости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2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9" name="Text Box 3"/>
          <p:cNvSpPr/>
          <p:nvPr/>
        </p:nvSpPr>
        <p:spPr>
          <a:xfrm>
            <a:off x="7634520" y="619272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940" name="Picture 16" descr="первая космическая скорость и спутники"/>
          <p:cNvPicPr/>
          <p:nvPr/>
        </p:nvPicPr>
        <p:blipFill>
          <a:blip r:embed="rId1"/>
          <a:stretch/>
        </p:blipFill>
        <p:spPr>
          <a:xfrm>
            <a:off x="0" y="0"/>
            <a:ext cx="3241800" cy="3241800"/>
          </a:xfrm>
          <a:prstGeom prst="rect">
            <a:avLst/>
          </a:prstGeom>
          <a:ln w="0">
            <a:noFill/>
          </a:ln>
        </p:spPr>
      </p:pic>
      <p:sp>
        <p:nvSpPr>
          <p:cNvPr id="941" name="Text Box 17"/>
          <p:cNvSpPr/>
          <p:nvPr/>
        </p:nvSpPr>
        <p:spPr>
          <a:xfrm>
            <a:off x="3363840" y="720720"/>
            <a:ext cx="5499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ервая – вокруг Земли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Вторая – в Солнечной системе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Третья – за пределами солнечной системы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943" name="Text Box 4"/>
          <p:cNvSpPr/>
          <p:nvPr/>
        </p:nvSpPr>
        <p:spPr>
          <a:xfrm>
            <a:off x="3285360" y="6033960"/>
            <a:ext cx="265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5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3736440" y="62784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119160" y="61326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8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538880" y="52704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0" name="Text Box 9"/>
          <p:cNvSpPr/>
          <p:nvPr/>
        </p:nvSpPr>
        <p:spPr>
          <a:xfrm>
            <a:off x="1967760" y="450720"/>
            <a:ext cx="47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аличием жизни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01" name="Picture 10" descr="Earth from Apollo"/>
          <p:cNvPicPr/>
          <p:nvPr/>
        </p:nvPicPr>
        <p:blipFill>
          <a:blip r:embed="rId4"/>
          <a:stretch/>
        </p:blipFill>
        <p:spPr>
          <a:xfrm>
            <a:off x="1292400" y="1560600"/>
            <a:ext cx="57164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50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3736440" y="62784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954" name="Picture 5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Picture 4" descr="spac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8" name="Text Box 5"/>
          <p:cNvSpPr/>
          <p:nvPr/>
        </p:nvSpPr>
        <p:spPr>
          <a:xfrm>
            <a:off x="611280" y="1413000"/>
            <a:ext cx="8156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лишь коротенькая виртуальная экскурсия в мир Вселенно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обще же ,зрелище ночного звездного неба не может не завораживать  любого ,чья душа еще не зачерствела окончательно.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поднимает голову ,и перед ним открывается таинственная глубина Вечности. 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туда, из этих бескрайних глубин, все в этом мире и началось.       И продолжается…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Georgia"/>
              </a:rPr>
              <a:t>Задумайте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0" y="10760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Старше всех вещей – </a:t>
            </a:r>
            <a:r>
              <a:rPr b="0" i="1" lang="ru-RU" sz="4000" spc="-1" strike="noStrike">
                <a:solidFill>
                  <a:srgbClr val="ffff00"/>
                </a:solidFill>
                <a:latin typeface="Georgia"/>
              </a:rPr>
              <a:t>Бог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, ибо он не рожде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Прекраснее всего – </a:t>
            </a:r>
            <a:r>
              <a:rPr b="0" i="1" lang="ru-RU" sz="4000" spc="-1" strike="noStrike">
                <a:solidFill>
                  <a:srgbClr val="ffff00"/>
                </a:solidFill>
                <a:latin typeface="Georgia"/>
              </a:rPr>
              <a:t>Космос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, ибо он творение Б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Быстрее всего – </a:t>
            </a:r>
            <a:r>
              <a:rPr b="0" i="1" lang="ru-RU" sz="4000" spc="-1" strike="noStrike">
                <a:solidFill>
                  <a:srgbClr val="ffff00"/>
                </a:solidFill>
                <a:latin typeface="Georgia"/>
              </a:rPr>
              <a:t>мысль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, ибо она бежит без останов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Больше всего – </a:t>
            </a:r>
            <a:r>
              <a:rPr b="0" i="1" lang="ru-RU" sz="4000" spc="-1" strike="noStrike">
                <a:solidFill>
                  <a:srgbClr val="ffff00"/>
                </a:solidFill>
                <a:latin typeface="Georgia"/>
              </a:rPr>
              <a:t>пространство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, ибо оно вмещает вс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Мудрее всего – </a:t>
            </a:r>
            <a:r>
              <a:rPr b="0" i="1" lang="ru-RU" sz="4000" spc="-1" strike="noStrike">
                <a:solidFill>
                  <a:srgbClr val="ffff00"/>
                </a:solidFill>
                <a:latin typeface="Georgia"/>
              </a:rPr>
              <a:t>время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, ибо оно обнаруживает вс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Фалес   Миле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Eclipse of the Sun"/>
          <p:cNvPicPr/>
          <p:nvPr/>
        </p:nvPicPr>
        <p:blipFill>
          <a:blip r:embed="rId1"/>
          <a:stretch/>
        </p:blipFill>
        <p:spPr>
          <a:xfrm>
            <a:off x="-3240" y="-144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ff"/>
                </a:solidFill>
                <a:latin typeface="Times New Roman"/>
              </a:rPr>
              <a:t>Затмение Солнц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2" descr="Earth Cyclone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0" y="0"/>
            <a:ext cx="31240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ff"/>
                </a:solidFill>
                <a:latin typeface="Times New Roman"/>
              </a:rPr>
              <a:t>Циклон на Зем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2" descr="Russian Cosmonaut on a Spacewalk"/>
          <p:cNvPicPr/>
          <p:nvPr/>
        </p:nvPicPr>
        <p:blipFill>
          <a:blip r:embed="rId1"/>
          <a:stretch/>
        </p:blipFill>
        <p:spPr>
          <a:xfrm>
            <a:off x="-3240" y="-1440"/>
            <a:ext cx="9147240" cy="6856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ff"/>
                </a:solidFill>
                <a:latin typeface="Times New Roman"/>
              </a:rPr>
              <a:t>Русский космонавт в космо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Astronaut, Spacewalk, and Earth"/>
          <p:cNvPicPr/>
          <p:nvPr/>
        </p:nvPicPr>
        <p:blipFill>
          <a:blip r:embed="rId1"/>
          <a:stretch/>
        </p:blipFill>
        <p:spPr>
          <a:xfrm>
            <a:off x="-3240" y="-144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0" y="0"/>
            <a:ext cx="544824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ff"/>
                </a:solidFill>
                <a:latin typeface="Times New Roman"/>
              </a:rPr>
              <a:t>Космическая прогу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алак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0" y="133308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е, все звезды – всё это представители огромной системы звёзд под названием Галактика. Существуют миллионы других галактик разнообразных форм и размеров, они разбросаны в космическом пространстве и разделяются бескрайными пустыми безднами. Точно так же, как и звёзды группируются в скопления, галактики тоже образуют скопления, а мощные скопления скоплений называют сверхскоплениями. Наша галактика входит в скопление, называемое Местной группой. В поперечнике оно достигает 5 000 000 световых лет. Это скопление содержит около 30 галактик, и наша- одна из самых больш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209160" y="2089080"/>
            <a:ext cx="83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ак определили радиус Земли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2" descr="гал Сомбреро"/>
          <p:cNvPicPr/>
          <p:nvPr/>
        </p:nvPicPr>
        <p:blipFill>
          <a:blip r:embed="rId1"/>
          <a:stretch/>
        </p:blipFill>
        <p:spPr>
          <a:xfrm>
            <a:off x="433440" y="387360"/>
            <a:ext cx="3168720" cy="20271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3" descr="NGC6946"/>
          <p:cNvPicPr/>
          <p:nvPr/>
        </p:nvPicPr>
        <p:blipFill>
          <a:blip r:embed="rId2"/>
          <a:stretch/>
        </p:blipFill>
        <p:spPr>
          <a:xfrm>
            <a:off x="5560920" y="372960"/>
            <a:ext cx="3025800" cy="2051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квазар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210672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5"/>
          <p:cNvSpPr/>
          <p:nvPr/>
        </p:nvSpPr>
        <p:spPr>
          <a:xfrm>
            <a:off x="0" y="2419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же тот, у кого не  очень богатое воображ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ожет заметить ,что в космических высотах неустанно работают великие художники, скульпторы, зодчие, творящие разреженным газом , космопылью, отраженным светом.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975" name="Picture 6" descr="galaxy"/>
          <p:cNvPicPr/>
          <p:nvPr/>
        </p:nvPicPr>
        <p:blipFill>
          <a:blip r:embed="rId4"/>
          <a:stretch/>
        </p:blipFill>
        <p:spPr>
          <a:xfrm>
            <a:off x="539640" y="4262400"/>
            <a:ext cx="2952720" cy="21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орма туманности непредсказу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Picture 3" descr="туманность бабочкаn159_hst"/>
          <p:cNvPicPr/>
          <p:nvPr/>
        </p:nvPicPr>
        <p:blipFill>
          <a:blip r:embed="rId1"/>
          <a:stretch/>
        </p:blipFill>
        <p:spPr>
          <a:xfrm>
            <a:off x="395280" y="1413000"/>
            <a:ext cx="3745080" cy="2346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рыб"/>
          <p:cNvPicPr/>
          <p:nvPr/>
        </p:nvPicPr>
        <p:blipFill>
          <a:blip r:embed="rId2"/>
          <a:stretch/>
        </p:blipFill>
        <p:spPr>
          <a:xfrm>
            <a:off x="4859280" y="1413000"/>
            <a:ext cx="3960720" cy="23652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5" descr="кон"/>
          <p:cNvPicPr/>
          <p:nvPr/>
        </p:nvPicPr>
        <p:blipFill>
          <a:blip r:embed="rId3"/>
          <a:stretch/>
        </p:blipFill>
        <p:spPr>
          <a:xfrm>
            <a:off x="395280" y="4005360"/>
            <a:ext cx="3672000" cy="2519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6" descr="gal12"/>
          <p:cNvPicPr/>
          <p:nvPr/>
        </p:nvPicPr>
        <p:blipFill>
          <a:blip r:embed="rId4"/>
          <a:stretch/>
        </p:blipFill>
        <p:spPr>
          <a:xfrm>
            <a:off x="4859280" y="4076640"/>
            <a:ext cx="3889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зика 9 класс Громов С.В. М., Просвещение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строномия 11 Левитан Е. П. М., Просвещение 19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онная энциклопед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5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8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1809720" y="1612800"/>
            <a:ext cx="544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лину экватора разделили на 2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3"/>
              <p:cNvSpPr txBox="1"/>
              <p:nvPr/>
            </p:nvSpPr>
            <p:spPr>
              <a:xfrm>
                <a:off x="4502160" y="3359160"/>
                <a:ext cx="13968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14"/>
              <p:cNvSpPr txBox="1"/>
              <p:nvPr/>
            </p:nvSpPr>
            <p:spPr>
              <a:xfrm>
                <a:off x="6540480" y="2368440"/>
                <a:ext cx="95904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15"/>
              <p:cNvSpPr txBox="1"/>
              <p:nvPr/>
            </p:nvSpPr>
            <p:spPr>
              <a:xfrm>
                <a:off x="2244600" y="3340080"/>
                <a:ext cx="496260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РАСЛОВА ЕКАТЕРИНА СЕРГЕЕВНА</dc:creator>
  <dc:description/>
  <dc:language>en-US</dc:language>
  <cp:lastModifiedBy>Катя</cp:lastModifiedBy>
  <dcterms:modified xsi:type="dcterms:W3CDTF">2012-01-29T11:50:23Z</dcterms:modified>
  <cp:revision>100</cp:revision>
  <dc:subject/>
  <dc:title>Презентация PowerPoint</dc:title>
</cp:coreProperties>
</file>