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8EE8-35CE-44A1-9305-8F7BD3F9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20C3-21D6-419B-A14A-752060E3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743E-7A4B-497E-ACBA-EEA730A4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3192-DB0D-4D24-8847-C38BDE08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1DFD-4B0E-43D9-99AA-F0E26C5F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9770-4B25-41ED-AC4E-A989A2A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D0EC-C713-417A-9821-B0871B7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2E0-E9E6-43EE-8CC2-BCBC986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67C6-90B7-4010-B4DA-B416F8A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33F-5B9D-4C36-84D0-F922E86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685-D08B-45F1-925E-818AC70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807F-EF46-4DEB-8793-6722DC2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F16-E806-4171-A255-FFE7F06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548C-5271-4E66-ADED-64664B7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1F4-A896-4448-967F-5F31903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45DE-2176-41B6-899D-CF570ED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528-E20B-4D7C-BC4E-CA698513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E9EE-1353-49B9-8F23-2870E396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5987-E37F-4009-A2F0-AB3828BB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6788-3574-4D50-B354-B2EB7AE2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2800-0684-4530-BBC6-A92CD3B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F617-668F-47A1-8833-1660D87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13B7-A38D-462B-86AE-C4FB510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E744-2D83-4FC0-9303-D1BBCBCE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108-982A-44BE-BA97-289C1CDFD3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604-90B7-46CA-8FAD-C1F20491FC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060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Georgia"/>
              </a:rPr>
              <a:t>Комплексный анализ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500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и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енствование навыков выполнения тестовых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навыков анализа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ксное повторение учеб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енствование навыков написания сочинения на основе предложенного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02136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икрина В.А., учитель русского языка и литературы МБОУ «Гимназия №3» г. Чист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48360" y="4437000"/>
            <a:ext cx="374472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Константин Александрович Фе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892 -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094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85080" cy="491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5661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м № 81 по ул.Бутлерова, в котором жил К.А. Федин жил с октября 1941 г. по  май 1942 г. и с октября 1942 г. по январь 194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68360" y="6922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Georgia"/>
              </a:rPr>
              <a:t>Все для фронта, все для побе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9520" r="0" b="0"/>
          <a:stretch/>
        </p:blipFill>
        <p:spPr>
          <a:xfrm>
            <a:off x="5364000" y="1484280"/>
            <a:ext cx="3556080" cy="254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80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360" y="393372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1052640"/>
            <a:ext cx="82072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вглядитесь в первого встречного человека – пусть это будет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ученик ремесленной школ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бегущий к началу работы за своим станком, пусть – колхозник, чуть свет привезший воз хлеба на склад, пусть – молодая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вушка из Энского зав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- вглядитесь в любого человека: как все озабочены, как торопится каждый к своей цели, как серьезны и значительны их взгля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) От нашей молодежи зависит, чтобы волжский и камский флот, неустанно помогавший обороне Сталинграда, получил необходимую опору в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работе механического за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) От нашей молодежи, от наших девушек зависит, чтобы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раненые в госпиталя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оправлялись лучше и скор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303720" cy="460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27280" y="5373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Скороходов, будущий автор романа «Крутые г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39:39Z</dcterms:created>
  <dc:creator>Home</dc:creator>
  <dc:description/>
  <dc:language>en-US</dc:language>
  <cp:lastModifiedBy>Admin</cp:lastModifiedBy>
  <dcterms:modified xsi:type="dcterms:W3CDTF">2012-02-05T13:43:57Z</dcterms:modified>
  <cp:revision>9</cp:revision>
  <dc:subject/>
  <dc:title>Слайд 1</dc:title>
</cp:coreProperties>
</file>