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B5F9C-06E7-47ED-9FE1-C83055570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F21F8-DC0F-4CF1-8739-686D2C3B7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2142F-61D0-4A7C-886C-E4C71D129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3B9B0-F1A7-45E6-A76A-213E9670E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4FD1D-8A8E-42CC-985B-D9CC98FD3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C64EF-1A40-4F73-9A0E-58A7F290E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5CF14-BBCF-435C-B19F-ED03016C0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1A822-73DD-4A00-A6D9-452B7EC4E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5721C-67F8-43F6-9AD2-443C45C9B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1B98A-2417-4ACB-97BF-535D7F260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152BB-8991-43CE-9659-71387559A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C7970-AFEF-42B5-B169-7F1021F56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5B5D4-4894-4261-B48F-98E664B97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5BE0D-D5D6-4AA5-A488-DF61A49B9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420F8-14A2-44B8-8AEF-2FA9A8019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1F7BA-2F6B-4BF3-99DC-46E318101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731C6-DD2E-4EF1-B6D6-9381F341A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D65B8-7161-441B-8714-B26E9E0EE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20C00-BB85-42D2-A90F-921B9E05F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6FD0D-F177-4B6B-8294-E698CA2DE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502AB-E704-4F9E-BC7A-66762F9DA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413A6-EA87-4BB9-AEDF-FF260A247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2E245-985E-4225-88FB-36A92F5AE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BC9C2-45D7-4358-BBAE-97614B814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8A7B5-C69D-462F-9504-65389492099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E7908-E84F-466A-8B55-709FF761AA0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Компьютерная и детская безопасность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одительское собра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 клас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л. руководитель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Ложкина Лидия Валентин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Находите время для работы – это условие успеха.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Находите время для размышлений – это источник силы.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Находите время для игры – это секрет молодости.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Находите время для чтения – это основа знаний.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Находите время для дружбы – это условие счастья.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Находите время для мечты – это путь к звёздам.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Находите время для любви – это истинная радость жизни.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Находите время для веселья – это муза души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88930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Компьютерной проблемы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не существует. Есть проблемы отношений со сверстниками и проблемы общения в семье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Польза компьютера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мощник школьн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громный объём учебного матери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мение поиска информ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Работа с техникой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установка программ, создание собственных проектов, работа в программ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аниматься самообразованием: электронные репетиторы, интеллектуальные иг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Вред компьютера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80360" cy="46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рушение зрения, концентрированное внимание пользователя в течении долгого време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алоподвижность детей и взросл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лучение дозы электромагнитного излуч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омпьютерная и Интернет зависим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ереутомление ребён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Компьютерная игра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480" y="1341360"/>
            <a:ext cx="7925040" cy="46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Игры типа «Убей их всех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9" descr="йй"/>
          <p:cNvPicPr/>
          <p:nvPr/>
        </p:nvPicPr>
        <p:blipFill>
          <a:blip r:embed="rId1"/>
          <a:stretch/>
        </p:blipFill>
        <p:spPr>
          <a:xfrm>
            <a:off x="611280" y="1989000"/>
            <a:ext cx="3058920" cy="25196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5" descr=""/>
          <p:cNvPicPr/>
          <p:nvPr/>
        </p:nvPicPr>
        <p:blipFill>
          <a:blip r:embed="rId2"/>
          <a:stretch/>
        </p:blipFill>
        <p:spPr>
          <a:xfrm>
            <a:off x="5003640" y="1989000"/>
            <a:ext cx="3384720" cy="24480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4" descr=""/>
          <p:cNvPicPr/>
          <p:nvPr/>
        </p:nvPicPr>
        <p:blipFill>
          <a:blip r:embed="rId3"/>
          <a:stretch/>
        </p:blipFill>
        <p:spPr>
          <a:xfrm>
            <a:off x="2627280" y="4292640"/>
            <a:ext cx="3348000" cy="240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600" spc="-1" strike="noStrike">
                <a:solidFill>
                  <a:srgbClr val="ffffff"/>
                </a:solidFill>
                <a:latin typeface="Arial"/>
              </a:rPr>
              <a:t>Стратегии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Picture 10" descr="screen5"/>
          <p:cNvPicPr/>
          <p:nvPr/>
        </p:nvPicPr>
        <p:blipFill>
          <a:blip r:embed="rId1"/>
          <a:stretch/>
        </p:blipFill>
        <p:spPr>
          <a:xfrm>
            <a:off x="179280" y="1052640"/>
            <a:ext cx="5524560" cy="44193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1" descr="screen3"/>
          <p:cNvPicPr/>
          <p:nvPr/>
        </p:nvPicPr>
        <p:blipFill>
          <a:blip r:embed="rId2"/>
          <a:stretch/>
        </p:blipFill>
        <p:spPr>
          <a:xfrm>
            <a:off x="4211640" y="2708280"/>
            <a:ext cx="468144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CyrillicHover"/>
              </a:rPr>
              <a:t>Обучающие и развивающие игры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Picture 13" descr=""/>
          <p:cNvPicPr/>
          <p:nvPr/>
        </p:nvPicPr>
        <p:blipFill>
          <a:blip r:embed="rId1"/>
          <a:stretch/>
        </p:blipFill>
        <p:spPr>
          <a:xfrm>
            <a:off x="0" y="1125360"/>
            <a:ext cx="5892840" cy="44197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5" descr=""/>
          <p:cNvPicPr/>
          <p:nvPr/>
        </p:nvPicPr>
        <p:blipFill>
          <a:blip r:embed="rId2"/>
          <a:stretch/>
        </p:blipFill>
        <p:spPr>
          <a:xfrm>
            <a:off x="4140360" y="2997360"/>
            <a:ext cx="4752720" cy="38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Факторы зависимости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cc"/>
                </a:solidFill>
                <a:latin typeface="Arial"/>
              </a:rPr>
              <a:t>Сильное влечение к П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cc"/>
                </a:solidFill>
                <a:latin typeface="Arial"/>
              </a:rPr>
              <a:t>Нарушение способности контроля самого се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cc"/>
                </a:solidFill>
                <a:latin typeface="Arial"/>
              </a:rPr>
              <a:t>Смена физиологического состоя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cc"/>
                </a:solidFill>
                <a:latin typeface="Arial"/>
              </a:rPr>
              <a:t>Желание увеличить врем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cc"/>
                </a:solidFill>
                <a:latin typeface="Arial"/>
              </a:rPr>
              <a:t>Отказ от других альтернатив в пользу П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cc"/>
                </a:solidFill>
                <a:latin typeface="Arial"/>
              </a:rPr>
              <a:t>Невозможность прекратить занят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Памятка родителям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4000" y="1341360"/>
            <a:ext cx="766764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ля того чтобы родители могли контролировать использование ребенком компьютера, они должны сами хотя бы на элементарном уровне уметь им пользоваться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Ребенок не должен играть в компьютерные игры перед сном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Через каждые 20 — 30 минут работы на компьютере необходимо делать перерыв; гимнастику для глаз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 Ребенок не должен работать на компьютере более 1,5 — 2 часо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. Родители должны контролировать приобретение ребенком компьютерных дисков с играми, чтобы они не причинили вреда детскому здоровью и психике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. Если ребенок не имеет компьютера дома и посещает компьютерный клуб, родители должны знать в каком клубе он бывает и с кем там общается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6T12:00:05Z</dcterms:created>
  <dc:creator>LV</dc:creator>
  <dc:description/>
  <dc:language>en-US</dc:language>
  <cp:lastModifiedBy>User</cp:lastModifiedBy>
  <dcterms:modified xsi:type="dcterms:W3CDTF">2012-02-05T05:29:49Z</dcterms:modified>
  <cp:revision>4</cp:revision>
  <dc:subject/>
  <dc:title>Компьютерная и детская безопасность</dc:title>
</cp:coreProperties>
</file>