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F56-4E38-4367-9DAF-7E68219F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4E2-694A-4CA0-925E-0611611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41FBB-85D2-41DF-A63C-0930542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8EB99-41CB-4D5C-A6DD-51E3E519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D384C-A066-4EB3-BF4F-8C72B711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9CCF6-3F1E-4298-A5D4-B61AE0F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F790B-510A-46A1-B422-496B593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8436-C466-451A-8BC9-8E65B2B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6DE08-FF45-473E-8C75-81274D8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F939F-F3AF-42DB-BCE5-5D2BE680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BF8D0-DD61-49AF-A4E4-ACCD454A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2FE-C509-4227-A44F-0601AFB4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A7A-D4D5-479D-BA17-D736E350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F3A-994E-4AC7-A888-895C5091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87F-582E-4695-BCB2-1CFD2D4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FDD-AE3F-4F4E-89AF-4D4C4E49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F97D-2997-4E38-B0D6-98B9D86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32CB-0026-4F2F-96B9-FD1F614C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7DCB-AC36-44E8-BDD5-DF07C7F4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E52B-14EC-4754-9873-F032BCD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BE1-B168-4B62-80B0-702833D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5D51-9561-4CDC-B980-7E43423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442B-ED9A-4951-B143-7B1B4E8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490B-1664-4388-876A-42D4D5FC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EB53-F4A6-4231-A857-889E8C1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4BF7-3774-43D1-82DA-317704AB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181A-D669-4EC0-B93B-FFBC24FE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B807-337D-4730-8C93-CEBABDC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119C-26CC-4199-B353-C6E989E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E819-280F-429F-8F4A-C6BE03B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3CC2-CCF2-4C0A-B8F2-604EA98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329-A240-4EE1-A554-E81B727A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E828-C12F-4E0C-A501-1F93810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90E9-C9CB-4D96-8D93-904890F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7CC3-86F1-449F-BB6E-BC932C2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D863-A0FD-498A-80F8-C7BE8AD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4A7B-A968-4F1B-8EF2-8033082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708B-5E6E-4F9A-886E-2D0EEDA2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957F-43EF-4FA9-97E5-44F026ED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F202-0695-4B1E-A147-F81EAC0B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160F-05DF-422D-A7FE-97859E0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DE2F-FFA8-4AC6-9A0B-81EF5DE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F16-7FC8-4D71-A3B4-564B4779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E018-7274-4B26-ABEC-C21790A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B588-70FF-4A8E-9F81-2DC9C05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19B7-AF53-4802-B078-649E213B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B839-CD36-4717-850F-FB03FD3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4CD6-2B5B-4B72-8573-8FAD6A7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1D34-EFA7-4D1F-81A2-7FE31F0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A9AB-5A02-4A4B-B1D0-57BBA70B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FDEB-11B4-4D0E-8F75-7EAD6536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B0E5-95BA-4891-9241-4D040A0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12D2-F6B8-4128-9FFE-F4B0C59A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BA9-D42C-4103-835B-411F756D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180A-3941-4B88-AB6B-C52A7B7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47B1-14B1-4193-9289-7DFD7B3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D273-A1AE-4B15-9851-0CE4B45E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835D-04D1-4B2C-AC4D-881BE75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F5D3-5FB7-4078-AE3F-C367B07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9E42-8971-4CF6-A791-C678B69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DF46-C0EA-4EC4-ABC9-880BF6A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85A8-6464-4CB5-8384-6E5D687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30B7-1AF8-4F9C-A024-2DB8E7E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88913-81A1-483C-89B7-F63A7B0F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365-284F-4FBD-B182-C8EF83C5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337B-38C8-42E1-ABA6-01941536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1145-E5AC-4B30-B4B7-39CD4DF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38EF-E440-4192-9A32-139F9AD9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70B9E-AC90-429C-BE97-A93BE75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60DB-45ED-4BF2-9EFD-F26ADF3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BB10-7AAC-40AF-BCF8-99A392E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1E01-F6E1-4CA1-88C9-6CEF466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BBFF-1DBB-46BB-B671-0BF136A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507A-F38D-4851-A9FA-86AE073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09DFF-A54D-4B03-9B68-A1AE70B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106-2E63-4CC1-9324-5C72CD0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1667-779A-4FC5-8671-79A5F04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B591-AE97-4BFF-AB70-28D0496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EE7C-5E33-4F5A-B8A0-08F36032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3F1C-A73B-4A8D-B4D6-A2CC1873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21D4-DBD9-4E06-87F7-7F409C9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7B90-49F1-4E0F-B75D-D1F8F77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E543-6ACD-402B-912F-1D9D5F6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6E37-AB3F-4844-A1CA-0EE0E318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590B-72DC-42D3-B3B3-099D871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6CE0-0548-423F-B784-C2926A4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66B-D5ED-478A-B661-1656ABD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D97C-13F8-41D1-B529-40419F2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1D93-7E0F-495B-A1D3-4AFF7FD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4022-1642-435A-8203-74B78DB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7733-3BD0-4328-A81C-4C4DB66D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3604-5D52-4614-B368-FA534CD8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E1E9-1E6D-4941-A5AF-CADCB1C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A386-C3FD-4762-8021-C7B8669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15CDA-72F6-44EE-8052-03AF678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7C7A-0024-4929-8064-E0557170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B010-5B75-4F32-BD1C-63DD1967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551-C42A-45FC-B056-68EC232E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0888-7803-4AAE-9C54-968DC23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A6A2-5FD6-4E93-ADFF-681698C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5E3C-0533-44E3-A954-04DDD09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E2C7-B313-45C6-9CD5-33B9EC6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D957-B6BD-43DA-BAF2-B61E79F7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FF1A-2A27-4964-A557-E22BE6BC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DB54-1277-45AE-8D9E-A58B3767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5745-AC7B-45C2-9048-4AE6C42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7B192-555F-4B0E-B30B-CF1BEDC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87FEB-0545-40DF-8C52-F3716D9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67F-DB60-497F-87F4-29A1ABF4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E94-E743-4366-B3DD-3D616691E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6A1-8207-44D1-B98F-4D4F9620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F9E-BBAF-4030-8267-C1F2A75B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DFEF-44A6-4DFE-ABDC-6BD0135FA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B04-41D8-4D02-99D0-99DD4EA1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37C4-506D-43AE-A2C7-0AF240CC7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7DA-0C58-43BE-86DB-4DAD8416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BF4-8685-448B-B079-2AED44D92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230px-Krylov_summer_garden[1]"/>
          <p:cNvPicPr/>
          <p:nvPr/>
        </p:nvPicPr>
        <p:blipFill>
          <a:blip r:embed="rId1"/>
          <a:stretch/>
        </p:blipFill>
        <p:spPr>
          <a:xfrm>
            <a:off x="2411280" y="476280"/>
            <a:ext cx="4424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0" descr="Martishka_zerkalo01.jpg"/>
          <p:cNvPicPr/>
          <p:nvPr/>
        </p:nvPicPr>
        <p:blipFill>
          <a:blip r:embed="rId1"/>
          <a:stretch/>
        </p:blipFill>
        <p:spPr>
          <a:xfrm>
            <a:off x="1042920" y="444600"/>
            <a:ext cx="7416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2" descr="i_kalend3-fev2004_3.jpg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2" descr="krylov13.gif"/>
          <p:cNvPicPr/>
          <p:nvPr/>
        </p:nvPicPr>
        <p:blipFill>
          <a:blip r:embed="rId1"/>
          <a:stretch/>
        </p:blipFill>
        <p:spPr>
          <a:xfrm>
            <a:off x="1835280" y="333360"/>
            <a:ext cx="48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9" descr="Martishka_ochki5.jpg"/>
          <p:cNvPicPr/>
          <p:nvPr/>
        </p:nvPicPr>
        <p:blipFill>
          <a:blip r:embed="rId1"/>
          <a:stretch/>
        </p:blipFill>
        <p:spPr>
          <a:xfrm>
            <a:off x="1308240" y="720720"/>
            <a:ext cx="6792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8" descr="Lebed_chuka_rak03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4" descr="5447cdb8a225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100_0129"/>
          <p:cNvPicPr/>
          <p:nvPr/>
        </p:nvPicPr>
        <p:blipFill>
          <a:blip r:embed="rId1"/>
          <a:stretch/>
        </p:blipFill>
        <p:spPr>
          <a:xfrm>
            <a:off x="914400" y="438120"/>
            <a:ext cx="7238880" cy="543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1" descr="16_793174388.jpg"/>
          <p:cNvPicPr/>
          <p:nvPr/>
        </p:nvPicPr>
        <p:blipFill>
          <a:blip r:embed="rId1"/>
          <a:stretch/>
        </p:blipFill>
        <p:spPr>
          <a:xfrm>
            <a:off x="250920" y="189000"/>
            <a:ext cx="4725720" cy="64087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4643280" y="1259640"/>
            <a:ext cx="43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е слых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живого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в жизни с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третился сво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смертные твор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 каждым г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м всё силь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Иса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00_0130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74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762480" y="2156040"/>
            <a:ext cx="759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arttrans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childhoodbook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ylov.ne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ugosvet.ru/articles/104/1010420/1010420a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eoples.ru/art/literature/poetry/oldage/ivan_krylov/index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ированные иллюстрации из детских книг «Басни Кры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Иван Андреевич Крылов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ликий  русский баснопис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сн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 это небольш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ихотворный рассказ, состоящий из двух ча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ое повеств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р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1187280" y="7884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з биографии писате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971640" y="2105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рождения       13 февраля 176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рождения  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мерти            21 ноября 18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смерти         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ство            Россий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 деятельности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р                         ба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Этапы жизненного пу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74г. – г.Тверь - служба   подканцеляристом в с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83г. – Санкт-Петербург - секретарь Казенной па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1г. – г.Рига - секретарь губерн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6г. – Санкт-Петербург - работа в журнале «Московский з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180px-Krylov_Grave_Summer[1]"/>
          <p:cNvPicPr/>
          <p:nvPr/>
        </p:nvPicPr>
        <p:blipFill>
          <a:blip r:embed="rId1"/>
          <a:stretch/>
        </p:blipFill>
        <p:spPr>
          <a:xfrm>
            <a:off x="225108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Известные басни Крыло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коза и 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 на пса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р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и Мо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1079640" y="72072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012000" y="3068640"/>
            <a:ext cx="2219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4" descr="стрекоза и муравей.jpg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01:45Z</dcterms:created>
  <dc:creator>1</dc:creator>
  <dc:description/>
  <dc:language>en-US</dc:language>
  <cp:lastModifiedBy>1</cp:lastModifiedBy>
  <dcterms:modified xsi:type="dcterms:W3CDTF">2012-02-05T14:02:32Z</dcterms:modified>
  <cp:revision>7</cp:revision>
  <dc:subject/>
  <dc:title>Слайд 1</dc:title>
</cp:coreProperties>
</file>