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40.png" ContentType="image/png"/>
  <Override PartName="/ppt/media/image11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38.jpeg" ContentType="image/jpeg"/>
  <Override PartName="/ppt/media/image44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CA8-AB80-4E38-A24C-FC34D55A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56C-C802-4ABA-BC87-A4DC1F56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6F9-5467-4A45-9D38-1681744F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059-AA82-48C6-9D18-5FE46F26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53F-3874-4D78-8053-B65A87D4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9F2-5A38-43AF-8F87-73A5761C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11E-3FB7-4574-B540-C2444746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308-93C1-4B5E-80F5-0E44C896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889-9209-4947-B935-C50866A3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83C-36E4-48B9-830C-6138B224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70B-05E7-46D0-92C7-6D69E7D6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AD9-4D80-4C36-872E-A7E081B2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10E1-07C5-4F17-B1E4-13AE278E9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03640" y="189000"/>
            <a:ext cx="5689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ДОУ «Детский сад №17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Мини- 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о духовно-эстетическому развитию до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редствами патриотического 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«ЭТО РУССКАЯ СТОРО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ЭТО РОДИНА М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600cc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уз. руководитель: Лариса Мо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АСХА КРАС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a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. Я. Шаинский – юбиля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Вместе весело шагать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f600"/>
                </a:solidFill>
                <a:latin typeface="Arial"/>
              </a:rPr>
              <a:t>«Щелкунч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«Семейное каф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f"/>
            </a:gs>
            <a:gs pos="100000">
              <a:srgbClr val="e1ff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c9d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400"/>
                </a:solidFill>
                <a:latin typeface="Arial"/>
              </a:rPr>
              <a:t>Капуст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1e1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0060"/>
                </a:solidFill>
                <a:latin typeface="Arial"/>
              </a:rPr>
              <a:t>Мы – будущие звезды сцен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ЕТИ- БУДУЩЕЕ РОССИ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eeff"/>
            </a:gs>
            <a:gs pos="50000">
              <a:srgbClr val="ffffff"/>
            </a:gs>
            <a:gs pos="100000">
              <a:srgbClr val="a7e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"Нельзя вырастить полноценного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без вос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в нем чувства прекрасного…"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Р.Таг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65160" y="1341360"/>
            <a:ext cx="3606840" cy="47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Спасибо </a:t>
            </a: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за </a:t>
            </a: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6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2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384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«Красота музыки име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своим источником крас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окружающего мира. Пу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ребенок чувствует крас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и восторгается ею, пу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в его сердце и в памяти н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всегда сохранятся образ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в которых воплощ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Род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В.А.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16360" y="1197000"/>
            <a:ext cx="410364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Что не заложено в душу с детства, потом невосполнимо. Именно родная культура должна лежать в основе личност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52640" y="2114640"/>
            <a:ext cx="5238720" cy="34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4716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Актуальность проекта:</a:t>
            </a:r>
            <a:br>
              <a:rPr sz="2800"/>
            </a:br>
            <a:br>
              <a:rPr sz="2800"/>
            </a:br>
            <a:r>
              <a:rPr b="1" i="1" lang="en-US" sz="1800" spc="-1" strike="noStrike">
                <a:solidFill>
                  <a:srgbClr val="6600cc"/>
                </a:solidFill>
                <a:latin typeface="Arial"/>
              </a:rPr>
              <a:t>Проект дает широкие возможности в разностороннем воспитании детей-дошкольников: воспитывать любовь к Родине, семье, родному краю, природе, людям, </a:t>
            </a:r>
            <a:br>
              <a:rPr sz="1800"/>
            </a:br>
            <a:r>
              <a:rPr b="1" i="1" lang="en-US" sz="1800" spc="-1" strike="noStrike">
                <a:solidFill>
                  <a:srgbClr val="6600cc"/>
                </a:solidFill>
                <a:latin typeface="Arial"/>
              </a:rPr>
              <a:t>проявлять интерес к историческому прошлому, </a:t>
            </a:r>
            <a:br>
              <a:rPr sz="1800"/>
            </a:br>
            <a:r>
              <a:rPr b="1" i="1" lang="en-US" sz="1800" spc="-1" strike="noStrike">
                <a:solidFill>
                  <a:srgbClr val="6600cc"/>
                </a:solidFill>
                <a:latin typeface="Arial"/>
              </a:rPr>
              <a:t>героям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40384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Иде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средствами музыки воздействовать на духовно-эстетическое воспитание детей;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формировать нравственно-патриотические чувства каждого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2636640"/>
            <a:ext cx="4038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способствовать развитию гармоничной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формировать музыкально-эстетический вкус ребенка;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воспитывать духовно-эстетическое отношение к окружающей действительности, искусст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закладывать у детей первоначальные знания о культуре, традициях, исторических событиях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f6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способствовать проявлению патриотических чувств, любви к Родине, родному краю, городу в котором живеш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 </a:t>
            </a: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знакомить с государственными символами нашей страны и их значе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воспитывать уважение к защитникам Родины посредством ознакомления детей с историческими событиями и героями нашей стран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воспитывать эмоциональный отклик на музыку различного содержания и характера, побуждая к сопереживанию радости и печали, осуждению зла на образцах произведений русских и современных композитор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воспитывать доброе, внимательное, уважительное отношение к старшим людям, чувство привязанности к членам своей семь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средствами музыки развивать эстетическое восприятие окружающей действитель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а) видеть красоту растительного и животного мира родного края, природных явл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б) прививать интерес и любовь к русскому фольклору и народному творчеству на примере работ народных умельце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развивать творческое воображение, музыкально-двигательную импровизацию на примерах произведений фольклора, русских и современных композито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закладывать первоначальные основы православной культуры, знакомить с жизнью Иисуса Христа на земле, Девы Марии, житием Святы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ориентировать родителей на духовно-нравственное воспитание детей в условиях семьи через ознакомление с культурным и историческим наследием нашей страны, семейных традиций и жизни пред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d9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Прогно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робуждение у детей чувства любви к Родине, родному кра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оспитание чувства гордости за высокое звание гражданина Ро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узнавание символов нашей страны, умение правильно себя вести во время звучания  гимна Ро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знание песен о защитниках, героях нашей Роди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роявление интереса к русскому фольклору: знание потешек, песен, хороводов, иг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роявление интереса к православным праздникам и истории их  происхо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желание слушать инструментальную и вокальную музыку, литературный текст которой посвящен поэтичным образам прир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формирование духовно-нравственных качеств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e7"/>
            </a:gs>
            <a:gs pos="100000">
              <a:srgbClr val="fed9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611280" y="1628640"/>
            <a:ext cx="8207640" cy="4608000"/>
            <a:chOff x="611280" y="1628640"/>
            <a:chExt cx="8207640" cy="4608000"/>
          </a:xfrm>
        </p:grpSpPr>
        <p:cxnSp>
          <p:nvCxnSpPr>
            <p:cNvPr id="57" name="_s17591"/>
            <p:cNvCxnSpPr>
              <a:stCxn id="58" idx="1"/>
              <a:endCxn id="59" idx="2"/>
            </p:cNvCxnSpPr>
            <p:nvPr/>
          </p:nvCxnSpPr>
          <p:spPr>
            <a:xfrm rot="10800000">
              <a:off x="4714560" y="2465640"/>
              <a:ext cx="586800" cy="33519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0" name="_s17551"/>
            <p:cNvCxnSpPr>
              <a:stCxn id="61" idx="3"/>
              <a:endCxn id="59" idx="2"/>
            </p:cNvCxnSpPr>
            <p:nvPr/>
          </p:nvCxnSpPr>
          <p:spPr>
            <a:xfrm flipV="1">
              <a:off x="4128840" y="2465640"/>
              <a:ext cx="586800" cy="33519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2" name="_s17548"/>
            <p:cNvCxnSpPr>
              <a:stCxn id="63" idx="1"/>
              <a:endCxn id="59" idx="2"/>
            </p:cNvCxnSpPr>
            <p:nvPr/>
          </p:nvCxnSpPr>
          <p:spPr>
            <a:xfrm rot="10800000">
              <a:off x="4714560" y="2465640"/>
              <a:ext cx="586800" cy="20952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4" name="_s17544"/>
            <p:cNvCxnSpPr>
              <a:stCxn id="65" idx="3"/>
              <a:endCxn id="59" idx="2"/>
            </p:cNvCxnSpPr>
            <p:nvPr/>
          </p:nvCxnSpPr>
          <p:spPr>
            <a:xfrm flipV="1">
              <a:off x="4128840" y="2466000"/>
              <a:ext cx="586800" cy="20952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6" name="_s17543"/>
            <p:cNvCxnSpPr>
              <a:stCxn id="67" idx="1"/>
              <a:endCxn id="59" idx="2"/>
            </p:cNvCxnSpPr>
            <p:nvPr/>
          </p:nvCxnSpPr>
          <p:spPr>
            <a:xfrm rot="10800000">
              <a:off x="4714560" y="2465640"/>
              <a:ext cx="586800" cy="8384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8" name="_s17542"/>
            <p:cNvCxnSpPr>
              <a:stCxn id="69" idx="3"/>
              <a:endCxn id="59" idx="2"/>
            </p:cNvCxnSpPr>
            <p:nvPr/>
          </p:nvCxnSpPr>
          <p:spPr>
            <a:xfrm flipV="1">
              <a:off x="4128840" y="2465640"/>
              <a:ext cx="586800" cy="8384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9" name="_s17538"/>
            <p:cNvSpPr/>
            <p:nvPr/>
          </p:nvSpPr>
          <p:spPr>
            <a:xfrm>
              <a:off x="2956320" y="1628640"/>
              <a:ext cx="3517560" cy="837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0000"/>
                  </a:solidFill>
                  <a:latin typeface="Arial"/>
                </a:rPr>
                <a:t>ПРОЕКТ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7539"/>
            <p:cNvSpPr/>
            <p:nvPr/>
          </p:nvSpPr>
          <p:spPr>
            <a:xfrm>
              <a:off x="611280" y="2885400"/>
              <a:ext cx="3517560" cy="837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Заняти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7540"/>
            <p:cNvSpPr/>
            <p:nvPr/>
          </p:nvSpPr>
          <p:spPr>
            <a:xfrm>
              <a:off x="5301360" y="2885400"/>
              <a:ext cx="3517560" cy="837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дивидуальная рабо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 деть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7541"/>
            <p:cNvSpPr/>
            <p:nvPr/>
          </p:nvSpPr>
          <p:spPr>
            <a:xfrm>
              <a:off x="611280" y="4142160"/>
              <a:ext cx="3517560" cy="837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Дидактические средств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7547"/>
            <p:cNvSpPr/>
            <p:nvPr/>
          </p:nvSpPr>
          <p:spPr>
            <a:xfrm>
              <a:off x="5301360" y="4142160"/>
              <a:ext cx="3517560" cy="837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або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 педагогически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ллекти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7550"/>
            <p:cNvSpPr/>
            <p:nvPr/>
          </p:nvSpPr>
          <p:spPr>
            <a:xfrm>
              <a:off x="611280" y="5398920"/>
              <a:ext cx="3517560" cy="837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Досуги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развлеч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7590"/>
            <p:cNvSpPr/>
            <p:nvPr/>
          </p:nvSpPr>
          <p:spPr>
            <a:xfrm>
              <a:off x="5301360" y="5398920"/>
              <a:ext cx="3517560" cy="837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Работ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с родителям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62800" cy="1008000"/>
          </a:xfrm>
          <a:prstGeom prst="rect">
            <a:avLst/>
          </a:prstGeom>
          <a:blipFill rotWithShape="0">
            <a:blip r:embed="rId8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Формы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16360" y="188640"/>
            <a:ext cx="77724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42920" y="620280"/>
            <a:ext cx="7274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d62873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Г. П. Новикова «Эстетическое воспитание и развитие творческой активности  детей старшего дошкольного возраста» М.: Аркти, 2002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2.  Л.В. Кокуева «Нравственно-патриотическое воспитание дошкольников на культурных традициях своего народа» М.: Аркти, 200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3.  М.Ю. Зацепина, Т. В. Антонова «Народные праздники в детском саду» М.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Мозаика-Синтез, 200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4.  Журнал «Музыкальный руководитель в детском сад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5.  М. М. Малахова «Рождественские праздники» В.: Учитель, 200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6.  Л.Г. Горькова, Л.А Обухова «Мир праздников для дошкольников» М.: 5 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знания,200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7.  Л. Г. Арстанова «Разработки занятий, бесед, игр и развлечений на нравственные темы. «Учитель» 2009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8.  М. А. Давыдова «Музыкальное воспитание в детском саду» 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«Вако» 200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9.  М. Ю. Картушина «Русские народные праздники» Москва «Сфера» 2007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349"/>
              </a:spcBef>
              <a:buClr>
                <a:srgbClr val="d62873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Л.А. Овчаренко «Сценарии народных календарных праздник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11.  Н.В. Бердникова «Веселая ярмарка»: Академия развития, 2005г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62873"/>
                </a:solidFill>
                <a:latin typeface="Arial"/>
              </a:rPr>
              <a:t>«Праздники, развлечения и развивающие занятия для детей», 2007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7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e3fa"/>
            </a:gs>
            <a:gs pos="100000">
              <a:srgbClr val="f0f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раздник, как итог проведенной рабо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8:58:37Z</dcterms:created>
  <dc:creator>Moroz</dc:creator>
  <dc:description/>
  <dc:language>en-US</dc:language>
  <cp:lastModifiedBy>Moroz</cp:lastModifiedBy>
  <dcterms:modified xsi:type="dcterms:W3CDTF">2012-02-05T14:34:10Z</dcterms:modified>
  <cp:revision>8</cp:revision>
  <dc:subject/>
  <dc:title>Слайд 1</dc:title>
</cp:coreProperties>
</file>