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6.wmf" ContentType="image/x-wmf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2DF-1E04-4EF5-8BB3-0BC91DEE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055-1A7E-4E82-A7AC-B76DDAA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10D-81C5-416E-BDC9-906AE980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83C-EC59-4460-A7A4-18DD5F08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C327-D69C-45B0-98AC-547C44B2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544-3F07-4402-BD84-82964059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704D-A2B9-4582-AEFB-5B3970C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C80-8830-4CE0-8D6C-23E5BFE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3F7-EDCE-47C7-AC95-54E6E4E5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33F-F1B8-4C10-B0D5-73654D4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8CE9-9AA0-4C42-92D8-A4DA757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0D5-8782-40AB-AA55-6D01F7C9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EFB3-074E-4DF5-8538-6C06C48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F0E3-05D7-483A-977D-8CC4F60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3C8-EAE4-4B60-875A-454096A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6BB-458B-4199-8FBD-AA321890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0F9-97DE-4D46-8C40-5EBD74B1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697-B130-4D45-9CDF-F47ED0E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A7B-3596-4CEC-8D7D-EC343EE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1FB-8502-472C-9994-1CF1F14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084-3FF5-40D2-9FAB-9ECA14C3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86B-6DEB-4AE7-90EE-B8342CC5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59E-BE2B-493E-A05E-8025444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640-23A4-42A3-8FD6-DF228F1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C9B-9C1A-4312-8EDB-2A1E9AE83D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94C-18FA-4B77-90C2-391594C62A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Моделирование педагогического процесса и организация речевых центров, основные факторы усвоения многообразия функций речи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5157720"/>
            <a:ext cx="3995640" cy="11509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ебрякова Ольга Серге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ДОУ Бобровский детский с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Полян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Материал по развитию мелкой моторик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836640"/>
            <a:ext cx="73152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5146560" cy="3860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80000" y="692280"/>
            <a:ext cx="3384720" cy="1512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обия для сюжетно-ролев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859280" cy="508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427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работала перспективное план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делала подборку картотек по различным видам деятель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765000"/>
            <a:ext cx="5473800" cy="719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бота с документац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тека физкультурных минуток с элементами автоматизации звуко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тека пальчиковых иг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дактические игры : («Лото», «Доскажи словечко», «Закончи предложение», «Скажи иначе», «Живые слова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др.)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тека подвижных иг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тека упражнений с массажным мяч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абота с детьм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нят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547380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бесед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435640" cy="486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57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ознакомление с художественной  </a:t>
            </a:r>
            <a:br>
              <a:rPr sz="3200"/>
            </a:b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                      литературой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69804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школьное образовательное учреждение – первое и самое ответственное звено в общей системе народного образования. Овладение родным языком является одним из самых важных приобретений ребенка в дошкольном детстве. Именно дошкольное детство особенно сензитивно к усвоению речи. Поэтому процесс речевого развития рассматривается в современном дошкольном образовании, как общая основа воспитания и обучения дете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Использование презентаций на занятиях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5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427640" cy="508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395960" y="1773360"/>
            <a:ext cx="4748040" cy="5084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Игровая деятельность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811080"/>
            <a:ext cx="87138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Театрализованные постановки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5183280" cy="530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28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огулк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674720"/>
            <a:ext cx="80312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2520" y="811080"/>
            <a:ext cx="69804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трудовая деятельност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572000" cy="5013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572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788000" cy="515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572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85800" y="914040"/>
            <a:ext cx="7772400" cy="5181120"/>
            <a:chOff x="685800" y="914040"/>
            <a:chExt cx="7772400" cy="5181120"/>
          </a:xfrm>
        </p:grpSpPr>
        <p:cxnSp>
          <p:nvCxnSpPr>
            <p:cNvPr id="161" name="_s63492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077080" y="1383840"/>
              <a:ext cx="2118960" cy="2915640"/>
            </a:xfrm>
            <a:prstGeom prst="bentConnector3">
              <a:avLst>
                <a:gd name="adj1" fmla="val 516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4" name="_s63493"/>
            <p:cNvCxnSpPr>
              <a:stCxn id="165" idx="0"/>
              <a:endCxn id="163" idx="2"/>
            </p:cNvCxnSpPr>
            <p:nvPr/>
          </p:nvCxnSpPr>
          <p:spPr>
            <a:xfrm flipV="1" rot="16200000">
              <a:off x="4069440" y="2391480"/>
              <a:ext cx="2118960" cy="900360"/>
            </a:xfrm>
            <a:prstGeom prst="bentConnector3">
              <a:avLst>
                <a:gd name="adj1" fmla="val 516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6" name="_s63494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3062520" y="2284200"/>
              <a:ext cx="2118960" cy="1115280"/>
            </a:xfrm>
            <a:prstGeom prst="bentConnector3">
              <a:avLst>
                <a:gd name="adj1" fmla="val 516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63495"/>
            <p:cNvCxnSpPr>
              <a:stCxn id="169" idx="0"/>
              <a:endCxn id="163" idx="2"/>
            </p:cNvCxnSpPr>
            <p:nvPr/>
          </p:nvCxnSpPr>
          <p:spPr>
            <a:xfrm flipH="1" flipV="1" rot="5400000">
              <a:off x="2054520" y="1276200"/>
              <a:ext cx="2118960" cy="3130920"/>
            </a:xfrm>
            <a:prstGeom prst="bentConnector3">
              <a:avLst>
                <a:gd name="adj1" fmla="val 516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63" name="_s63496"/>
            <p:cNvSpPr/>
            <p:nvPr/>
          </p:nvSpPr>
          <p:spPr>
            <a:xfrm>
              <a:off x="2053080" y="914040"/>
              <a:ext cx="5253480" cy="868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Формы работы с родителям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63497"/>
            <p:cNvSpPr/>
            <p:nvPr/>
          </p:nvSpPr>
          <p:spPr>
            <a:xfrm>
              <a:off x="685800" y="3900960"/>
              <a:ext cx="1727280" cy="2194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консульт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63498"/>
            <p:cNvSpPr/>
            <p:nvPr/>
          </p:nvSpPr>
          <p:spPr>
            <a:xfrm>
              <a:off x="2700720" y="3900960"/>
              <a:ext cx="1727280" cy="2194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бесе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63499"/>
            <p:cNvSpPr/>
            <p:nvPr/>
          </p:nvSpPr>
          <p:spPr>
            <a:xfrm>
              <a:off x="4716360" y="3900960"/>
              <a:ext cx="1727280" cy="2194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рактикум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_s63500"/>
            <p:cNvSpPr/>
            <p:nvPr/>
          </p:nvSpPr>
          <p:spPr>
            <a:xfrm>
              <a:off x="6731640" y="3900960"/>
              <a:ext cx="1726560" cy="2194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ривлечение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к изготовлению  пособий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дачи речевого разви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звивающая речевая сре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вать речь, как средство общения. Расширять представление детей о многообразии окружающего мира. Учить детей решать спорные вопросы и улаживать конфликты с помощью речи: убеждать, доказывать, объяснять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Формирование словар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огащать речь детей существительными, обозначающими предметы бытового окружения, прилагательными, характеризующими свойства и качества предметов; наречиями, обозначающими взаимоотношения людей, их отношение к труду. Помогать детям употреблять слова в точном соответствии со смысло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80960" y="1981080"/>
          <a:ext cx="638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981080"/>
                    <a:ext cx="638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Динамика развития детей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Речь —великая сила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она убеждает,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обращает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принуждает.                                    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вуковая культура реч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еплять правильное, отчётливое произношение звуков. Учить различать на слух и отчётливо произносить сходные по артикуляции и звучанию согласные звуки. Развивать фонематический слух. Учить определять место звука в слове отрабатывать интонационную выразительность реч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Грамматический строй реч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комить с разными способами образования слов. Упражнять в образовании однокоренных слов. Учить составлять по образцу простые и сложные предложения. Совершенствовать умение пользоваться прямой и косвенной речью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вязная реч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вать умение поддерживать беседу. Совершенствовать диалогическую форму реч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онологическая форма реч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ь связно, последовательно и выразительно пересказывать небольшие сказки, рассказы. Развивать умение составлять рассказы о событиях из личного опыта, придумывать свои концовки к сказка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Модель педагогического  процесса         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708280"/>
            <a:ext cx="2808360" cy="647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ие услов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3500280"/>
            <a:ext cx="324036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3500280"/>
            <a:ext cx="331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бота с документаци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4221000"/>
            <a:ext cx="2232000" cy="6494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1700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557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48428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5013360"/>
            <a:ext cx="2808360" cy="5745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41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азвивающая сред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856040" cy="381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2846520"/>
            <a:ext cx="4427640" cy="401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360" y="5373720"/>
            <a:ext cx="2519280" cy="360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голок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92280"/>
            <a:ext cx="2449800" cy="2890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узыкальный угол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1240" cy="4721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59280" y="2727360"/>
            <a:ext cx="4284720" cy="413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80000" y="2060640"/>
            <a:ext cx="3168720" cy="647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ставка для детских рабо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4869000"/>
            <a:ext cx="3529080" cy="647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то - выстав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Наша жизнь в детском саду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3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2343240"/>
            <a:ext cx="3924360" cy="451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12000" y="1773360"/>
            <a:ext cx="2663640" cy="504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голок дежур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4437000"/>
            <a:ext cx="3095640" cy="432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ворческая мастер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13800" cy="5013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Центр речевого развития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«Будем говорить правильно»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03:07:49Z</dcterms:created>
  <dc:creator>Пользователь</dc:creator>
  <dc:description/>
  <dc:language>en-US</dc:language>
  <cp:lastModifiedBy>Пользователь</cp:lastModifiedBy>
  <dcterms:modified xsi:type="dcterms:W3CDTF">2012-02-05T07:08:17Z</dcterms:modified>
  <cp:revision>20</cp:revision>
  <dc:subject/>
  <dc:title>Моделирование педагогического процесса и организация речевых центров, основные факторы усвоения многообразия функций реч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