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A93F-B282-4E37-876C-42EC1C151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BAFE-F936-45D6-A147-ED288B53C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2121-BF2A-427E-92A3-AF7C27745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46BA-2874-4E05-9688-2C1CC9BF6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AD59B7-D8F3-45EA-A486-B75A1BE32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B6F6D0-CACA-49AB-8CE1-DFC1F2E0F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4BA11E-DF7F-4745-A562-34751F1A1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CA9025-86CE-4B02-B4A3-3C74FF19D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A19504-4E46-4FFA-B7A2-AFAA8ACBF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A5F608-7678-4F31-9E85-9E2311CE1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4154EB-914F-4DAA-BD0E-56118BD99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D736-1AFB-4378-8E01-1168F65EC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4F0527-3910-4560-BA9B-495EE8D48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0A3D57-EB76-4BB8-918A-E5E1F897B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9E9A29-20C8-407F-AA99-55ED1D8EB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A741F8-5CBD-4370-9B7B-F6670C290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19DA3A-D581-4C1B-8D79-7D6C46B66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0CA4-F3AC-49F1-A095-36CD27702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D736-9854-4BC1-84E4-92A391FA8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2E11-FCCB-4BBF-AF1B-2CD783BDB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7123-2BB4-4119-BBED-2CF518A7F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758E-BFED-4BB0-958E-07C433C5F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E492-210C-4438-801F-5F0E5A25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552A-8B47-4B82-B31B-0531A600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68221-8F3C-43D0-8025-9E46FA3EA9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BA6EC-5DB2-4620-BB8F-7F8FCB0FEBF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natali.in.ua/uploads/posts/2008-11/1227837313_phone_child_01.jpg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natali.in.ua/uploads/posts/2008-11/1227837313_phone_child_01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383040" y="2560680"/>
            <a:ext cx="8373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pperplate Gothic Bold"/>
              </a:rPr>
              <a:t>Опасное влияние современного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pperplate Gothic Bold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Copperplate Gothic Bold"/>
              </a:rPr>
              <a:t>информационного пространства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pperplate Gothic Bold"/>
              </a:rPr>
              <a:t>на развитие и здоровье детей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Picture 6" descr="Мобильный телефон для ребенк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58920" y="549360"/>
            <a:ext cx="2305080" cy="16952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deti-computer"/>
          <p:cNvPicPr/>
          <p:nvPr/>
        </p:nvPicPr>
        <p:blipFill>
          <a:blip r:embed="rId3"/>
          <a:stretch/>
        </p:blipFill>
        <p:spPr>
          <a:xfrm>
            <a:off x="4859280" y="4797360"/>
            <a:ext cx="3162240" cy="14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Негативные факторы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435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Электромагнитное излуч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Нагрузка на зр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Нагрузка на мышцы и сустав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Формирование психической зависим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8000" y="291960"/>
            <a:ext cx="885672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Стадии игровой зависимост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Начальный интерес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Увлеченност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Зависимост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Привязанност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7" descr="http://www.zdorovoepokolenie.siteedit.ru/images/risunok6.jpg"/>
          <p:cNvPicPr/>
          <p:nvPr/>
        </p:nvPicPr>
        <p:blipFill>
          <a:blip r:embed="rId1"/>
          <a:stretch/>
        </p:blipFill>
        <p:spPr>
          <a:xfrm>
            <a:off x="5219640" y="3429000"/>
            <a:ext cx="3456000" cy="230508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8"/>
          <p:cNvSpPr/>
          <p:nvPr/>
        </p:nvSpPr>
        <p:spPr>
          <a:xfrm>
            <a:off x="0" y="177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Причины возникновения зависимост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Недостаток общения и теплых взаимоотношений в семь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Отсутствие разносторонних увлечений и интерес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оциальная дезадаптация ребен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итуация неуспеха в деятель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Мобильный телефон для ребенк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44244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4643280" y="692280"/>
            <a:ext cx="4681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Мобильный телефон –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это не игрушка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а средство связи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Возможные нарушения здоровья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5000"/>
              </a:lnSpc>
              <a:spcBef>
                <a:spcPts val="2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Ослабление памят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5000"/>
              </a:lnSpc>
              <a:spcBef>
                <a:spcPts val="2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Снижение вниман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5000"/>
              </a:lnSpc>
              <a:spcBef>
                <a:spcPts val="2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Снижение познавательных способносте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5000"/>
              </a:lnSpc>
              <a:spcBef>
                <a:spcPts val="2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Раздражительност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5000"/>
              </a:lnSpc>
              <a:spcBef>
                <a:spcPts val="2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Нарушение сн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Основные правила пользования мобильным телефоном в школе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5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Звуковой сигнал телефона и клавиатуры необходимо отключа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5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е пользоваться телефоном если это мешает окружающи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5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Разговаривать по телефону нужно максимально тихо и коротко только на перемен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Devochka_s_comp_myete"/>
          <p:cNvPicPr/>
          <p:nvPr/>
        </p:nvPicPr>
        <p:blipFill>
          <a:blip r:embed="rId1"/>
          <a:stretch/>
        </p:blipFill>
        <p:spPr>
          <a:xfrm>
            <a:off x="0" y="-171360"/>
            <a:ext cx="9394920" cy="73072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16000" y="58053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ahoma"/>
              </a:rPr>
              <a:t>У Вас все получится!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23:54:39Z</dcterms:created>
  <dc:creator>User</dc:creator>
  <dc:description/>
  <dc:language>en-US</dc:language>
  <cp:lastModifiedBy>Психолог</cp:lastModifiedBy>
  <dcterms:modified xsi:type="dcterms:W3CDTF">2012-02-05T05:37:33Z</dcterms:modified>
  <cp:revision>4</cp:revision>
  <dc:subject/>
  <dc:title>Слайд 1</dc:title>
</cp:coreProperties>
</file>