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85B-CA38-444D-A217-FC7D1A01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127-BA05-4F77-B6A3-3625FA39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860-F357-475C-B7A4-434E383C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422-8AF4-46CF-BECC-C20BDF95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603-8148-4219-992F-9BEF9DE5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B65-5132-40C1-AAC2-F240649F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D3C-FD9A-440A-B846-FC69BEF4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DD8-21C8-440E-AE12-0CC13A47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61B-0A05-4811-A5D1-F9E75119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CDB-7523-4B01-B028-CCE18F0A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225-FD4E-421D-8AE4-7771022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A1A-7076-440B-AE29-BE46C49C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3614-59FE-4137-8646-DDA81416B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620640"/>
            <a:ext cx="791532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вайте, друзья,</a:t>
            </a:r>
            <a:endParaRPr b="0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лыбнёмся друг другу,</a:t>
            </a:r>
            <a:endParaRPr b="0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лыбки подарим гостям.</a:t>
            </a:r>
            <a:endParaRPr b="0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уроку готовы? -</a:t>
            </a:r>
            <a:endParaRPr b="0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огда - за работу?</a:t>
            </a:r>
            <a:endParaRPr b="0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дачи желаю всем ВАМ!</a:t>
            </a:r>
            <a:endParaRPr b="0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26920" y="692280"/>
            <a:ext cx="7740720" cy="58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свидания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632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подвиж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разу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единогла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добр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любозн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оптимисти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жизнерадо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единодуш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незауря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интеллиген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еди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ЕДЛОЖЕНИЕ 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я, ср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м. предложи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То, что предложено, предлагается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нести п. Рационализаторское п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осьба стать женой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делать, принять п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ступление товаров на рынок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Законы спроса и пред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ЕДЛОЖЕНИЕ 2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я, ср. В грамматике: синтаксически и интонационно оформленная конструкция, выражающая сообщение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ростое, сложное п. Главное, придаточное п. Личное, безличное п. Главные и распространяющие члены пред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Тёплая погода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листья деревьев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под ногами шелестят, золотые краски осени, богатство природы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1в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Золотые, багряные листья медленно опадают и шелестят под нога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2в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Ярким нарядом украсились деревья, и наша станица стала осенней красавиц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3в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К отлёту готовятся птицы, потому что в станице наступила осенняя по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отлёту готовятся птиц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тому что в станиц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ступила осенняя п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акая необычная осень в этом году до самого конца сентября было тепло и солнечно и деревья стояли зеленые а потом вдруг резко похолодало и буквально за неделю невидимый художник залил яркими осенними красками шевелюры кленов осин берез и   веселый ветер проказливо   набрасывается на все это разноцветное великолепие он треплет макушки деревьев радостно разносит по аллее парка и дворам охапки сухих листьев а листья все падают и падают будто кто-то огромный сыплет их с неба из гигантского  мешка разве это не волшебств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акая необычная осень в этом году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До самого конца сентября было тепло и солнечно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и деревья стояли зеленые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А потом вдруг резко похолодало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и буквально за неделю невидимый художник залил яркими осенними красками шевелюры кленов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осин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берез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..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И веселый ветер проказливо набрасывается на все это разноцветное великолепие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Он треплет макушки деревьев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радостно разносит по аллее парка и дворам охапки сухих листьев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А листья все падают и падают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будто кто-то огромный сыплет их с неба из гигантского  мешка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 Разве это не волшебство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?..</a:t>
            </a:r>
            <a:br>
              <a:rPr sz="3300"/>
            </a:br>
            <a:br>
              <a:rPr sz="28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2:08:48Z</dcterms:created>
  <dc:creator>Натаха</dc:creator>
  <dc:description/>
  <dc:language>en-US</dc:language>
  <cp:lastModifiedBy>Натаха</cp:lastModifiedBy>
  <dcterms:modified xsi:type="dcterms:W3CDTF">2012-02-05T13:34:12Z</dcterms:modified>
  <cp:revision>3</cp:revision>
  <dc:subject/>
  <dc:title>Слайд 1</dc:title>
</cp:coreProperties>
</file>