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C971-211E-4FE0-8FE3-815B1D678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ED82-8C5C-4330-A59A-7139203E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7A8F7-D944-43E4-B081-0C68184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3FFDA-8584-4C3B-96E2-9400B571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41F59-CD34-469C-A96C-35EB907A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3E2AB-9D60-48C6-A5E9-B4C92DB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73EC9-55CA-4E7F-9395-2CC927E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6530D-2B73-41D5-B494-93A90A9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99456-FCCF-4A12-A519-E6D0164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66CC1-3F35-42C7-8BD2-A69ABDE7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62C87-96E8-4569-A349-A8FC4C428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0B9EA-F53A-45DA-8E44-BCC0A4E79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EEDF-4A55-4006-A55B-A5758AA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20DF03-CFD0-4D9B-99D3-63892C7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0D07C-E901-4E87-A15D-81AB7DA9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A817A-7DEB-4145-AE36-8D4208E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58989-CBF9-446C-A812-7CBFF17A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4A817-6A7D-4C64-807E-80AFBC73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270D1-4647-4EB7-9B1F-BBBBF53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51AED3-324D-4AB1-8678-9F9AE87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E4C05-88FC-4944-9658-AE6ABF49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1C0B6-6C0B-4B83-9BDE-30CAB001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0C582-44DC-4F63-AC6E-E3C299B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D242-63CE-448E-A2F5-217DB588B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F65481-9286-494E-8C17-131A0DA769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0382AE-610B-45FC-8AFF-01BAF3B9A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CAC70F-691D-4978-838F-6446ACE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3F053-E512-469C-AD5E-D61259F0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4BEEBF-0EB5-4733-B88B-5A118385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89ED8E-1E6C-4D6A-863B-E979F388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53787-E223-4339-9055-A1CAF98D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E180FA-5F7A-4483-A8BC-327BE485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CD48E0-1510-4CCF-A260-5AB5701B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9D0390-FF8D-4B15-A7BA-776DC088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3473E-F838-4DA9-82F0-D24E2DCCF1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4929A4-AEBD-4872-8F43-C5E7CB0E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C8D6D-516C-4635-8974-91495F0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DFCC97-EE8B-44A2-8385-53B258E67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C82CB-69D2-4310-BE95-B28384427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58DE5-C5A7-4420-8CBE-E4805700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D6E5A-369B-4F22-8886-D312D08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3E049C-6C10-48C5-B5A2-D3113A61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679B2-1F9B-4CF3-A062-E6BA8B73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19A23-4886-45F1-B19D-0127F71E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B5E169-9A2F-446B-91D6-24F4858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C2C11-8BA7-4EC0-9851-3ED3D75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E3A9E-FCEE-4467-A274-EAA03FA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927381-6B01-4475-AECD-FAC67929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0F4E42-7D40-4192-8166-64C21F6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47AC3-6EC5-4CFE-990E-CDF4A2D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EFEF75-9F02-4481-AF1E-9D44A3867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BAD5A-CDA6-4C45-9DAE-329518E2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6CE9-9B0A-41B0-9244-F8B314D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EF787-F152-4DEC-9DF9-CCA32145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7BBFD-F74C-4C29-AF84-4FD49273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FC3DA-822C-44C8-AC9C-EA0B095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45B2-6543-4F47-8AD2-865E413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41300-7A0E-45CB-9109-87E444AC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C588-0879-4C84-9CB0-8A80B0C1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EFC19-B4C6-498E-AFF4-8E4A2BC5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7953F-8864-401E-9E9E-0597DFF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61A07-3B56-4E52-8792-68180ADC0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164F-F41E-429F-9532-D2FBFAD75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6032-1A9E-4A1E-A764-C973117B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4C4C-F106-4350-91BB-79ECF1D7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E0D2-C322-4CF7-89AA-FE96CE3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A203-8F41-4BEB-88A4-E73A2AB3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F3E4-3E61-47BF-A725-C4B9AA28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16E2-8BE6-45FA-9B9E-FB086BD2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118-8609-4C34-B565-D3D0521B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445A-DE99-4BF9-9862-3E0E19C8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666F-5B37-47CD-8BCC-819E3D9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5E66-4FA4-43B7-9F91-B13A367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A33D-7777-4006-9075-6A39B8C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E44E-384B-4D7A-80AD-5D659A8CB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CE767-9D65-4DED-80F0-9BD6E5F1E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56E6B-9827-476F-8960-4E7C165B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A946C-3655-4F9C-BC40-7CB47C67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365D-AA9F-4FA4-A08B-7D992287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DBEA0-47AA-4FDF-8E6A-1CA9381F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4ADBE-C126-44EA-8D37-749493D0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2619F-FE9D-4106-9E7E-DFD430CB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0637E-F24E-45AF-9E0B-98F9064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9D0A-2C8C-428F-8796-D93E77A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9FE38-F71C-4D34-9A8D-54DF20D4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5CB26-2671-4986-BCDF-218AEFCE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2CAAA-0127-4E90-9502-42EF5E6C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A57C0-4D55-4C1B-A897-13C2266CF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8FD63-08C5-419D-A2DB-8AF7F944E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4E49-6584-4B02-90FD-C04582B3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7ED14-9410-4384-A556-0BC5E71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79F42-C42C-4918-BE1E-59E54C34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B2A2C-B665-4496-B497-D42F2259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73AD7-A6E7-4A5D-880A-96C32BCA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74CCC5-B9C9-4C66-BAC1-4008B60A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5A1F9-EB66-48E8-80EA-C1FB2217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13EB9-2A2F-4E2A-B09B-9ACA64E5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E3E00-A151-4A2C-A7D4-E5A09951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40843-B2C0-4496-B847-91300F3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5AF28-AA70-41CE-90CD-368C0DB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0DD6-C7CC-4F76-86A1-89B7D913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73881-3D11-4797-97F5-C3821A3DD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ED4E-B427-480C-A342-E2782B2C7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D09A5-BD05-47A7-8E40-06434DEE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D6B2-641B-4242-A14C-897C9D4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7526-5E08-43D9-AAA6-D4359D4D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6A7D-1F9E-4FDF-986F-DD560E5D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5255-E713-47CB-888B-278B960E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5E03-814E-4FF2-92B6-AF71D1E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0B7C-BD06-47A9-B2DA-12DF3509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22F9-DCDC-4127-B8FF-AF21506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37D6-1AFA-4B99-9640-6BD05206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F162-BF4C-45C4-A280-998C5D89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62BB-D597-4142-8C8D-5437A95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ED6D-33DB-46B1-A930-74FE9F3C0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21BFC-4234-46EC-A080-1934717AA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C33F3-9733-4BF5-9C16-B03393C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A7C74-6020-437F-8A2D-ED8CDA1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933E2-90E8-417B-B0FA-48E215EC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01E92-4985-4536-AD16-B94F18E2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63B72-2163-4AAE-B6F0-54F96241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B371B-EB9C-46E2-B296-C45ECCE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9659-867E-4F84-ACE5-7CE39190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3A29F-CA9C-4CAA-B073-90E80C5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FC931-11D3-4171-A403-2C6734EC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32272-1B1C-430E-AB72-FC9AB9C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89051-F8CE-4511-9F56-071C40D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94232-CD1A-4265-A2B5-33FD61F88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EB23D-8CC1-4E64-9C1F-2D33B2B8E0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80B001-A583-4B82-A02B-57D772E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A98F1-48EF-4661-B4C6-3D525AC9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67970B-AF81-4C22-A5E6-A5C14C9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321AD-5696-4AEA-B59D-3018CD7C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B019-CCAA-4D1E-B52F-3396BBED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CBEC3F-CF04-4A1C-AAAA-D7A45136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F5F6B-1C16-40E8-86AD-01B901B2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A8515-1E47-49E0-AAD3-1A3674D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265C6-8C68-4442-A91B-F525ADE5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6EEB31-7403-4BB4-9653-8EF68013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8BC4E-7F10-4D1C-9A60-1E8A9E1C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5B1A3-E2BA-4D4C-99CD-0EE387599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64224-D95E-4564-9D8B-5D7BF71FC0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561CB-FFDA-4BCE-8740-2B4E1C1B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BD6D8-7182-45D8-867C-57A065C5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B86A81-FB96-4FE4-9001-B7C60F066C7D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9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950023-498B-4AEB-9F4D-56B0C4EDA226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0"/>
          </p:nvPr>
        </p:nvSpPr>
        <p:spPr>
          <a:xfrm>
            <a:off x="578772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1680" y="6410160"/>
            <a:ext cx="3584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10EA7F-1E2B-41A5-B7D0-3B52668C3965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23"/>
          </p:nvPr>
        </p:nvSpPr>
        <p:spPr>
          <a:xfrm>
            <a:off x="6914880" y="3009600"/>
            <a:ext cx="45540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0E5E40-F623-477A-ACBE-2427803488EC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24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3FB9C3-0D1D-46F1-A86A-A710B8440972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6D05BB-0935-4567-92E3-200A05156D0B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F7C746-CB30-4C8A-A223-3A94E026EC0F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1574280"/>
            <a:ext cx="9360" cy="482148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790960" y="641016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8B4850-69BD-4556-93D5-BAAD4EC91E04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V="1">
            <a:off x="4572000" y="2198520"/>
            <a:ext cx="1440" cy="419112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4343400" y="10429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8E3A38-9EFF-4A4C-B0AB-A6BC5CFECFE2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4"/>
          </p:nvPr>
        </p:nvSpPr>
        <p:spPr>
          <a:xfrm>
            <a:off x="4343400" y="103644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B7CC6C-43A9-4C1C-81F4-3472C280AC3E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6"/>
          </p:nvPr>
        </p:nvSpPr>
        <p:spPr>
          <a:xfrm>
            <a:off x="4266720" y="6324480"/>
            <a:ext cx="60804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DF4F66-9B7B-423E-80DF-7DF46EDA8D27}" type="slidenum">
              <a:rPr b="0" lang="en-GB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080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548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c7b7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BD5593-8843-4EC7-A12B-5F072EDC53ED}" type="slidenum">
              <a:rPr b="0" lang="en-GB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18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1680" y="6410160"/>
            <a:ext cx="3382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71680" y="250020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GB" sz="4400" spc="-1" strike="noStrike">
                <a:solidFill>
                  <a:srgbClr val="646b86"/>
                </a:solidFill>
                <a:latin typeface="Georgia"/>
              </a:rPr>
              <a:t>ТРУДНЫЙ РЕБЕНОК. КАКОВ 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646b86"/>
                </a:solidFill>
                <a:latin typeface="Georgia"/>
              </a:rPr>
              <a:t>КАК ЕМУ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21276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ПЕДАГОГИЧЕСКИЙ СОВЕТ</a:t>
            </a:r>
            <a:br>
              <a:rPr sz="4200"/>
            </a:b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en-GB" sz="3800" spc="-1" strike="noStrike">
                <a:solidFill>
                  <a:srgbClr val="d16349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802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14200" y="1714680"/>
            <a:ext cx="8717040" cy="4620960"/>
            <a:chOff x="214200" y="1714680"/>
            <a:chExt cx="8717040" cy="4620960"/>
          </a:xfrm>
        </p:grpSpPr>
        <p:sp>
          <p:nvSpPr>
            <p:cNvPr id="806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142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940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720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518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2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940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720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518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4200" y="5389560"/>
              <a:ext cx="21798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94000" y="5389560"/>
              <a:ext cx="2178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2000" y="5389560"/>
              <a:ext cx="21798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51800" y="5389560"/>
              <a:ext cx="2178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4200" y="45608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4200" y="538956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4200" y="1714680"/>
              <a:ext cx="1800" cy="461952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929800" y="1714680"/>
              <a:ext cx="1440" cy="461952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4200" y="63342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835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14200" y="1714680"/>
            <a:ext cx="8717040" cy="4620960"/>
            <a:chOff x="214200" y="1714680"/>
            <a:chExt cx="8717040" cy="4620960"/>
          </a:xfrm>
        </p:grpSpPr>
        <p:sp>
          <p:nvSpPr>
            <p:cNvPr id="839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42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940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720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518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42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40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720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518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14200" y="5389560"/>
              <a:ext cx="21798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94000" y="5389560"/>
              <a:ext cx="2178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0" y="5389560"/>
              <a:ext cx="21798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51800" y="5389560"/>
              <a:ext cx="2178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4200" y="45608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4200" y="538956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4200" y="1714680"/>
              <a:ext cx="1800" cy="461952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929800" y="1714680"/>
              <a:ext cx="1440" cy="461952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4200" y="63342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4200" y="1714680"/>
            <a:ext cx="8717040" cy="4620960"/>
            <a:chOff x="214200" y="1714680"/>
            <a:chExt cx="8717040" cy="4620960"/>
          </a:xfrm>
        </p:grpSpPr>
        <p:sp>
          <p:nvSpPr>
            <p:cNvPr id="872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42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940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720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518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42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940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518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4200" y="5389560"/>
              <a:ext cx="21798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4000" y="5389560"/>
              <a:ext cx="2178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72000" y="5389560"/>
              <a:ext cx="21798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51800" y="5389560"/>
              <a:ext cx="2178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608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4200" y="538956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4200" y="1714680"/>
              <a:ext cx="1800" cy="461952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929800" y="1714680"/>
              <a:ext cx="1440" cy="461952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4200" y="63342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214200" y="1714680"/>
            <a:ext cx="8717040" cy="4951080"/>
            <a:chOff x="214200" y="1714680"/>
            <a:chExt cx="8717040" cy="4951080"/>
          </a:xfrm>
        </p:grpSpPr>
        <p:sp>
          <p:nvSpPr>
            <p:cNvPr id="905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42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940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 объяснении своих неудач под влиянием других может проявлять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7518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42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940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42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940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518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200" y="48895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4200" y="571824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4200" y="1714680"/>
              <a:ext cx="180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929800" y="1714680"/>
              <a:ext cx="144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4200" y="66643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934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14200" y="1714680"/>
            <a:ext cx="8717040" cy="4951080"/>
            <a:chOff x="214200" y="1714680"/>
            <a:chExt cx="8717040" cy="4951080"/>
          </a:xfrm>
        </p:grpSpPr>
        <p:sp>
          <p:nvSpPr>
            <p:cNvPr id="938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42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940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 объяснении своих неудач под влиянием других может проявлять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518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ищет в других причины своих неу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42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940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720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518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42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940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720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7518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14200" y="48895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14200" y="571824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4200" y="1714680"/>
              <a:ext cx="180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929800" y="1714680"/>
              <a:ext cx="144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4200" y="66643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14200" y="1714680"/>
            <a:ext cx="8717040" cy="4951080"/>
            <a:chOff x="214200" y="1714680"/>
            <a:chExt cx="8717040" cy="4951080"/>
          </a:xfrm>
        </p:grpSpPr>
        <p:sp>
          <p:nvSpPr>
            <p:cNvPr id="971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42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940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720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 объяснении своих неудач под влиянием других может проявлять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7518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ищет в других причины своих неу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42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40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720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Может нарушать дисциплину, проявлять несдерж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518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42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940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5720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7518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200" y="48895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4200" y="571824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4200" y="1714680"/>
              <a:ext cx="180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929800" y="1714680"/>
              <a:ext cx="144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4200" y="66643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1000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214200" y="1714680"/>
            <a:ext cx="8717040" cy="4951080"/>
            <a:chOff x="214200" y="1714680"/>
            <a:chExt cx="8717040" cy="4951080"/>
          </a:xfrm>
        </p:grpSpPr>
        <p:sp>
          <p:nvSpPr>
            <p:cNvPr id="1004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42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940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720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 объяснении своих неудач под влиянием других может проявлять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518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ищет в других причины своих неу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142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940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20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Может нарушать дисциплину, проявлять несдерж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518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сдержан, часто нарушает дисциплин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42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940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720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518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14200" y="48895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4200" y="571824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4200" y="1714680"/>
              <a:ext cx="180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929800" y="1714680"/>
              <a:ext cx="144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4200" y="66643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1033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14200" y="1714680"/>
            <a:ext cx="8717040" cy="4951080"/>
            <a:chOff x="214200" y="1714680"/>
            <a:chExt cx="8717040" cy="4951080"/>
          </a:xfrm>
        </p:grpSpPr>
        <p:sp>
          <p:nvSpPr>
            <p:cNvPr id="1037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42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940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720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 объяснении своих неудач под влиянием других может проявлять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518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ищет в других причины своих неу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2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940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720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Может нарушать дисциплину, проявлять несдерж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7518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сдержан, часто нарушает дисциплин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42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940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720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Узконаправленные духовные интересы, эрудирован по отдель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518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4200" y="48895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4200" y="571824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4200" y="1714680"/>
              <a:ext cx="180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929800" y="1714680"/>
              <a:ext cx="144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4200" y="66643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1066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214200" y="1714680"/>
            <a:ext cx="8717040" cy="4951080"/>
            <a:chOff x="214200" y="1714680"/>
            <a:chExt cx="8717040" cy="4951080"/>
          </a:xfrm>
        </p:grpSpPr>
        <p:sp>
          <p:nvSpPr>
            <p:cNvPr id="1070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Эпизодически, по просьбе помогает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помогает другим, не совершает полезных действий, поступ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42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3940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572000" y="3732120"/>
              <a:ext cx="21798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 объяснении своих неудач под влиянием других может проявлять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51800" y="3732120"/>
              <a:ext cx="2178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ищет в других причины своих неу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42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940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0" y="48895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Может нарушать дисциплину, проявлять несдерж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51800" y="48895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 сдержан, часто нарушает дисциплин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42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3940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Разнообразие духовных интересов и богатство знаний по различ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72000" y="5718240"/>
              <a:ext cx="21798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Узконаправленные духовные интересы, эрудирован по отдельным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751800" y="5718240"/>
              <a:ext cx="2178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Нет духовных интересов, мало эруд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4200" y="48895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4200" y="571824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4200" y="1714680"/>
              <a:ext cx="180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929800" y="1714680"/>
              <a:ext cx="1440" cy="49496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4200" y="666432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428760" y="2071800"/>
            <a:ext cx="8215200" cy="4286160"/>
          </a:xfrm>
          <a:prstGeom prst="triangle">
            <a:avLst>
              <a:gd name="adj" fmla="val 50171"/>
            </a:avLst>
          </a:prstGeom>
          <a:solidFill>
            <a:srgbClr val="ffffff"/>
          </a:solidFill>
          <a:ln w="11520">
            <a:solidFill>
              <a:srgbClr val="d190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85800" y="-1515960"/>
            <a:ext cx="77724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0" lang="en-GB" sz="4000" spc="-1" strike="noStrike">
                <a:solidFill>
                  <a:srgbClr val="d16349"/>
                </a:solidFill>
                <a:latin typeface="Georgia"/>
              </a:rPr>
              <a:t>НОРМЫ ПЕДАГОГИЧЕСКОГО ВЗАИМО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71680" y="2214720"/>
            <a:ext cx="7929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646b86"/>
                </a:solidFill>
                <a:latin typeface="Georgia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646b86"/>
                </a:solidFill>
                <a:latin typeface="Georg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ЛЮБОВ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МИЛОСЕРД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СОПЕРЕЖИВ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ОТЗЫВЧИВ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ДУШЕВНАЯ ТЕПЛО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МЕНИЕ ВИДЕТЬ И СЛ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ТЕРПИМОСТЬ И ТЕРП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МЕНИЕ ПРОЩА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ВАЖЕНИЕ ДОСТОИНСТВА И ДОВЕР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ПОНИМАНИЕ ИНТЕРЕСОВ, ОЖИДА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СТРЕМЛЕНИЙ, ОЖИДАНИЕ УСПЕХ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ПРАВО «ХОЧУ» И «НЕ ХОЧ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СОБСТВЕННЫЙ САМОАНАЛИЗ, ПОСТОЯННЫЙ САМОКОНТРОЛЬ И СПОСОБНОСТЬ ИЗМЕНИТЬ ПОЗИЦИЮ И САМООЦЕ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57120" y="2500200"/>
            <a:ext cx="84297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1.АНАЛИЗ СОСТОЯНИЯ ПРЕСТУПНОСТИ И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ПРАВОНАРУШЕНИЙ В ГОРОДЕ И ШКОЛ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2.ЛИЧНОСТНО-ОРИЕНТИРОВАННЫЙ ПОДХОД, 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НАПРАВЛЕНИЯ И СПОСОБЫ ОСУЩЕСТВЛЕНИЯ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ПЕДАГОГИЧЕСКОЙ ПОДДЕРЖКИ РЕБЕ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3.ПРИЧИНЫ ДЕВИАНТНОГО ПОВЕДЕНИЯ В ПОДРОСТКОВ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ВОЗРАСТЕ. ФОРМЫ ОБЩЕНИЯ С ПОДРОСТКОМ.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4.ПСИХОЛОГО-ПЕДАГОГИЧЕСКИЙ ПРАКТИКУ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5.ИЗ ОПЫТА РАБОТЫ С «ТРУДНЫМИ» УЧАЩИМИ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6.ПРИНЯТИЕ РЕШЕНИЯ ПЕДСОВЕ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ПЛАН ПЕДСОВЕТА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428760" y="2071800"/>
            <a:ext cx="8215200" cy="4286160"/>
          </a:xfrm>
          <a:prstGeom prst="triangle">
            <a:avLst>
              <a:gd name="adj" fmla="val 50171"/>
            </a:avLst>
          </a:prstGeom>
          <a:solidFill>
            <a:srgbClr val="ffffff"/>
          </a:solidFill>
          <a:ln w="11520">
            <a:solidFill>
              <a:srgbClr val="d190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-1515960"/>
            <a:ext cx="77724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0" lang="en-GB" sz="4000" spc="-1" strike="noStrike">
                <a:solidFill>
                  <a:srgbClr val="d16349"/>
                </a:solidFill>
                <a:latin typeface="Georgia"/>
              </a:rPr>
              <a:t>НОРМЫ ПЕДАГОГИЧЕСКОГО ВЗАИМО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71680" y="2214720"/>
            <a:ext cx="7929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646b86"/>
                </a:solidFill>
                <a:latin typeface="Georgia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646b86"/>
                </a:solidFill>
                <a:latin typeface="Georg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ЛЮБОВ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МИЛОСЕРД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СОПЕРЕЖИВ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ОТЗЫВЧИВ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ДУШЕВНАЯ ТЕПЛО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МЕНИЕ ВИДЕТЬ И СЛ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ТЕРПИМОСТЬ И ТЕРП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МЕНИЕ ПРОЩА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ВАЖЕНИЕ ДОСТОИНСТВА И ДОВЕР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ПОНИМАНИЕ ИНТЕРЕСОВ, ОЖИДА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УСТРЕМЛЕНИЙ, ОЖИДАНИЕ УСПЕХ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ПРАВО «ХОЧУ» И «НЕ ХОЧ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1" lang="en-GB" sz="1200" spc="-1" strike="noStrike">
                <a:solidFill>
                  <a:srgbClr val="646b86"/>
                </a:solidFill>
                <a:latin typeface="Georgia"/>
              </a:rPr>
              <a:t>СОБСТВЕННЫЙ САМОАНАЛИЗ, ПОСТОЯННЫЙ САМОКОНТРОЛЬ И СПОСОБНОСТЬ ИЗМЕНИТЬ ПОЗИЦИЮ И САМООЦЕ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14200" y="6000840"/>
            <a:ext cx="2214720" cy="642960"/>
          </a:xfrm>
          <a:prstGeom prst="ellipse">
            <a:avLst/>
          </a:prstGeom>
          <a:solidFill>
            <a:srgbClr val="8fb08c"/>
          </a:solidFill>
          <a:ln w="20160">
            <a:solidFill>
              <a:srgbClr val="ffffff"/>
            </a:solidFill>
            <a:miter/>
          </a:ln>
          <a:effectLst>
            <a:outerShdw dist="108732" dir="39926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orgia"/>
              </a:rPr>
              <a:t>ПО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71920" y="1785960"/>
            <a:ext cx="2000160" cy="642960"/>
          </a:xfrm>
          <a:prstGeom prst="ellipse">
            <a:avLst/>
          </a:prstGeom>
          <a:solidFill>
            <a:srgbClr val="8fb08c"/>
          </a:solidFill>
          <a:ln w="20160">
            <a:solidFill>
              <a:srgbClr val="ffffff"/>
            </a:solidFill>
            <a:miter/>
          </a:ln>
          <a:effectLst>
            <a:outerShdw dist="108732" dir="39926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orgia"/>
              </a:rPr>
              <a:t>ПРИ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0" y="5929200"/>
            <a:ext cx="2071800" cy="642960"/>
          </a:xfrm>
          <a:prstGeom prst="ellipse">
            <a:avLst/>
          </a:prstGeom>
          <a:solidFill>
            <a:srgbClr val="8fb08c"/>
          </a:solidFill>
          <a:ln w="20160">
            <a:solidFill>
              <a:srgbClr val="ffffff"/>
            </a:solidFill>
            <a:miter/>
          </a:ln>
          <a:effectLst>
            <a:outerShdw dist="108732" dir="39926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orgia"/>
              </a:rPr>
              <a:t>ПОМ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14200" y="2571840"/>
            <a:ext cx="8643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НА УЧЕТЕ В ШКОЛАХ ГОРОДА СОСТОИТ - 242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В ЕБД – 76 СЕМ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В ПДН – 74 ПОДРОС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СОВЕРШЕНО ПРЕСТУПЛЕНИЙ - 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ОТКАЗАНО В ВОЗБУЖДЕНИИ УГОЛОВНОГО ДЕЛА – 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(ПО НЕ ДОСТИЖЕНИЮ ВОЗРА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380880"/>
            <a:ext cx="777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ДЕТСКАЯ ПРЕСТУПНОС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5840" y="2500200"/>
            <a:ext cx="85723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2960" y="-7913520"/>
            <a:ext cx="7772400" cy="10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СРАВНИТЕЛЬНЫЙ АНАЛИЗ ЗА 5 ЛЕТ  ПО МОУ СОШ № 5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214200" y="2714760"/>
            <a:ext cx="87156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57120" y="2571840"/>
            <a:ext cx="85010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16349"/>
                </a:solidFill>
                <a:latin typeface="Georgia"/>
              </a:rPr>
              <a:t>ОЦЕНКА ДОЛИ ПОДРОСТКОВ, </a:t>
            </a:r>
            <a:br>
              <a:rPr sz="3600"/>
            </a:br>
            <a:r>
              <a:rPr b="0" lang="en-GB" sz="3600" spc="-1" strike="noStrike">
                <a:solidFill>
                  <a:srgbClr val="d16349"/>
                </a:solidFill>
                <a:latin typeface="Georgia"/>
              </a:rPr>
              <a:t>КОТОРЫМ СВОЙСТВЕННЫ ОТРИЦАТЕЛЬНЫЕ КАЧЕ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14200" y="2428920"/>
            <a:ext cx="8717040" cy="4262400"/>
            <a:chOff x="214200" y="2428920"/>
            <a:chExt cx="8717040" cy="4262400"/>
          </a:xfrm>
        </p:grpSpPr>
        <p:sp>
          <p:nvSpPr>
            <p:cNvPr id="618" name=""/>
            <p:cNvSpPr/>
            <p:nvPr/>
          </p:nvSpPr>
          <p:spPr>
            <a:xfrm>
              <a:off x="214200" y="2428920"/>
              <a:ext cx="2270160" cy="579240"/>
            </a:xfrm>
            <a:prstGeom prst="rect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Отрицательные ка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4360" y="2428920"/>
              <a:ext cx="2087640" cy="579240"/>
            </a:xfrm>
            <a:prstGeom prst="rect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5-6 клас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2428920"/>
              <a:ext cx="2179800" cy="579240"/>
            </a:xfrm>
            <a:prstGeom prst="rect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7-8 клас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51800" y="2428920"/>
              <a:ext cx="2178000" cy="579240"/>
            </a:xfrm>
            <a:prstGeom prst="rect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9-11 клас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4200" y="3008160"/>
              <a:ext cx="227016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Куря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84360" y="3008160"/>
              <a:ext cx="208764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0" y="3008160"/>
              <a:ext cx="217980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51800" y="3008160"/>
              <a:ext cx="217800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4200" y="3429000"/>
              <a:ext cx="227016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Пь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84360" y="3429000"/>
              <a:ext cx="208764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0" y="3429000"/>
              <a:ext cx="217980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1800" y="3429000"/>
              <a:ext cx="217800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3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4200" y="3849840"/>
              <a:ext cx="2270160" cy="5792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Пробовали нарко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84360" y="3849840"/>
              <a:ext cx="2087640" cy="5792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72000" y="3849840"/>
              <a:ext cx="2179800" cy="5792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,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51800" y="3849840"/>
              <a:ext cx="2178000" cy="5792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4200" y="4429080"/>
              <a:ext cx="227016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Сквернословя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84360" y="4429080"/>
              <a:ext cx="208764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2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72000" y="4429080"/>
              <a:ext cx="217980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4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51800" y="4429080"/>
              <a:ext cx="217800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3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4200" y="4849920"/>
              <a:ext cx="2270160" cy="57780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Занимаются воров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84360" y="4849920"/>
              <a:ext cx="2087640" cy="57780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72000" y="4849920"/>
              <a:ext cx="2179800" cy="57780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,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51800" y="4849920"/>
              <a:ext cx="2178000" cy="57780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.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5427720"/>
              <a:ext cx="2270160" cy="42048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Прогуливают уро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84360" y="5427720"/>
              <a:ext cx="2087640" cy="42048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2000" y="5427720"/>
              <a:ext cx="2179800" cy="42048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751800" y="5427720"/>
              <a:ext cx="2178000" cy="42048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4200" y="5848200"/>
              <a:ext cx="227016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Участие в дра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84360" y="5848200"/>
              <a:ext cx="208764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5848200"/>
              <a:ext cx="217980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2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51800" y="5848200"/>
              <a:ext cx="2178000" cy="420840"/>
            </a:xfrm>
            <a:prstGeom prst="rect">
              <a:avLst/>
            </a:prstGeom>
            <a:solidFill>
              <a:srgbClr val="eed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4200" y="6269040"/>
              <a:ext cx="227016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Не хотят учить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84360" y="6269040"/>
              <a:ext cx="208764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72000" y="6269040"/>
              <a:ext cx="217980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51800" y="6269040"/>
              <a:ext cx="2178000" cy="420840"/>
            </a:xfrm>
            <a:prstGeom prst="rect">
              <a:avLst/>
            </a:prstGeom>
            <a:solidFill>
              <a:srgbClr val="f7e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orgia"/>
                </a:rPr>
                <a:t>1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84360" y="2428920"/>
              <a:ext cx="1800" cy="42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72000" y="2428920"/>
              <a:ext cx="1440" cy="42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51800" y="2428920"/>
              <a:ext cx="1440" cy="42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4200" y="3008160"/>
              <a:ext cx="87156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200" y="342900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4200" y="384984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4200" y="4429080"/>
              <a:ext cx="8715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4200" y="484992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4200" y="542772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4200" y="5848200"/>
              <a:ext cx="8715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4200" y="626904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4200" y="2428920"/>
              <a:ext cx="1800" cy="42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929800" y="2428920"/>
              <a:ext cx="1440" cy="42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4200" y="242892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4200" y="6689880"/>
              <a:ext cx="8715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670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14200" y="2071800"/>
            <a:ext cx="8717040" cy="4505040"/>
            <a:chOff x="214200" y="2071800"/>
            <a:chExt cx="8717040" cy="4505040"/>
          </a:xfrm>
        </p:grpSpPr>
        <p:sp>
          <p:nvSpPr>
            <p:cNvPr id="674" name=""/>
            <p:cNvSpPr/>
            <p:nvPr/>
          </p:nvSpPr>
          <p:spPr>
            <a:xfrm>
              <a:off x="214200" y="2071800"/>
              <a:ext cx="21798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94000" y="2071800"/>
              <a:ext cx="21780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72000" y="2071800"/>
              <a:ext cx="21798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51800" y="2071800"/>
              <a:ext cx="21780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4200" y="3260880"/>
              <a:ext cx="2179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94000" y="3260880"/>
              <a:ext cx="21780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72000" y="3260880"/>
              <a:ext cx="2179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51800" y="3260880"/>
              <a:ext cx="21780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4200" y="40892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94000" y="40892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2000" y="40892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51800" y="40892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4200" y="49179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94000" y="49179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72000" y="49179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51800" y="49179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4200" y="574668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94000" y="574668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72000" y="574668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51800" y="574668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4200" y="32608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4200" y="40892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4200" y="491796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4200" y="574668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4200" y="2071800"/>
              <a:ext cx="180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929800" y="2071800"/>
              <a:ext cx="144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4200" y="20718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4200" y="65754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14200" y="2071800"/>
            <a:ext cx="8717040" cy="4505040"/>
            <a:chOff x="214200" y="2071800"/>
            <a:chExt cx="8717040" cy="4505040"/>
          </a:xfrm>
        </p:grpSpPr>
        <p:sp>
          <p:nvSpPr>
            <p:cNvPr id="707" name=""/>
            <p:cNvSpPr/>
            <p:nvPr/>
          </p:nvSpPr>
          <p:spPr>
            <a:xfrm>
              <a:off x="214200" y="2071800"/>
              <a:ext cx="21798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94000" y="2071800"/>
              <a:ext cx="21780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72000" y="2071800"/>
              <a:ext cx="21798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51800" y="2071800"/>
              <a:ext cx="2178000" cy="118908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4200" y="3260880"/>
              <a:ext cx="2179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94000" y="3260880"/>
              <a:ext cx="21780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72000" y="3260880"/>
              <a:ext cx="2179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51800" y="3260880"/>
              <a:ext cx="21780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4200" y="40892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94000" y="40892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72000" y="40892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51800" y="40892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4200" y="49179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94000" y="49179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2000" y="49179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51800" y="49179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4200" y="574668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94000" y="574668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0" y="574668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51800" y="574668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4200" y="32608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14200" y="40892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200" y="491796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4200" y="574668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4200" y="2071800"/>
              <a:ext cx="180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929800" y="2071800"/>
              <a:ext cx="144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4200" y="20718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4200" y="657540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736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14200" y="1714680"/>
            <a:ext cx="8717040" cy="4505040"/>
            <a:chOff x="214200" y="1714680"/>
            <a:chExt cx="8717040" cy="4505040"/>
          </a:xfrm>
        </p:grpSpPr>
        <p:sp>
          <p:nvSpPr>
            <p:cNvPr id="740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42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40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720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518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42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940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720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518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4200" y="53895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94000" y="53895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53895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51800" y="53895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4200" y="45608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4200" y="538956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4200" y="1714680"/>
              <a:ext cx="180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929800" y="1714680"/>
              <a:ext cx="144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200" y="62182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208080" y="2494080"/>
            <a:ext cx="8727840" cy="4155840"/>
            <a:chOff x="208080" y="2494080"/>
            <a:chExt cx="8727840" cy="4155840"/>
          </a:xfrm>
        </p:grpSpPr>
        <p:pic>
          <p:nvPicPr>
            <p:cNvPr id="769" name="" descr=""/>
            <p:cNvPicPr/>
            <p:nvPr/>
          </p:nvPicPr>
          <p:blipFill>
            <a:blip r:embed="rId1"/>
            <a:stretch/>
          </p:blipFill>
          <p:spPr>
            <a:xfrm>
              <a:off x="208080" y="2494080"/>
              <a:ext cx="8727840" cy="41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208080" y="2494080"/>
              <a:ext cx="8727840" cy="41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«КЛЮЧИК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14200" y="1714680"/>
            <a:ext cx="8717040" cy="4505040"/>
            <a:chOff x="214200" y="1714680"/>
            <a:chExt cx="8717040" cy="4505040"/>
          </a:xfrm>
        </p:grpSpPr>
        <p:sp>
          <p:nvSpPr>
            <p:cNvPr id="773" name=""/>
            <p:cNvSpPr/>
            <p:nvPr/>
          </p:nvSpPr>
          <p:spPr>
            <a:xfrm>
              <a:off x="2142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Уровень воспитанности/</a:t>
              </a:r>
              <a:r>
                <a:rPr b="1" lang="en-GB" sz="1800" spc="-1" strike="noStrike">
                  <a:solidFill>
                    <a:srgbClr val="000000"/>
                  </a:solidFill>
                  <a:latin typeface="Georgia"/>
                </a:rPr>
                <a:t>качества 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940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72000" y="1714680"/>
              <a:ext cx="21798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51800" y="1714680"/>
              <a:ext cx="2178000" cy="1188720"/>
            </a:xfrm>
            <a:prstGeom prst="rect">
              <a:avLst/>
            </a:prstGeom>
            <a:solidFill>
              <a:srgbClr val="8c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Georgia"/>
                </a:rPr>
                <a:t>низ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42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Нрав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940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По своей инициативе приходит на помощь, делает полезные де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72000" y="290340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751800" y="290340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42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940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отвечает за свои поступ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72000" y="373212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1800" y="373212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42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исциплини-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940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eorgia"/>
                </a:rPr>
                <a:t>Всегда сдержан, дисциплиниро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72000" y="456084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51800" y="456084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4200" y="53895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orgia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94000" y="53895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5389560"/>
              <a:ext cx="21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51800" y="5389560"/>
              <a:ext cx="21780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4200" y="290340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4200" y="373212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4200" y="4560840"/>
              <a:ext cx="8715600" cy="18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4200" y="538956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200" y="1714680"/>
              <a:ext cx="180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929800" y="1714680"/>
              <a:ext cx="1440" cy="450360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4200" y="17146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4200" y="6218280"/>
              <a:ext cx="8715600" cy="1440"/>
            </a:xfrm>
            <a:prstGeom prst="line">
              <a:avLst/>
            </a:prstGeom>
            <a:ln w="9360">
              <a:solidFill>
                <a:srgbClr val="8cad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нна</cp:lastModifiedBy>
  <cp:revision>0</cp:revision>
  <dc:subject/>
  <dc:title>   Дидактическая игра как средство активизации обучения младших школьников</dc:title>
</cp:coreProperties>
</file>