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53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94F-182F-47F6-9581-ECDB676D2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78B-DC04-4CEC-9AD4-4A834B003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8D5-252D-4695-B230-89F3E04A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57C-0D5E-4870-BF31-82FC6247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AE1-7DE3-4E56-937D-C8D9E4DA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56F-B25A-4CD0-AE05-F76FC329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091-162F-4D58-A88E-1B98127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2F6-D544-41BE-87EB-89B98FF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BB3-6665-4F36-A9DE-23E0F68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425-DF6E-44C1-932C-00D48C4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9BF-4EEC-4195-A720-1C6ABCC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AD9-249C-4CE0-ADD8-A60DC41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1A4-A7B2-428C-B8A6-D0DF8A5D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6EF-6938-4BE7-9747-8C27373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4E5-9491-4F94-9B66-3DB8D90FB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ЕЗЕНТАЦИЯ   ВНЕКЛАССНОГО МЕРОПРИЯТИЯ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ДЕТЕКТИВНОЕ АГЕНСТВО»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7 класс 2010 – 2011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втор - Васильева Ирина Владимир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лассный руководитель 7 «В» класса МБОУСОШ №15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387720" y="928800"/>
            <a:ext cx="851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 и жена уехали на ярмарку и оставили маленького сы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. Старшая сестра, которой поручили следить за бра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гулялась-заигралась» и бросила его од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ыша унесли гуси-лебеди. Девочка пустилась за н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гоню и в конце концов нашла братца в избушке Бабы Я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игур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рат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 некоторых версиях носит имя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ваше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обычно безымя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естри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храбрая девочка, не боится Бабы Яги и её гу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чка, реч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яблонь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чудесные помощники, указывают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ют спрятаться от гусей-леб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ба 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947960" y="357120"/>
            <a:ext cx="58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з материалов уголовного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яблоня.jpg"/>
          <p:cNvPicPr/>
          <p:nvPr/>
        </p:nvPicPr>
        <p:blipFill>
          <a:blip r:embed="rId1"/>
          <a:stretch/>
        </p:blipFill>
        <p:spPr>
          <a:xfrm>
            <a:off x="642960" y="4357800"/>
            <a:ext cx="1785960" cy="1346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ghjcnj gtxrf.jpg"/>
          <p:cNvPicPr/>
          <p:nvPr/>
        </p:nvPicPr>
        <p:blipFill>
          <a:blip r:embed="rId2"/>
          <a:stretch/>
        </p:blipFill>
        <p:spPr>
          <a:xfrm>
            <a:off x="6572160" y="4214880"/>
            <a:ext cx="1897200" cy="1422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брат с сестрой.jpg"/>
          <p:cNvPicPr/>
          <p:nvPr/>
        </p:nvPicPr>
        <p:blipFill>
          <a:blip r:embed="rId3"/>
          <a:stretch/>
        </p:blipFill>
        <p:spPr>
          <a:xfrm>
            <a:off x="3357720" y="4143240"/>
            <a:ext cx="235260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выборы 045.jpg"/>
          <p:cNvPicPr/>
          <p:nvPr/>
        </p:nvPicPr>
        <p:blipFill>
          <a:blip r:embed="rId1"/>
          <a:stretch/>
        </p:blipFill>
        <p:spPr>
          <a:xfrm>
            <a:off x="928800" y="8571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выборы 044.jpg"/>
          <p:cNvPicPr/>
          <p:nvPr/>
        </p:nvPicPr>
        <p:blipFill>
          <a:blip r:embed="rId2"/>
          <a:stretch/>
        </p:blipFill>
        <p:spPr>
          <a:xfrm>
            <a:off x="4857840" y="3643200"/>
            <a:ext cx="3405240" cy="255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4438080" y="1785960"/>
            <a:ext cx="34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пер Шейко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чень ср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34200" y="4429080"/>
            <a:ext cx="26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нял по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быстро и т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выборы 048.jpg"/>
          <p:cNvPicPr/>
          <p:nvPr/>
        </p:nvPicPr>
        <p:blipFill>
          <a:blip r:embed="rId1"/>
          <a:stretch/>
        </p:blipFill>
        <p:spPr>
          <a:xfrm>
            <a:off x="714240" y="28584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выборы 050.jpg"/>
          <p:cNvPicPr/>
          <p:nvPr/>
        </p:nvPicPr>
        <p:blipFill>
          <a:blip r:embed="rId2"/>
          <a:stretch/>
        </p:blipFill>
        <p:spPr>
          <a:xfrm>
            <a:off x="5214960" y="371484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939120" y="100008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Под видом Ле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К злодеям он внедр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653040" y="4643280"/>
            <a:ext cx="40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А поз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С адвокатом подруж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леший.jpg"/>
          <p:cNvPicPr/>
          <p:nvPr/>
        </p:nvPicPr>
        <p:blipFill>
          <a:blip r:embed="rId3"/>
          <a:stretch/>
        </p:blipFill>
        <p:spPr>
          <a:xfrm>
            <a:off x="3571920" y="2071800"/>
            <a:ext cx="17859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выборы 035.jpg"/>
          <p:cNvPicPr/>
          <p:nvPr/>
        </p:nvPicPr>
        <p:blipFill>
          <a:blip r:embed="rId1"/>
          <a:stretch/>
        </p:blipFill>
        <p:spPr>
          <a:xfrm>
            <a:off x="214200" y="214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выборы 053.jpg"/>
          <p:cNvPicPr/>
          <p:nvPr/>
        </p:nvPicPr>
        <p:blipFill>
          <a:blip r:embed="rId2"/>
          <a:stretch/>
        </p:blipFill>
        <p:spPr>
          <a:xfrm>
            <a:off x="3000240" y="2500200"/>
            <a:ext cx="3262320" cy="2446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7" descr="http://upload.wikimedia.org/wikipedia/commons/thumb/2/23/Belarus-SMFAL-Stove.jpg/300px-Belarus-SMFAL-Stove.jpg"/>
          <p:cNvPicPr/>
          <p:nvPr/>
        </p:nvPicPr>
        <p:blipFill>
          <a:blip r:embed="rId3"/>
          <a:stretch/>
        </p:blipFill>
        <p:spPr>
          <a:xfrm>
            <a:off x="6643800" y="214200"/>
            <a:ext cx="2244600" cy="3000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581200" y="1071720"/>
            <a:ext cx="40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ам Печка все, как бы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Рассказ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000240" y="53578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 все аген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ирожками угощ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8" descr="пирожки.jpg"/>
          <p:cNvPicPr/>
          <p:nvPr/>
        </p:nvPicPr>
        <p:blipFill>
          <a:blip r:embed="rId4"/>
          <a:stretch/>
        </p:blipFill>
        <p:spPr>
          <a:xfrm>
            <a:off x="1428840" y="371484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пирожки.jpg"/>
          <p:cNvPicPr/>
          <p:nvPr/>
        </p:nvPicPr>
        <p:blipFill>
          <a:blip r:embed="rId5"/>
          <a:stretch/>
        </p:blipFill>
        <p:spPr>
          <a:xfrm>
            <a:off x="6643800" y="3714840"/>
            <a:ext cx="128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071720" y="857160"/>
            <a:ext cx="642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лась важнейшим элементом русского быта, и поэтому она часто фигурирует в фольклоре, в частности, в народных сказках. Положительные персонажи сказок часто любят сидеть или лежать на печи.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Илья Муромец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л на ней 33 года своей жизни,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Ем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желая покидать уютную лежанку, ездил на печи. Такую же любовь к печи обнаруживает и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Баба-Я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, впрочем, не мешает ей делать попытки изжарить заблудившихся детей. Печка иногда наделяется человеческими чертами, способностью разговаривать: например, в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казке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«Гуси-лебеди»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в поисках пропавшего брата набредает на печь, стоящую в чистом поле, и спрашивает у неё совета. Печь предлагает ей отведать пирожков, а впоследствии, на обратном пути, прячет девочку от пог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876760" y="42876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З ЛИЧНОГО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печка прячет.jpg"/>
          <p:cNvPicPr/>
          <p:nvPr/>
        </p:nvPicPr>
        <p:blipFill>
          <a:blip r:embed="rId1"/>
          <a:stretch/>
        </p:blipFill>
        <p:spPr>
          <a:xfrm>
            <a:off x="6667560" y="500076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выборы 041.jpg"/>
          <p:cNvPicPr/>
          <p:nvPr/>
        </p:nvPicPr>
        <p:blipFill>
          <a:blip r:embed="rId1"/>
          <a:stretch/>
        </p:blipFill>
        <p:spPr>
          <a:xfrm>
            <a:off x="714240" y="500040"/>
            <a:ext cx="2905200" cy="217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яблоня.jpg"/>
          <p:cNvPicPr/>
          <p:nvPr/>
        </p:nvPicPr>
        <p:blipFill>
          <a:blip r:embed="rId2"/>
          <a:stretch/>
        </p:blipFill>
        <p:spPr>
          <a:xfrm>
            <a:off x="5786280" y="500040"/>
            <a:ext cx="2865600" cy="2151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013200" y="3571920"/>
            <a:ext cx="387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 яблонька призна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то 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Ужасней даже лю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Вр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бя из мультика.jpg"/>
          <p:cNvPicPr/>
          <p:nvPr/>
        </p:nvPicPr>
        <p:blipFill>
          <a:blip r:embed="rId3"/>
          <a:stretch/>
        </p:blipFill>
        <p:spPr>
          <a:xfrm>
            <a:off x="6929280" y="4714920"/>
            <a:ext cx="1824120" cy="1573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яблоня.jpg"/>
          <p:cNvPicPr/>
          <p:nvPr/>
        </p:nvPicPr>
        <p:blipFill>
          <a:blip r:embed="rId4"/>
          <a:stretch/>
        </p:blipFill>
        <p:spPr>
          <a:xfrm>
            <a:off x="357120" y="4643280"/>
            <a:ext cx="2214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56" descr="Apple on the tree.JPG"/>
          <p:cNvPicPr/>
          <p:nvPr/>
        </p:nvPicPr>
        <p:blipFill>
          <a:blip r:embed="rId1"/>
          <a:stretch/>
        </p:blipFill>
        <p:spPr>
          <a:xfrm>
            <a:off x="3571920" y="4714920"/>
            <a:ext cx="2619360" cy="1962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948040" y="57168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З ЛИЧНОГО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643040" y="1357200"/>
            <a:ext cx="607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Я́бло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la-VA" sz="1800" spc="-1" strike="noStrike">
                <a:solidFill>
                  <a:srgbClr val="000000"/>
                </a:solidFill>
                <a:latin typeface="Arial"/>
              </a:rPr>
              <a:t>Mál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топадных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дерев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кустар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ейства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оз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шаровидными сладкими или кисло-сладкими плодами. ). Наиболее распространена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яблоня домаш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ли культурна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Malus domesti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 которой относится большинство возделываемых в мире сортов. Плоды обладают волшебной силой ( молодильные яблоки, яблочко на блюдечке с золотой каемочкой и др.) В сказк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Гуси лебед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ет девочке отведать яблочек, а впоследствии, на обратном пути, прячет девочку от пог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выборы 055.jpg"/>
          <p:cNvPicPr/>
          <p:nvPr/>
        </p:nvPicPr>
        <p:blipFill>
          <a:blip r:embed="rId1"/>
          <a:stretch/>
        </p:blipFill>
        <p:spPr>
          <a:xfrm>
            <a:off x="5929200" y="14288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выборы 056.jpg"/>
          <p:cNvPicPr/>
          <p:nvPr/>
        </p:nvPicPr>
        <p:blipFill>
          <a:blip r:embed="rId2"/>
          <a:stretch/>
        </p:blipFill>
        <p:spPr>
          <a:xfrm>
            <a:off x="357120" y="214200"/>
            <a:ext cx="2786040" cy="2089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429000" y="571680"/>
            <a:ext cx="41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 следователь про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опр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выборы 052.jpg"/>
          <p:cNvPicPr/>
          <p:nvPr/>
        </p:nvPicPr>
        <p:blipFill>
          <a:blip r:embed="rId3"/>
          <a:stretch/>
        </p:blipFill>
        <p:spPr>
          <a:xfrm>
            <a:off x="714240" y="4214880"/>
            <a:ext cx="3071880" cy="23032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785960" y="278604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оставив возле Ябл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Вопро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29680" y="4357800"/>
            <a:ext cx="36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 побеседовала вн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 сестр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ро речку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 молочною вод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выборы 042.jpg"/>
          <p:cNvPicPr/>
          <p:nvPr/>
        </p:nvPicPr>
        <p:blipFill>
          <a:blip r:embed="rId1"/>
          <a:stretch/>
        </p:blipFill>
        <p:spPr>
          <a:xfrm>
            <a:off x="1143000" y="428760"/>
            <a:ext cx="2401920" cy="3201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39200" y="1143000"/>
            <a:ext cx="37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И речка рассказ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Без ута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Про про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Бандитской этой ша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867600" y="4143240"/>
            <a:ext cx="323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 как Я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 гусями-лебед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Швырялась в ре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острыми камня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камень.jpg"/>
          <p:cNvPicPr/>
          <p:nvPr/>
        </p:nvPicPr>
        <p:blipFill>
          <a:blip r:embed="rId2"/>
          <a:stretch/>
        </p:blipFill>
        <p:spPr>
          <a:xfrm>
            <a:off x="5857920" y="3286080"/>
            <a:ext cx="2774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285920" y="107172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оло́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Молоч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наибольшаяпо длине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веро-западн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азов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рож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падает в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Молочный лиман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Азовского мо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ку и ее окрестности раньше (преимущественно в XVIII и XIX веках) нередко называли такж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Молочными водам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юрк. «Сюттень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казк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Гуси лебед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ет девочке отведать молочка и киселя, а впоследствии, на обратном пу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чет девочку от пог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180px-Molochna.jpg"/>
          <p:cNvPicPr/>
          <p:nvPr/>
        </p:nvPicPr>
        <p:blipFill>
          <a:blip r:embed="rId1"/>
          <a:stretch/>
        </p:blipFill>
        <p:spPr>
          <a:xfrm>
            <a:off x="3071880" y="41259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2733840" y="28584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З ЛИЧНОГО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Admin\Рабочий стол\иришка\смайлик.jpg"/>
          <p:cNvPicPr/>
          <p:nvPr/>
        </p:nvPicPr>
        <p:blipFill>
          <a:blip r:embed="rId1"/>
          <a:stretch/>
        </p:blipFill>
        <p:spPr>
          <a:xfrm>
            <a:off x="2786040" y="571680"/>
            <a:ext cx="4179960" cy="3143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000240" y="4143240"/>
            <a:ext cx="37864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Город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«СМАЙЛ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представля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выборы 047.jpg"/>
          <p:cNvPicPr/>
          <p:nvPr/>
        </p:nvPicPr>
        <p:blipFill>
          <a:blip r:embed="rId1"/>
          <a:stretch/>
        </p:blipFill>
        <p:spPr>
          <a:xfrm>
            <a:off x="714240" y="35712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4580640" y="114300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Была неумо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рокур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И ждал Я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овый пригов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446840" y="3571920"/>
            <a:ext cx="50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Припомнила ей все ее дели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Как от Яги страдали ребят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5" descr="1259764059_sestrica_alenushka_i_bratec.jpg"/>
          <p:cNvPicPr/>
          <p:nvPr/>
        </p:nvPicPr>
        <p:blipFill>
          <a:blip r:embed="rId1"/>
          <a:stretch/>
        </p:blipFill>
        <p:spPr>
          <a:xfrm>
            <a:off x="1000080" y="285840"/>
            <a:ext cx="2952720" cy="2381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баба и ребятишки.jpg"/>
          <p:cNvPicPr/>
          <p:nvPr/>
        </p:nvPicPr>
        <p:blipFill>
          <a:blip r:embed="rId2"/>
          <a:stretch/>
        </p:blipFill>
        <p:spPr>
          <a:xfrm>
            <a:off x="2857680" y="2143080"/>
            <a:ext cx="2519280" cy="231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ивашка.jpg"/>
          <p:cNvPicPr/>
          <p:nvPr/>
        </p:nvPicPr>
        <p:blipFill>
          <a:blip r:embed="rId3"/>
          <a:stretch/>
        </p:blipFill>
        <p:spPr>
          <a:xfrm>
            <a:off x="5000760" y="3571920"/>
            <a:ext cx="2214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выборы 039.jpg"/>
          <p:cNvPicPr/>
          <p:nvPr/>
        </p:nvPicPr>
        <p:blipFill>
          <a:blip r:embed="rId1"/>
          <a:stretch/>
        </p:blipFill>
        <p:spPr>
          <a:xfrm>
            <a:off x="785880" y="357120"/>
            <a:ext cx="2251080" cy="30006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выборы 046.jpg"/>
          <p:cNvPicPr/>
          <p:nvPr/>
        </p:nvPicPr>
        <p:blipFill>
          <a:blip r:embed="rId2"/>
          <a:stretch/>
        </p:blipFill>
        <p:spPr>
          <a:xfrm>
            <a:off x="5357880" y="32148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4361040" y="121428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«Я признаю свою ви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Реб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о все же я ни в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е виноват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082880" y="4643280"/>
            <a:ext cx="277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адво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жнов Да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видетеля в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гла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" descr="выборы 067.jpg"/>
          <p:cNvPicPr/>
          <p:nvPr/>
        </p:nvPicPr>
        <p:blipFill>
          <a:blip r:embed="rId1"/>
          <a:stretch/>
        </p:blipFill>
        <p:spPr>
          <a:xfrm>
            <a:off x="512640" y="450720"/>
            <a:ext cx="3375000" cy="4500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4513320" y="92880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И рассказала 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Соседка А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«Давно уж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Брат твой Ван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Его вернула Бабушка Я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Не нужно видеть в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21"/>
                </a:solidFill>
                <a:latin typeface="Arial"/>
              </a:rPr>
              <a:t>Враг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выборы 036.jpg"/>
          <p:cNvPicPr/>
          <p:nvPr/>
        </p:nvPicPr>
        <p:blipFill>
          <a:blip r:embed="rId2"/>
          <a:stretch/>
        </p:blipFill>
        <p:spPr>
          <a:xfrm>
            <a:off x="5286240" y="4071960"/>
            <a:ext cx="28339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выборы 065.jpg"/>
          <p:cNvPicPr/>
          <p:nvPr/>
        </p:nvPicPr>
        <p:blipFill>
          <a:blip r:embed="rId1"/>
          <a:stretch/>
        </p:blipFill>
        <p:spPr>
          <a:xfrm>
            <a:off x="2500200" y="64296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2714760" y="4357800"/>
            <a:ext cx="43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 Дарья Дьяк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на же Ваша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 при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ила произне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28800" y="357120"/>
          <a:ext cx="7143480" cy="5726160"/>
        </p:xfrm>
        <a:graphic>
          <a:graphicData uri="http://schemas.openxmlformats.org/drawingml/2006/table">
            <a:tbl>
              <a:tblPr/>
              <a:tblGrid>
                <a:gridCol w="6702480"/>
                <a:gridCol w="441000"/>
              </a:tblGrid>
              <a:tr h="498960"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ГОЛОВНЫЙ КОДЕКС РФ, Статья 126. Похищение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160"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960"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ья 126. Похищение человека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 1. Похищение человека — наказывается лишением свободы на срок от четырех до восьми лет.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 2. То же деяние, совершенное: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а) группой лиц по предварительному сговору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б) неоднократно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в) с применением насилия, опасного для жизни или здоровья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г) с применением оружия или предметов, используемых в качестве оружия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д) в отношении заведомо несовершеннолетнего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       е) в отношении двух и более лиц;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 ж) из корыстных побуждений, —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 наказывается лишением свободы на срок от пяти до десяти лет.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" descr="http://www.az-design.ru/Projects/AZLibrCD/Img/w6.gif"/>
          <p:cNvPicPr/>
          <p:nvPr/>
        </p:nvPicPr>
        <p:blipFill>
          <a:blip r:embed="rId1"/>
          <a:stretch/>
        </p:blipFill>
        <p:spPr>
          <a:xfrm>
            <a:off x="0" y="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выборы 040.jpg"/>
          <p:cNvPicPr/>
          <p:nvPr/>
        </p:nvPicPr>
        <p:blipFill>
          <a:blip r:embed="rId1"/>
          <a:stretch/>
        </p:blipFill>
        <p:spPr>
          <a:xfrm>
            <a:off x="3500280" y="571680"/>
            <a:ext cx="2517840" cy="3357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1714680" y="450072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римечани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о, добровольно освободившее похищенного,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освобождается от уголовной ответствен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если в его действиях не содержится иного состава пре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658440" y="500040"/>
            <a:ext cx="36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 Бабу Ягу оправд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 нее обещание вз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584320" y="1643040"/>
            <a:ext cx="254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Добро т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Людей люб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866040" y="364320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А Гусей-Леб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Оградить от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стая.jpg"/>
          <p:cNvPicPr/>
          <p:nvPr/>
        </p:nvPicPr>
        <p:blipFill>
          <a:blip r:embed="rId1"/>
          <a:stretch/>
        </p:blipFill>
        <p:spPr>
          <a:xfrm>
            <a:off x="1143000" y="3500280"/>
            <a:ext cx="2143080" cy="2560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7" descr="шары - смайлы.jpg"/>
          <p:cNvPicPr/>
          <p:nvPr/>
        </p:nvPicPr>
        <p:blipFill>
          <a:blip r:embed="rId2"/>
          <a:stretch/>
        </p:blipFill>
        <p:spPr>
          <a:xfrm>
            <a:off x="2357280" y="1357200"/>
            <a:ext cx="1822680" cy="1822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8" descr="смешной малыш.jpg"/>
          <p:cNvPicPr/>
          <p:nvPr/>
        </p:nvPicPr>
        <p:blipFill>
          <a:blip r:embed="rId3"/>
          <a:stretch/>
        </p:blipFill>
        <p:spPr>
          <a:xfrm>
            <a:off x="6929280" y="4429080"/>
            <a:ext cx="19051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9" descr="лебеди.jpg"/>
          <p:cNvPicPr/>
          <p:nvPr/>
        </p:nvPicPr>
        <p:blipFill>
          <a:blip r:embed="rId1"/>
          <a:stretch/>
        </p:blipFill>
        <p:spPr>
          <a:xfrm>
            <a:off x="2857680" y="642960"/>
            <a:ext cx="3857400" cy="3060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956600" y="442908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Пусть радуют своею крас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Весь народ честн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520920" y="157176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ПРИГОВОР ОКАНЧАТЕЛЬНЫЙ И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ОБЖАЛОВАНИЮ НЕ ПОДЛЕЖИ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иришка\юлька\эдельвейс.jpg"/>
          <p:cNvPicPr/>
          <p:nvPr/>
        </p:nvPicPr>
        <p:blipFill>
          <a:blip r:embed="rId1"/>
          <a:stretch/>
        </p:blipFill>
        <p:spPr>
          <a:xfrm>
            <a:off x="0" y="0"/>
            <a:ext cx="2913120" cy="2622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деревня\выборы\спектакль 032.jpg"/>
          <p:cNvPicPr/>
          <p:nvPr/>
        </p:nvPicPr>
        <p:blipFill>
          <a:blip r:embed="rId2"/>
          <a:stretch/>
        </p:blipFill>
        <p:spPr>
          <a:xfrm>
            <a:off x="3357720" y="2071800"/>
            <a:ext cx="4421160" cy="3316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71920" y="2142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ДЕТЕК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865040" y="10717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АГЕН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88800" y="578628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«ЭДЕЛЬВЕЙ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выборы 037.jpg"/>
          <p:cNvPicPr/>
          <p:nvPr/>
        </p:nvPicPr>
        <p:blipFill>
          <a:blip r:embed="rId1"/>
          <a:stretch/>
        </p:blipFill>
        <p:spPr>
          <a:xfrm>
            <a:off x="7000920" y="357192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лебеди кружатся.jpg"/>
          <p:cNvPicPr/>
          <p:nvPr/>
        </p:nvPicPr>
        <p:blipFill>
          <a:blip r:embed="rId2"/>
          <a:stretch/>
        </p:blipFill>
        <p:spPr>
          <a:xfrm>
            <a:off x="428760" y="3571920"/>
            <a:ext cx="2714400" cy="2041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родители.jpg"/>
          <p:cNvPicPr/>
          <p:nvPr/>
        </p:nvPicPr>
        <p:blipFill>
          <a:blip r:embed="rId3"/>
          <a:stretch/>
        </p:blipFill>
        <p:spPr>
          <a:xfrm>
            <a:off x="3143160" y="285840"/>
            <a:ext cx="2676600" cy="1941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2170800" y="278604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В детективное агентство семья обрат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Страшное горе у них приключилос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3441240" y="38577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Сына похитили лебеди-г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724920" y="492912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А виновата эта бабу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милляр.jpg"/>
          <p:cNvPicPr/>
          <p:nvPr/>
        </p:nvPicPr>
        <p:blipFill>
          <a:blip r:embed="rId1"/>
          <a:stretch/>
        </p:blipFill>
        <p:spPr>
          <a:xfrm>
            <a:off x="3429000" y="4071960"/>
            <a:ext cx="2529000" cy="2041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000080" y="1357200"/>
            <a:ext cx="72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а́ба-Яг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опулярный фольклорный персонаж у славя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уха, наделённая магической силой, ведун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им свойствам ближе всего к ведьме. Она умеет колдовать,а также летать в сту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200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. Село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укоб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о объявлено«родиной» Бабы-Яги, там же был создан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уз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бы-Яги. Её «день рождения» здесь празднуется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26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019320" y="64296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З ЛИЧНОГО 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кукобой.jpg"/>
          <p:cNvPicPr/>
          <p:nvPr/>
        </p:nvPicPr>
        <p:blipFill>
          <a:blip r:embed="rId1"/>
          <a:stretch/>
        </p:blipFill>
        <p:spPr>
          <a:xfrm>
            <a:off x="857160" y="500040"/>
            <a:ext cx="289260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http://upload.wikimedia.org/wikipedia/commons/thumb/b/be/Sami_Storehouse.jpg/200px-Sami_Storehouse.jpg"/>
          <p:cNvPicPr/>
          <p:nvPr/>
        </p:nvPicPr>
        <p:blipFill>
          <a:blip r:embed="rId2"/>
          <a:stretch/>
        </p:blipFill>
        <p:spPr>
          <a:xfrm>
            <a:off x="5857920" y="428616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3882240" y="2286000"/>
            <a:ext cx="481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укобо́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ервомайском районе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Ярославской области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9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кобой был районным центр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ие координ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8°41′50″ с.ш. 39°54′31″ в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избушка.jpg"/>
          <p:cNvPicPr/>
          <p:nvPr/>
        </p:nvPicPr>
        <p:blipFill>
          <a:blip r:embed="rId1"/>
          <a:stretch/>
        </p:blipFill>
        <p:spPr>
          <a:xfrm>
            <a:off x="1571760" y="357120"/>
            <a:ext cx="5857920" cy="4394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785960" y="5500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Домик Яги мы в лесу отыск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лую старушку пока …задер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выборы 015.jpg"/>
          <p:cNvPicPr/>
          <p:nvPr/>
        </p:nvPicPr>
        <p:blipFill>
          <a:blip r:embed="rId1"/>
          <a:stretch/>
        </p:blipFill>
        <p:spPr>
          <a:xfrm>
            <a:off x="6858000" y="214200"/>
            <a:ext cx="2073240" cy="2764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выборы 014.jpg"/>
          <p:cNvPicPr/>
          <p:nvPr/>
        </p:nvPicPr>
        <p:blipFill>
          <a:blip r:embed="rId2"/>
          <a:stretch/>
        </p:blipFill>
        <p:spPr>
          <a:xfrm>
            <a:off x="285840" y="2142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выборы 051.jpg"/>
          <p:cNvPicPr/>
          <p:nvPr/>
        </p:nvPicPr>
        <p:blipFill>
          <a:blip r:embed="rId3"/>
          <a:stretch/>
        </p:blipFill>
        <p:spPr>
          <a:xfrm>
            <a:off x="3071880" y="300024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357280" y="24289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ерья гусиные – это улика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513520" y="600084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Дело мы это расследуем лих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ольшой гусь.jpg"/>
          <p:cNvPicPr/>
          <p:nvPr/>
        </p:nvPicPr>
        <p:blipFill>
          <a:blip r:embed="rId1"/>
          <a:stretch/>
        </p:blipFill>
        <p:spPr>
          <a:xfrm>
            <a:off x="428760" y="214200"/>
            <a:ext cx="17269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ольшой лебедь.jpg"/>
          <p:cNvPicPr/>
          <p:nvPr/>
        </p:nvPicPr>
        <p:blipFill>
          <a:blip r:embed="rId2"/>
          <a:stretch/>
        </p:blipFill>
        <p:spPr>
          <a:xfrm>
            <a:off x="6572160" y="4929120"/>
            <a:ext cx="2367000" cy="1755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3945240" y="571680"/>
            <a:ext cx="41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З ЛИЧНОГО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203560" y="1857240"/>
            <a:ext cx="693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усеобра́зны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, или пластинчатоклю́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лат. Anseriformes) — отряд новонёбных пти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котором наряду с такими знакомыми птицами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уси, утки, лебеди состоят и более экзо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емейства, как например паламедеи из Юж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усеобразные являются весьма распространё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рядом и играют большую роль в би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меренных широт Зем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0:40:04Z</dcterms:created>
  <dc:creator>Admin</dc:creator>
  <dc:description/>
  <dc:language>en-US</dc:language>
  <cp:lastModifiedBy>Admin</cp:lastModifiedBy>
  <dcterms:modified xsi:type="dcterms:W3CDTF">2012-02-05T16:17:51Z</dcterms:modified>
  <cp:revision>80</cp:revision>
  <dc:subject/>
  <dc:title>Слайд 1</dc:title>
</cp:coreProperties>
</file>