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726-376A-4540-B8F5-86FF768A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6F7-8613-4386-8B54-7F62210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B17-525A-479D-AD74-1A267382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D40-C235-42EA-880F-5322DFA3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F37-2E8C-4805-81FF-6BECCF2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31D-8D67-4EDD-82C3-2843A01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6F1-818B-404C-B8D4-9CE0D81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D6B-A671-4B7B-9F9A-521A61DA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C8C-D14C-4BFC-BD55-E137FC7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660-B31D-469D-B251-F58A948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BF7-88F9-4EAA-85A6-F7B524A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C18-5786-497D-AD23-21B55A7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B8B-6F6A-41AB-9B1C-CCFDBA31E0A5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6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23640"/>
            <a:ext cx="582912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Как помочь малышу проснуться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" name="Рисунок 4" descr="DSCN0138 - копия.JPG"/>
          <p:cNvPicPr/>
          <p:nvPr/>
        </p:nvPicPr>
        <p:blipFill>
          <a:blip r:embed="rId1"/>
          <a:stretch/>
        </p:blipFill>
        <p:spPr>
          <a:xfrm>
            <a:off x="1773360" y="3492360"/>
            <a:ext cx="3384360" cy="533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>
            <a:off x="4425840" y="6300720"/>
            <a:ext cx="2432160" cy="28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0"/>
            <a:ext cx="2637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52280" y="323640"/>
            <a:ext cx="5616360" cy="85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Следующим этапом гимнастики после сна является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дыхательная гимнастика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полнение дыхательной гимнастики очень важно для профилактики простудных заболеваний и заболеваний верхних дыхательных путе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Развитие дыхательной системы, сущность которой заключается в усвоении организмом кислорода, напрямую связано с движе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полняя комплексы дыхательных упражнений, ребенок учится правильно дышать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овышается его жизненный тонус, устойчивость  организма к заболеваниям дыхательной системы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 также развивается дыхательная мускулатура, улучшается лимфо-и кровообращение в легки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052640" y="900000"/>
            <a:ext cx="525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Рисунок 9" descr="DSCN0288.JPG"/>
          <p:cNvPicPr/>
          <p:nvPr/>
        </p:nvPicPr>
        <p:blipFill>
          <a:blip r:embed="rId1"/>
          <a:stretch/>
        </p:blipFill>
        <p:spPr>
          <a:xfrm>
            <a:off x="765000" y="5292720"/>
            <a:ext cx="4500720" cy="362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 rot="10800000">
            <a:off x="0" y="0"/>
            <a:ext cx="2487600" cy="21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581360" y="6281640"/>
            <a:ext cx="2276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52280" y="-360"/>
            <a:ext cx="5616360" cy="88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    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Основные правила проведения     дыхательной гимнастики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ышать с удовольствием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оложительные эмоции сами по себе имеют значительный оздоровительный эффек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Концентрировать внимание на дыхательном упражнени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ышать медленно для насыщения организма кислор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ышать носо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Комплекс дыхательной гимнастик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Упражнения выполняются 4-5 раз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1.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Насос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стать прямо, ноги вместе, руки опущены вдоль туловища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 затем наклон туловища в сторон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 руки скользят вдоль тела, при этом громко произносить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С-С-С-С-С-С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ыпрямление – вдох, наклон в другую сторону с повторением звук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1052640" y="900000"/>
            <a:ext cx="525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Рисунок 6" descr="DSCN0354.JPG"/>
          <p:cNvPicPr/>
          <p:nvPr/>
        </p:nvPicPr>
        <p:blipFill>
          <a:blip r:embed="rId1"/>
          <a:stretch/>
        </p:blipFill>
        <p:spPr>
          <a:xfrm>
            <a:off x="1413000" y="550872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 rot="10800000">
            <a:off x="0" y="0"/>
            <a:ext cx="2492280" cy="24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566960" y="5862600"/>
            <a:ext cx="22906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4640" y="-360"/>
            <a:ext cx="6093000" cy="88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 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2.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Вырасти большой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стать прямо, ноги вместе, поднять руки вверх, хорошо подтянуться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одняться на носки-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 выпрямить руки вниз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опуститься на всю ступню-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 произнести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“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у-х-х-х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3. 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Трубач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Сидя, кисти рук сжаты в трубочку и подняты вверх перед ртом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Медленный выдох с громким произношением звука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“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Ф-Ф-Ф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052640" y="900000"/>
            <a:ext cx="525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Рисунок 7" descr="DSCN0356.JPG"/>
          <p:cNvPicPr/>
          <p:nvPr/>
        </p:nvPicPr>
        <p:blipFill>
          <a:blip r:embed="rId1"/>
          <a:stretch/>
        </p:blipFill>
        <p:spPr>
          <a:xfrm>
            <a:off x="2637000" y="1835280"/>
            <a:ext cx="2295360" cy="3060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DSCN0285.JPG"/>
          <p:cNvPicPr/>
          <p:nvPr/>
        </p:nvPicPr>
        <p:blipFill>
          <a:blip r:embed="rId2"/>
          <a:stretch/>
        </p:blipFill>
        <p:spPr>
          <a:xfrm>
            <a:off x="549360" y="6156360"/>
            <a:ext cx="3647880" cy="27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0"/>
            <a:ext cx="2763720" cy="285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111200" y="6351480"/>
            <a:ext cx="27464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>
            <a:off x="4436640" y="5881680"/>
            <a:ext cx="2421000" cy="3262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6640" y="-360"/>
            <a:ext cx="6021360" cy="88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 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4.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На турнике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стать прямо, ноги вместе. Гимнастическая палка в обеих руках перед собо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однимаясь на носки, поднять палку вверх –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опустить палку на лопатки – длительный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дох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с произношением звука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 “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Ф-Ф-Ф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5. 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Часики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Стоя, ноги слегка расставлены, руки опущены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Размахивая прямыми руками вперед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дох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)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- назад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дох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)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роизносить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 “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Тик- так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Рисунок 14" descr="DSCN0360.JPG"/>
          <p:cNvPicPr/>
          <p:nvPr/>
        </p:nvPicPr>
        <p:blipFill>
          <a:blip r:embed="rId2"/>
          <a:stretch/>
        </p:blipFill>
        <p:spPr>
          <a:xfrm>
            <a:off x="476280" y="1979640"/>
            <a:ext cx="3429000" cy="2833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DSCN0361.JPG"/>
          <p:cNvPicPr/>
          <p:nvPr/>
        </p:nvPicPr>
        <p:blipFill>
          <a:blip r:embed="rId3"/>
          <a:stretch/>
        </p:blipFill>
        <p:spPr>
          <a:xfrm>
            <a:off x="3429000" y="4140360"/>
            <a:ext cx="3287880" cy="273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 rot="10800000">
            <a:off x="0" y="-360"/>
            <a:ext cx="2763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>
            <a:off x="4581360" y="6164280"/>
            <a:ext cx="2276640" cy="2979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68280" y="-181080"/>
            <a:ext cx="5113440" cy="907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 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6.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Маятник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 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стать прямо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ноги  на ширине плеч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алка за спиной на уровне нижних углов лопаток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Наклонять туловище в стороны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ри наклоне – выдох с произнесением слова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 “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Ту-у-к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Выпрямляясь – вдо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7. 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Летят мячи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.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Стоя, рук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с мячом подняты вверх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бросить мяч от груди вперед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оизнести при выдохе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лительное 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У-у-х-х-х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844640" y="2195640"/>
            <a:ext cx="4032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5" name="Рисунок 10" descr="DSCN0298.JPG"/>
          <p:cNvPicPr/>
          <p:nvPr/>
        </p:nvPicPr>
        <p:blipFill>
          <a:blip r:embed="rId2"/>
          <a:stretch/>
        </p:blipFill>
        <p:spPr>
          <a:xfrm>
            <a:off x="333360" y="5148360"/>
            <a:ext cx="2519280" cy="3692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3" descr="DSCN0368.JPG"/>
          <p:cNvPicPr/>
          <p:nvPr/>
        </p:nvPicPr>
        <p:blipFill>
          <a:blip r:embed="rId3"/>
          <a:stretch/>
        </p:blipFill>
        <p:spPr>
          <a:xfrm>
            <a:off x="3716280" y="2340000"/>
            <a:ext cx="2619360" cy="34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 rot="10800000">
            <a:off x="0" y="0"/>
            <a:ext cx="29480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 rot="10800000">
            <a:off x="0" y="-360"/>
            <a:ext cx="2763720" cy="2521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640" y="-324360"/>
            <a:ext cx="6453360" cy="921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осле проведения дыхательных  упражнений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проводится самомассаж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Ребенок поглаживает, похлопывает кисти рук, предплечья, плечи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оглаживает, похлопывает грудь, бедра, ног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Затем 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переходим к хождению по массажным дорожк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Хождение по рефлексогенным дорожкам способствует профилактике плоскостоп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Рисунок 6" descr="DSCN0101.JPG"/>
          <p:cNvPicPr/>
          <p:nvPr/>
        </p:nvPicPr>
        <p:blipFill>
          <a:blip r:embed="rId2"/>
          <a:stretch/>
        </p:blipFill>
        <p:spPr>
          <a:xfrm>
            <a:off x="981000" y="1908000"/>
            <a:ext cx="2347920" cy="3132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DSCN0104.JPG"/>
          <p:cNvPicPr/>
          <p:nvPr/>
        </p:nvPicPr>
        <p:blipFill>
          <a:blip r:embed="rId3"/>
          <a:stretch/>
        </p:blipFill>
        <p:spPr>
          <a:xfrm>
            <a:off x="4076640" y="1967040"/>
            <a:ext cx="2305080" cy="3073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DSCN0279.JPG"/>
          <p:cNvPicPr/>
          <p:nvPr/>
        </p:nvPicPr>
        <p:blipFill>
          <a:blip r:embed="rId4"/>
          <a:stretch/>
        </p:blipFill>
        <p:spPr>
          <a:xfrm>
            <a:off x="260280" y="58132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Tolik\AppData\Local\Microsoft\Windows\Temporary Internet Files\Content.IE5\IKB7XP31\MC900223048[1].wmf"/>
          <p:cNvPicPr/>
          <p:nvPr/>
        </p:nvPicPr>
        <p:blipFill>
          <a:blip r:embed="rId5"/>
          <a:stretch/>
        </p:blipFill>
        <p:spPr>
          <a:xfrm flipH="1">
            <a:off x="4723920" y="6181560"/>
            <a:ext cx="21337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640" y="178920"/>
            <a:ext cx="6453360" cy="87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Ходьба по 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орожкам здоровья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Зашагали ножки, топ, топ,топ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ямо по дорожке, топ, топ, топ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Ну-ка веселее, топ, топ, топ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от как мы умеем, топ, топ, топ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Рисунок 12" descr="DSCN0280.JPG"/>
          <p:cNvPicPr/>
          <p:nvPr/>
        </p:nvPicPr>
        <p:blipFill>
          <a:blip r:embed="rId1"/>
          <a:stretch/>
        </p:blipFill>
        <p:spPr>
          <a:xfrm>
            <a:off x="1773360" y="1332000"/>
            <a:ext cx="3600360" cy="3259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DSCN0102.JPG"/>
          <p:cNvPicPr/>
          <p:nvPr/>
        </p:nvPicPr>
        <p:blipFill>
          <a:blip r:embed="rId2"/>
          <a:stretch/>
        </p:blipFill>
        <p:spPr>
          <a:xfrm>
            <a:off x="260280" y="4932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250560"/>
            <a:ext cx="2763720" cy="25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292640" y="6477120"/>
            <a:ext cx="2565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640" y="178920"/>
            <a:ext cx="6453360" cy="87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ереходим к самомассажу с использованием массажеров.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Перекатываем мяч вперед – назад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Массируем стопы ног с помощью деревянных массаже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3" name="Рисунок 6" descr="DSCN0319.JPG"/>
          <p:cNvPicPr/>
          <p:nvPr/>
        </p:nvPicPr>
        <p:blipFill>
          <a:blip r:embed="rId1"/>
          <a:stretch/>
        </p:blipFill>
        <p:spPr>
          <a:xfrm>
            <a:off x="1844640" y="1692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DSCN0322.JPG"/>
          <p:cNvPicPr/>
          <p:nvPr/>
        </p:nvPicPr>
        <p:blipFill>
          <a:blip r:embed="rId2"/>
          <a:stretch/>
        </p:blipFill>
        <p:spPr>
          <a:xfrm>
            <a:off x="333360" y="4932360"/>
            <a:ext cx="2995560" cy="399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DSCN0294.JPG"/>
          <p:cNvPicPr/>
          <p:nvPr/>
        </p:nvPicPr>
        <p:blipFill>
          <a:blip r:embed="rId3"/>
          <a:stretch/>
        </p:blipFill>
        <p:spPr>
          <a:xfrm>
            <a:off x="3645000" y="4919760"/>
            <a:ext cx="3024000" cy="40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 rot="10800000">
            <a:off x="0" y="0"/>
            <a:ext cx="2763720" cy="27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Tolik\AppData\Local\Microsoft\Windows\Temporary Internet Files\Content.IE5\IKB7XP31\MC900223048[1].wmf"/>
          <p:cNvPicPr/>
          <p:nvPr/>
        </p:nvPicPr>
        <p:blipFill>
          <a:blip r:embed="rId5"/>
          <a:stretch/>
        </p:blipFill>
        <p:spPr>
          <a:xfrm flipH="1">
            <a:off x="4365360" y="6291360"/>
            <a:ext cx="2492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04640" y="178920"/>
            <a:ext cx="6453360" cy="87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Также эффективными упражнениями для профилактики плоскостопия являются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Хождение по массажному колечк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Упражнение 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Собери игрушки 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Игрушки дети собирают пальчиками ног, развивая координацию, ловкость, укрепляя мышцы ног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Рисунок 9" descr="DSCN0324.JPG"/>
          <p:cNvPicPr/>
          <p:nvPr/>
        </p:nvPicPr>
        <p:blipFill>
          <a:blip r:embed="rId1"/>
          <a:stretch/>
        </p:blipFill>
        <p:spPr>
          <a:xfrm>
            <a:off x="2781360" y="1979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2" descr="DSCN0374.JPG"/>
          <p:cNvPicPr/>
          <p:nvPr/>
        </p:nvPicPr>
        <p:blipFill>
          <a:blip r:embed="rId2"/>
          <a:stretch/>
        </p:blipFill>
        <p:spPr>
          <a:xfrm>
            <a:off x="476280" y="608472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276372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279680" y="5862600"/>
            <a:ext cx="2577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 rot="10800000">
            <a:off x="0" y="-360"/>
            <a:ext cx="3119400" cy="270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04640" y="178920"/>
            <a:ext cx="6453360" cy="87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Упражнение  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“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Собери игрушку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”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приносит еще и положительный эмоциональный эффект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Таким образом создается интерес к упражнениям, направленным на сохранение и укрепление здоровь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Рисунок 6" descr="DSCN0371.JPG"/>
          <p:cNvPicPr/>
          <p:nvPr/>
        </p:nvPicPr>
        <p:blipFill>
          <a:blip r:embed="rId2"/>
          <a:stretch/>
        </p:blipFill>
        <p:spPr>
          <a:xfrm>
            <a:off x="476280" y="197964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DSCN0373.JPG"/>
          <p:cNvPicPr/>
          <p:nvPr/>
        </p:nvPicPr>
        <p:blipFill>
          <a:blip r:embed="rId3"/>
          <a:stretch/>
        </p:blipFill>
        <p:spPr>
          <a:xfrm>
            <a:off x="3860640" y="2087640"/>
            <a:ext cx="2592720" cy="345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DSCN0377.JPG"/>
          <p:cNvPicPr/>
          <p:nvPr/>
        </p:nvPicPr>
        <p:blipFill>
          <a:blip r:embed="rId4"/>
          <a:stretch/>
        </p:blipFill>
        <p:spPr>
          <a:xfrm>
            <a:off x="1484280" y="579600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Tolik\AppData\Local\Microsoft\Windows\Temporary Internet Files\Content.IE5\IKB7XP31\MC900223048[1].wmf"/>
          <p:cNvPicPr/>
          <p:nvPr/>
        </p:nvPicPr>
        <p:blipFill>
          <a:blip r:embed="rId5"/>
          <a:stretch/>
        </p:blipFill>
        <p:spPr>
          <a:xfrm flipH="1">
            <a:off x="4220640" y="5788080"/>
            <a:ext cx="2637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324000"/>
            <a:ext cx="53625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Пробуждение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- является одним из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важнейших моментов,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способствующих нормальному протеканию жизненно важных процессов для ребенк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Гимнастика после сна направлена на правильное, постепенное пробуждение ото сна. Это также является закаливающей процедуро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Гимнастика после сна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помогает детям поднять настроение, мышечный тонус, а также обеспечивает профилактику нарушений осанки и плоскостоп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  <p:pic>
        <p:nvPicPr>
          <p:cNvPr id="47" name="Рисунок 4" descr="DSCN0325.JPG"/>
          <p:cNvPicPr/>
          <p:nvPr/>
        </p:nvPicPr>
        <p:blipFill>
          <a:blip r:embed="rId1"/>
          <a:stretch/>
        </p:blipFill>
        <p:spPr>
          <a:xfrm>
            <a:off x="476280" y="4356000"/>
            <a:ext cx="5832360" cy="437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263700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365360" y="6311880"/>
            <a:ext cx="24922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 rot="10800000">
            <a:off x="0" y="-360"/>
            <a:ext cx="302904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04640" y="178920"/>
            <a:ext cx="6453360" cy="87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Мы познакомили вас с некоторыми упражнениями, цель которых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ктивизировать физиологические системы в процессе закаливания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ктивизировать функции дыхательного аппарата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офилактика нарушения осанки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офилактика плоскостоп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Комплексы упражнений составлены таким образом, чтобы ребенок не только не потерял интерес к физическим упражнениям, но и  стремился их выполнять  вне стен детского сад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Помогите ребенку в этом стремлении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позанимайтесь с ним дома 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1052640" y="684360"/>
            <a:ext cx="5805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4" name="Рисунок 10" descr="DSCN0362.JPG"/>
          <p:cNvPicPr/>
          <p:nvPr/>
        </p:nvPicPr>
        <p:blipFill>
          <a:blip r:embed="rId2"/>
          <a:stretch/>
        </p:blipFill>
        <p:spPr>
          <a:xfrm>
            <a:off x="981000" y="4788000"/>
            <a:ext cx="5184720" cy="414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206960" y="5862600"/>
            <a:ext cx="2651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44280" y="323640"/>
            <a:ext cx="44989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Комплексы гимнастики после  дневного сна основаны на уже имеющемся двигательном опыте ребенка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 Длительность проведения гимнастики должна составлять 7-15 минут.</a:t>
            </a:r>
            <a:br>
              <a:rPr sz="1400"/>
            </a:br>
            <a:br>
              <a:rPr sz="1400"/>
            </a:b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Georgia"/>
              </a:rPr>
              <a:t>Гимнастика после сна состоит из нескольких частей</a:t>
            </a:r>
            <a:r>
              <a:rPr b="1" i="1" lang="en-US" sz="1400" spc="-1" strike="noStrike" u="sng">
                <a:solidFill>
                  <a:srgbClr val="002060"/>
                </a:solidFill>
                <a:uFillTx/>
                <a:latin typeface="Georgia"/>
              </a:rPr>
              <a:t>: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49360" y="2555640"/>
            <a:ext cx="5975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Комплекс упражнений для разминки в постел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гимнастика пробуждения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ыхательная гимнастик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Ходьба по массажным дорожкам, самомассаж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Цель данных упражнений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- активизировать физиологические системы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ктивизировать функции дыхательного аппарата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развивать двигательное воображени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 также профилактика нарушения осанки, профилактика плоскостоп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Рисунок 6" descr="DSCN0327.JPG"/>
          <p:cNvPicPr/>
          <p:nvPr/>
        </p:nvPicPr>
        <p:blipFill>
          <a:blip r:embed="rId1"/>
          <a:stretch/>
        </p:blipFill>
        <p:spPr>
          <a:xfrm>
            <a:off x="1125360" y="541800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 rot="10800000">
            <a:off x="0" y="0"/>
            <a:ext cx="2763720" cy="26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587840" y="6084720"/>
            <a:ext cx="227016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0280" y="178920"/>
            <a:ext cx="57229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Нам хотелось бы познакомить вас с методикой проведения гимнастики после сна и предложить  вам применить ее в домашних условиях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Ведь не секрет, что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в регулярности выполнения оздоровительных упражнений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залог здоровья наших детей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28520" y="6372000"/>
            <a:ext cx="4800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002060"/>
              </a:solidFill>
              <a:latin typeface="Georgia"/>
            </a:endParaRPr>
          </a:p>
        </p:txBody>
      </p:sp>
      <p:pic>
        <p:nvPicPr>
          <p:cNvPr id="57" name="Рисунок 5" descr="DSCN0153.JPG"/>
          <p:cNvPicPr/>
          <p:nvPr/>
        </p:nvPicPr>
        <p:blipFill>
          <a:blip r:embed="rId1"/>
          <a:stretch/>
        </p:blipFill>
        <p:spPr>
          <a:xfrm>
            <a:off x="692280" y="3924360"/>
            <a:ext cx="5976720" cy="44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>
            <a:off x="4652640" y="6300720"/>
            <a:ext cx="2205000" cy="284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0"/>
            <a:ext cx="2763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0280" y="178920"/>
            <a:ext cx="572292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             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Гимнастика пробуждения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обуждение детей происходит под           звуки  плавной музыки, </a:t>
            </a: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ызывающей  приятные, положительные эмоции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Гимнастика в постели направлена на постепенный, плавный переход ото сна к бодрствованию. Гимнастика проводится с проснувшимися детьми, остальные присоединяются по мере пробуждения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Дети, лежа в постели, выполняют 4-6 упражнений общеразвивающего воздействия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Упражнения выполняются из разных положений</a:t>
            </a:r>
            <a:r>
              <a:rPr b="1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лежа на спине, на боку, на животе, сидя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Главное правило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исключить резкие движения, которые могут вызвать растяжение мышц, перевозбуждение. </a:t>
            </a: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лительность гимнастики около 2-3 минут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28520" y="6372000"/>
            <a:ext cx="4800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002060"/>
              </a:solidFill>
              <a:latin typeface="Georgia"/>
            </a:endParaRPr>
          </a:p>
        </p:txBody>
      </p:sp>
      <p:pic>
        <p:nvPicPr>
          <p:cNvPr id="62" name="Рисунок 4" descr="DSCN0332.JPG"/>
          <p:cNvPicPr/>
          <p:nvPr/>
        </p:nvPicPr>
        <p:blipFill>
          <a:blip r:embed="rId1"/>
          <a:stretch/>
        </p:blipFill>
        <p:spPr>
          <a:xfrm>
            <a:off x="1073160" y="5199120"/>
            <a:ext cx="4732200" cy="354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Tolik\AppData\Local\Microsoft\Windows\Temporary Internet Files\Content.IE5\IKB7XP31\MC900223048[1].wmf"/>
          <p:cNvPicPr/>
          <p:nvPr/>
        </p:nvPicPr>
        <p:blipFill>
          <a:blip r:embed="rId2"/>
          <a:stretch/>
        </p:blipFill>
        <p:spPr>
          <a:xfrm flipH="1" rot="10800000">
            <a:off x="0" y="-360"/>
            <a:ext cx="276372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365360" y="6280200"/>
            <a:ext cx="2492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41000" y="394920"/>
            <a:ext cx="50022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ля того, чтобы вызвать у детей эмоциональный отклик, </a:t>
            </a: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а также желание выполнять упражнения  , </a:t>
            </a: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комплекс гимнастики состоит из легких игровых упражнений, имитирующих поведение животных, движения человека,  явления природы и т.п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88640" y="1979280"/>
            <a:ext cx="66690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«Мы проснулись»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</a:t>
            </a: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Каждое упражнение выполняется 3-4 раза. 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1.</a:t>
            </a: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Детки просыпаются</a:t>
            </a: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–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и.п.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лежа на спине. Поворачивать голову направо, затем налево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2.«Веселые ручки»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- и. п.: лежа на спине. Поднимать руки в ввер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и опускать вниз.   ( либо поднимать руки в стороны и опускать вниз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)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                                       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Рисунок 5" descr="DSCN0331.JPG"/>
          <p:cNvPicPr/>
          <p:nvPr/>
        </p:nvPicPr>
        <p:blipFill>
          <a:blip r:embed="rId1"/>
          <a:stretch/>
        </p:blipFill>
        <p:spPr>
          <a:xfrm>
            <a:off x="549360" y="6300720"/>
            <a:ext cx="34560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DSCN0326.JPG"/>
          <p:cNvPicPr/>
          <p:nvPr/>
        </p:nvPicPr>
        <p:blipFill>
          <a:blip r:embed="rId2"/>
          <a:stretch/>
        </p:blipFill>
        <p:spPr>
          <a:xfrm>
            <a:off x="2924280" y="305928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>
            <a:off x="4199040" y="6711840"/>
            <a:ext cx="2658960" cy="243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 rot="10800000">
            <a:off x="0" y="0"/>
            <a:ext cx="27637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1000" y="394920"/>
            <a:ext cx="50022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25360" y="395280"/>
            <a:ext cx="5732640" cy="86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3.«Сильные ножки» </a:t>
            </a: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и. п.: то же. Предложить детям поднять обе ноги и опустить в исходное положение.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" name="Рисунок 6" descr="DSCN0333.JPG"/>
          <p:cNvPicPr/>
          <p:nvPr/>
        </p:nvPicPr>
        <p:blipFill>
          <a:blip r:embed="rId1"/>
          <a:stretch/>
        </p:blipFill>
        <p:spPr>
          <a:xfrm>
            <a:off x="1197000" y="169236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692280" y="5003640"/>
            <a:ext cx="54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4. «Жучки</a:t>
            </a: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»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- и. п.: то же Делать круговые движения руками и ногами одновременно 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жучок встать не может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)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Рисунок 9" descr="DSCN0351.JPG"/>
          <p:cNvPicPr/>
          <p:nvPr/>
        </p:nvPicPr>
        <p:blipFill>
          <a:blip r:embed="rId2"/>
          <a:stretch/>
        </p:blipFill>
        <p:spPr>
          <a:xfrm>
            <a:off x="1197000" y="565164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0"/>
            <a:ext cx="2763720" cy="2247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770000" y="6329520"/>
            <a:ext cx="20876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Tolik\AppData\Local\Microsoft\Windows\Temporary Internet Files\Content.IE5\IKB7XP31\MC900223048[1].wmf"/>
          <p:cNvPicPr/>
          <p:nvPr/>
        </p:nvPicPr>
        <p:blipFill>
          <a:blip r:embed="rId1"/>
          <a:stretch/>
        </p:blipFill>
        <p:spPr>
          <a:xfrm flipH="1" rot="10800000">
            <a:off x="0" y="0"/>
            <a:ext cx="2763720" cy="2340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92280" y="323640"/>
            <a:ext cx="5976720" cy="85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5.«Кошечки» </a:t>
            </a: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и. п.: стоя на  четвереньках, выгибать спинку и возвращаться  в и.п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6. </a:t>
            </a: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lang="ru-RU" sz="1400" spc="-1" strike="noStrike">
                <a:solidFill>
                  <a:srgbClr val="c00000"/>
                </a:solidFill>
                <a:latin typeface="Georgia"/>
              </a:rPr>
              <a:t>Рыбка</a:t>
            </a: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- и.п.</a:t>
            </a:r>
            <a:r>
              <a:rPr b="0" i="1" lang="en-US" sz="14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0" i="1" lang="ru-RU" sz="1400" spc="-1" strike="noStrike">
                <a:solidFill>
                  <a:srgbClr val="002060"/>
                </a:solidFill>
                <a:latin typeface="Georgia"/>
              </a:rPr>
              <a:t> лежа на животе.  Постараться одновременно вытянуть руки и приподнять ноги.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125360" y="900000"/>
            <a:ext cx="5256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" name="Рисунок 6" descr="DSCN0342.JPG"/>
          <p:cNvPicPr/>
          <p:nvPr/>
        </p:nvPicPr>
        <p:blipFill>
          <a:blip r:embed="rId2"/>
          <a:stretch/>
        </p:blipFill>
        <p:spPr>
          <a:xfrm>
            <a:off x="1125360" y="1403280"/>
            <a:ext cx="4464360" cy="334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SCN0341.JPG"/>
          <p:cNvPicPr/>
          <p:nvPr/>
        </p:nvPicPr>
        <p:blipFill>
          <a:blip r:embed="rId3"/>
          <a:stretch/>
        </p:blipFill>
        <p:spPr>
          <a:xfrm>
            <a:off x="1052640" y="543564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652640" y="6692760"/>
            <a:ext cx="2205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52280" y="323640"/>
            <a:ext cx="5616360" cy="85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Детям очень нравится гимнастика пробуждения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В результате такого подхода к данному режимному моменту мы видим, что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робуждение проходит безболезненно для ребенка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он легко включается в игровые упражнения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Georgia"/>
              </a:rPr>
              <a:t>получает положительный эмоциональный настро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052640" y="900000"/>
            <a:ext cx="525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Рисунок 7" descr="DSCN0345.JPG"/>
          <p:cNvPicPr/>
          <p:nvPr/>
        </p:nvPicPr>
        <p:blipFill>
          <a:blip r:embed="rId1"/>
          <a:stretch/>
        </p:blipFill>
        <p:spPr>
          <a:xfrm>
            <a:off x="1628640" y="1116000"/>
            <a:ext cx="4077000" cy="3057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DSCN0336.JPG"/>
          <p:cNvPicPr/>
          <p:nvPr/>
        </p:nvPicPr>
        <p:blipFill>
          <a:blip r:embed="rId2"/>
          <a:stretch/>
        </p:blipFill>
        <p:spPr>
          <a:xfrm>
            <a:off x="549360" y="5796000"/>
            <a:ext cx="4079880" cy="30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Tolik\AppData\Local\Microsoft\Windows\Temporary Internet Files\Content.IE5\IKB7XP31\MC900223048[1].wmf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2394000" cy="21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Tolik\AppData\Local\Microsoft\Windows\Temporary Internet Files\Content.IE5\IKB7XP31\MC900223048[1].wmf"/>
          <p:cNvPicPr/>
          <p:nvPr/>
        </p:nvPicPr>
        <p:blipFill>
          <a:blip r:embed="rId4"/>
          <a:stretch/>
        </p:blipFill>
        <p:spPr>
          <a:xfrm flipH="1">
            <a:off x="4436640" y="6375240"/>
            <a:ext cx="24210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3:01:14Z</dcterms:created>
  <dc:creator>Tolik</dc:creator>
  <dc:description/>
  <dc:language>en-US</dc:language>
  <cp:lastModifiedBy>Tolik</cp:lastModifiedBy>
  <dcterms:modified xsi:type="dcterms:W3CDTF">2012-02-05T07:51:14Z</dcterms:modified>
  <cp:revision>52</cp:revision>
  <dc:subject/>
  <dc:title>Как помочь малышу проснуться!</dc:title>
</cp:coreProperties>
</file>