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2B0-095D-4FF2-8A1A-B40FA280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999-EFFD-4A29-B604-C533A5D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EBB-5745-4808-823B-54581293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E88-864A-4A18-9860-33729422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4171-DBEE-4E70-A637-0E95DCD4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B8D2-E0A3-444D-A998-67DCDCE9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4FBC-7046-4A58-B9EE-63019BBB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51C-BA11-451D-8BE5-70D527D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4199-894A-4178-9BB0-1616B16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0542-CF6F-48F5-A63C-689CFC9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6575-C698-4FF6-B1EF-56649C9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878-1015-4AE8-944A-6799B899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3CFB-E9C7-4C52-846A-857BDC92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4F3-915F-4673-8895-3B32248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2652-2835-470A-8CFB-9853B67D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1529-479D-4D33-80EB-2737C3D4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4548-FBC5-4457-A2C2-119B9BD8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72E-F258-47C4-B6BC-A9AD3DCC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629-51F6-4B99-AE32-9659FED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C42-4BF5-47F9-826B-1BCF449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3E4-AFBA-4006-910C-1CD8594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BF7-F5DA-4657-BBCB-6F27D658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636-91C9-49C9-A83C-BBBDE62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745-0B38-4280-B798-64F41D3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EA5B-AF85-4B65-823E-D33CC75AA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F5A-B784-44CF-A320-6E1FF0B4F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demotivators.rublogs.org/wp-content/uploads/2010/01/767393_uzhas-21-veka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lh5.googleusercontent.com/-6Jlfs-9VlCg/TWt6rmOLbXI/AAAAAAAACfU/YxtlddgfbNY/s1600/buklet_odinochestv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tdata.ru/u11/photoABA8/20001595014-0/big.jpe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ема урока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Образ «страшного мира» в творчестве А.Блок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09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71866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Призыв Л.Бетховена «Человек, помогай себе сам» звучит убедительно и в 21 веке, когда так непросто « быть человеком и чувствовать свою ответственность, сознавать, что, кладя свой кирпич, и ты помогаешь строить мир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Экзюпе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ким будет 21 век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959280" cy="431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98900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Перечитать стихотворения Блока о «страшном мире», одно из них выучить наизу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Написать развернутый ответ на вопрос: «Как жить, чтобы 21 век не был страшны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Сделать устный обзор цикла «Родин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ние по группам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042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гр.- «Фабрика», «С мирным счастьем покончены счеты…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гр.- «Сытые», «Как тяжело ходить среди людей…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гр.- «Петр», « Город в красные пределы…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гр.- «Ночь, улица, фонарь, аптека…», « Миры летят, года летят…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читай стихотворения, составь реестр цитат, сделай аналитический комментар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Страшный мир» А.Бл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481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Страшный мир» А.Бл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48428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Страшный мир» А.Бл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417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Страшный мир» А.Бл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Страшный мир» А.Бл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ворч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 к женщи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чная красота, при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 к Роди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язь с прошл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844640"/>
            <a:ext cx="4248000" cy="4176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3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Великие художники русские - Пушкин, Гоголь, Достоевский, Толстой – погружались во мрак, но они же имели силы пребывать и таиться в этом мраке: ибо они верили в свет. Они знали свет. Каждый из них, как весь народ, выносивший их под сердцем, скрежетал зубами во мраке, отчаянье, часто злобе. Но они знали, что рано или поздно все будет по-новому, потому что жизнь прекрасна».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 Бл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… жизнь прекрасна …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413000"/>
            <a:ext cx="2376360" cy="280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3889440" cy="237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4032360" cy="283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55640" y="378936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4:57Z</dcterms:created>
  <dc:creator>root</dc:creator>
  <dc:description/>
  <dc:language>en-US</dc:language>
  <cp:lastModifiedBy>Admin</cp:lastModifiedBy>
  <dcterms:modified xsi:type="dcterms:W3CDTF">2011-11-20T15:58:23Z</dcterms:modified>
  <cp:revision>32</cp:revision>
  <dc:subject/>
  <dc:title>Тема урока: «Образ «страшного мира» в творчестве А.Блока»</dc:title>
</cp:coreProperties>
</file>