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588-0E4C-42A8-AE62-A372B768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10E-D260-4743-9735-1B567B30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BF7-5DDB-4AAD-9770-77169119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F02-66AF-4099-BA82-3E565C4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071-517B-4DD5-BFDD-1EEF90E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A57-2C40-44EF-BBA7-BF8DA36A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98E-4DBC-4A8A-B819-11CC551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8A0-D3B9-4680-B76C-41BB29A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713-8E35-4750-83AC-20F0982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DC26-CBF2-479A-9017-A57CA74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8D0-EF25-45A7-8A79-7BF8B6D6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84B-5841-481A-BDCB-AA0824F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22A-7775-41F8-80E0-BA22EC5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31F5-3839-4B60-8909-1FB8E99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C3F7-1AD8-4EFC-964B-EB7C1E9C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51AA-8E91-4A2E-BD80-0A6BD907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764E-86BA-453D-A976-72B7FCF3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CEE-427E-42B9-BF6C-5FDC2EF3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6F9-F02E-436D-AE34-47170DED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0DC-6B56-42A8-817F-7E6D4E1B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1B8-1EA5-425F-9F80-C63A6B7F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53C-69FC-4D24-AC72-C128BE3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005-9A8C-4211-A879-C556B4C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17A-12CB-4DBD-81D3-9408C81D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9C3-EAED-4999-BD64-85B7B6E66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813B-F273-42BB-BACE-9EBFEEDF95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01000" cy="242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Garamond"/>
              </a:rPr>
              <a:t>Проект</a:t>
            </a: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Garamond"/>
              </a:rPr>
              <a:t> «Здоровый образ жизни»</a:t>
            </a:r>
            <a:endParaRPr b="1" lang="en-US" sz="5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тельная к школе групп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ДОУ «Детский сад «Солнышк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итатель – Мартюшева Е.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E:\Мамина\Мамина\DCIM\100_PANA\P1000710.JPG"/>
          <p:cNvPicPr/>
          <p:nvPr/>
        </p:nvPicPr>
        <p:blipFill>
          <a:blip r:embed="rId1"/>
          <a:srcRect l="0" t="31115" r="20003" b="0"/>
          <a:stretch/>
        </p:blipFill>
        <p:spPr>
          <a:xfrm>
            <a:off x="2857680" y="4214880"/>
            <a:ext cx="3429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760" y="0"/>
            <a:ext cx="8358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Цели проект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Расширять и закреплять знания детей о здоровом образе жиз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Совершенствовать физические способ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Воспитывать желание вести здоровый образ жиз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Продолжать развивать способности к поисковой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C:\Users\Manich\Desktop\101_PANA\P1010332.JPG"/>
          <p:cNvPicPr/>
          <p:nvPr/>
        </p:nvPicPr>
        <p:blipFill>
          <a:blip r:embed="rId1"/>
          <a:srcRect l="0" t="31255" r="20316" b="0"/>
          <a:stretch/>
        </p:blipFill>
        <p:spPr>
          <a:xfrm>
            <a:off x="2286000" y="34290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Garamond"/>
              </a:rPr>
              <a:t>Этапы реализации проекта </a:t>
            </a: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этап – накопление зн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спитатели + де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Читали произведения К.Чуковского, А. Барто, энциклопедические издания о здоровом образе жиз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Играли в подвижные, дидактически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весные, сюжетно – ролевые игр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Разгадывали кроссворд, загадк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учивали пословицы, стих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Беседовали о ЗОЖ с медсестр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тского отделения ЦР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C:\Users\Manich\Desktop\101_PANA\P1010551.JPG"/>
          <p:cNvPicPr/>
          <p:nvPr/>
        </p:nvPicPr>
        <p:blipFill>
          <a:blip r:embed="rId1"/>
          <a:srcRect l="26673" t="20599" r="0" b="0"/>
          <a:stretch/>
        </p:blipFill>
        <p:spPr>
          <a:xfrm>
            <a:off x="5786280" y="414324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55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спитатели + де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Рассматривали  энциклопедию, иллюстрации, плакат «Внутренние органы человека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Занимались творчеством: лепка « Дети играют с мячом»; рисование «Закаляйся, если хочешь быть здоров», «Комнатное растение» ; аппликация «Предметы личной гигиены для девочки чумазой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ыполняли оздоровительные мероприятия: утренняя и дыхательная гимнастика; физкультурные занятия; прогулка; вдыхание фитонцидов; полоскание рта после еды, горла соленой водой; гимнастика посл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невного сна; ходьба по «колючей» дорожке; закладывание оксолиновой мази в носовые х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ffcc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99680" y="285480"/>
            <a:ext cx="3900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Garamond"/>
              </a:rPr>
              <a:t>II </a:t>
            </a: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этап – практический</a:t>
            </a:r>
            <a:endParaRPr b="1" lang="en-US" sz="2800" spc="-1" strike="noStrike">
              <a:solidFill>
                <a:srgbClr val="cc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ffff"/>
              </a:solidFill>
              <a:latin typeface="Garamond"/>
            </a:endParaRPr>
          </a:p>
        </p:txBody>
      </p:sp>
      <p:pic>
        <p:nvPicPr>
          <p:cNvPr id="125" name="Picture 12" descr="E:\Мамина\DCIM\100_PANA\P1000215.JPG"/>
          <p:cNvPicPr/>
          <p:nvPr/>
        </p:nvPicPr>
        <p:blipFill>
          <a:blip r:embed="rId1"/>
          <a:srcRect l="16404" t="0" r="13283" b="0"/>
          <a:stretch/>
        </p:blipFill>
        <p:spPr>
          <a:xfrm>
            <a:off x="5572080" y="3143160"/>
            <a:ext cx="314316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E:\Мамина\DCIM\100_PANA\P1000709.JPG"/>
          <p:cNvPicPr/>
          <p:nvPr/>
        </p:nvPicPr>
        <p:blipFill>
          <a:blip r:embed="rId2"/>
          <a:srcRect l="13205" t="39793" r="0" b="0"/>
          <a:stretch/>
        </p:blipFill>
        <p:spPr>
          <a:xfrm>
            <a:off x="428760" y="3143160"/>
            <a:ext cx="350028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Manich\Desktop\101_PANA\P1010236.JPG"/>
          <p:cNvPicPr/>
          <p:nvPr/>
        </p:nvPicPr>
        <p:blipFill>
          <a:blip r:embed="rId3"/>
          <a:stretch/>
        </p:blipFill>
        <p:spPr>
          <a:xfrm>
            <a:off x="2357280" y="214200"/>
            <a:ext cx="4429440" cy="3167280"/>
          </a:xfrm>
          <a:prstGeom prst="rect">
            <a:avLst/>
          </a:prstGeom>
          <a:ln w="0">
            <a:noFill/>
          </a:ln>
        </p:spPr>
      </p:pic>
      <p:sp>
        <p:nvSpPr>
          <p:cNvPr id="128" name="Солнце 23"/>
          <p:cNvSpPr/>
          <p:nvPr/>
        </p:nvSpPr>
        <p:spPr>
          <a:xfrm>
            <a:off x="500040" y="357120"/>
            <a:ext cx="1771560" cy="1914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Облако 24"/>
          <p:cNvSpPr/>
          <p:nvPr/>
        </p:nvSpPr>
        <p:spPr>
          <a:xfrm>
            <a:off x="6858000" y="714240"/>
            <a:ext cx="1628640" cy="1500480"/>
          </a:xfrm>
          <a:prstGeom prst="pie">
            <a:avLst/>
          </a:prstGeom>
          <a:solidFill>
            <a:srgbClr val="99ebff"/>
          </a:solidFill>
          <a:ln w="25560">
            <a:solidFill>
              <a:srgbClr val="00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7-конечная звезда 10"/>
          <p:cNvSpPr/>
          <p:nvPr/>
        </p:nvSpPr>
        <p:spPr>
          <a:xfrm>
            <a:off x="4286160" y="4286160"/>
            <a:ext cx="9144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00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тап – завершающ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спитатели + дети + родител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  Родители ответили на вопросы анкеты «Здоровый образ жизни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ли альбом «Здоровый образ жизни детей подготовительной к школе группы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ли спортивное развлечение «Если хочешь быть здоров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G:\физ. развлечение по ЗОЖ\DSC02481.JPG"/>
          <p:cNvPicPr/>
          <p:nvPr/>
        </p:nvPicPr>
        <p:blipFill>
          <a:blip r:embed="rId1"/>
          <a:srcRect l="7030" t="0" r="13283" b="9370"/>
          <a:stretch/>
        </p:blipFill>
        <p:spPr>
          <a:xfrm>
            <a:off x="3143160" y="3825720"/>
            <a:ext cx="3726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Manich</cp:lastModifiedBy>
  <dcterms:modified xsi:type="dcterms:W3CDTF">2012-02-05T15:53:47Z</dcterms:modified>
  <cp:revision>55</cp:revision>
  <dc:subject/>
  <dc:title>Слайд 1</dc:title>
</cp:coreProperties>
</file>