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3134-C52E-4058-AE84-1D9667DF20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5EB6-7151-44B0-8007-34CF6A3200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7197-5527-44AA-B6EE-C903088B58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47C1-C5E1-4672-91E2-3785D05E89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488D-93D1-472F-8C13-465B293CC0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FC90-5E17-4523-828C-3B1D555374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9E6B-4724-4B69-8B47-02C9FEEBD4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9B45-3CA9-4DAD-93E8-CD26F76511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0EE1-28B9-446D-85BE-58632366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75E2-7F4E-4D92-8EB1-279CBF29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0817-B572-4B70-B551-94F66A95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7B0B-B32B-4C47-A3AE-56D240DF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0266-A60A-4F5C-A53C-391E99DE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6BCC-0843-453E-BE47-1FA2751A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2102-DAE3-484C-B213-CC91F8AD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390E-4700-4C95-B496-05A51DDB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AF5F-209E-4859-B53D-C2437673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1E5F-833A-4BE1-83FE-8A2E1146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3080-BAA2-4EC9-9840-42959529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7070-DB3F-4707-B985-877958F1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7E79-2C1A-46F8-8B20-978759B7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D15A-1CE9-498B-97D6-73885D7B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0CB0-8BAA-4A5A-A310-17DE4A34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B191-9A1E-4FF4-934A-FDE730C3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E16C-F846-42C1-B5C2-3CA2C10C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4C3B-7BC0-45FD-A2D3-D5339F68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F15E-37F1-48E6-A50F-EBA138A0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5346-0877-45BB-B0CD-61E2F98B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0EB-CDE6-4DCB-A1DD-7AAD8451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7C68-C481-4A2F-A17A-AC4503AA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2DEC-003B-412F-9083-CE2E6E5A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68B8-5233-4CBA-961F-CC04CCB2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621F-1D2F-4F88-B8A9-E5284F2CA3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CCC0-6784-46AE-B2CF-48F8A1ED640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Акробатика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еницы 8 «б» клас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БОУ ЦО № 1080 «Экополис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харяева Манан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3353040" y="203040"/>
            <a:ext cx="17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Акробатик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80880" y="990720"/>
            <a:ext cx="74678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Акроба́тика (лат. akrobateō — «хожу на цыпочках» — лезу вверх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1.вид физических упражнений типа гимнастических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2.жанр циркового искусства (акробатика силовая, прыжковая и др.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3.вид спорт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ыделяют спортивную акробатику — соревнования в выполнении комплексов специальных физических упражнений (прыжковых, силовых и др.), связанных с сохранением равновесия (балансирование) и вращением тела с опорой и без опоры. В Международной федерации спортивной акробатики — ИФСА (IFSA; основана в 1973) св. 30 стран (1993). Чемпионаты мира с 1974, Европы с 1978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пециальная акробатика (прыжки, падения, перекаты, фляк, рондад, сальто и т. д.) применяется для подготовки спортсменов и бойцов в единоборствах и вырабатывания у них гибкости, ловкости и координации движе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2593440" y="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Элементы акробати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380880"/>
            <a:ext cx="4267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Фляк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— переворот назад, осуществляемый с толчка с ног. Элемент спортивной акробатики, спортивной и художественной гимнастики и т. п. Спортсмен выполняет толчок с ног, запрокидывается назад, встаёт на руки и затем снова на ноги (бросок с рук на ноги называется курбетом). Фляк выполняется как «с места», так и в связке — например, рондад-фляк-сальто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4114800" y="609480"/>
            <a:ext cx="4572000" cy="1600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5946480" y="223344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Фляк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0" y="2590920"/>
            <a:ext cx="8153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От французского rondade. Вид акробатического переворота. В отличие от других переворотов рондад обеспечивает поворот спортсмена вокруг продольной оси. В спортивной акробатике наиболее распространен рондад - боковой переворот с поворотом на 180 градусов во второй половине элемента (при броске с рук на ноги). В художественной гимнастике, цирковом искусстве и др. применяются другие виды рондадов. В основном р. применяется как динамический элемент, когда надо развернуться (например, для фляка) без потери скорост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14" descr=""/>
          <p:cNvPicPr/>
          <p:nvPr/>
        </p:nvPicPr>
        <p:blipFill>
          <a:blip r:embed="rId2"/>
          <a:stretch/>
        </p:blipFill>
        <p:spPr>
          <a:xfrm>
            <a:off x="4114800" y="4419720"/>
            <a:ext cx="4724280" cy="1557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5"/>
          <p:cNvSpPr/>
          <p:nvPr/>
        </p:nvSpPr>
        <p:spPr>
          <a:xfrm>
            <a:off x="228600" y="4572000"/>
            <a:ext cx="3124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0000"/>
                </a:solidFill>
                <a:latin typeface="Arial"/>
              </a:rPr>
              <a:t>Перекатами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 будем понимать движения, обязательной фазой, которой является оборот тела (и, возможно, не один) вокруг продольной оси (позвоночника).</a:t>
            </a:r>
            <a:r>
              <a:rPr b="0" i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5717520" y="617220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ерека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0" y="0"/>
            <a:ext cx="4572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Сальто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(итал. salto — прыжок) — вращательное движение на 360 и более градусов с места через голову на ноги. Бывает разных видов: в группировке (обычное сальто), согнувшись (углом), в полугруппировке (рваная группировка), прогнувшись и выпрямившись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Сальто является основным элементом в спортивной акробатике. Оно представляет собой переворот в воздухе через голову. Делается в группировке или без неё. Обычно сальто выполняется с ног, что требует развития определенной прыгучести у спортсмена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Различных видов сальто существует огромное множество. Вот некоторые из них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4572000" y="0"/>
            <a:ext cx="4572000" cy="52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Заднее сальто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1.Обычное - с группировкой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2.Прогнувшись - группировка с прямыми ногам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3.Бланш - сальто без группировки,тело ровно прямо или с слегка согнутыми ногами - для красоты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4.Гейнер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5. Стрекасат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6. От стены - сальто после 1-2-3 и более шагов вверх по стене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7.Овербах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Боковое сальто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Стандартное — переворот через голову вбок в группировке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Арабское сальто — боковое сальто с небольшой группировкой. Выполняется с одной ноги или двух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Сальто вперёд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Сальто вперёд с верхним замахом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Сальто вперёд с нижним замахом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Сальто вперёд «Козлом»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Сальто вперёд от стены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Внутренний гейнер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0" y="3886200"/>
            <a:ext cx="3638520" cy="15048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0" y="5460840"/>
            <a:ext cx="154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Заднее сальто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2"/>
          <a:stretch/>
        </p:blipFill>
        <p:spPr>
          <a:xfrm>
            <a:off x="3886200" y="5257800"/>
            <a:ext cx="2743200" cy="10382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1"/>
          <p:cNvSpPr/>
          <p:nvPr/>
        </p:nvSpPr>
        <p:spPr>
          <a:xfrm>
            <a:off x="4648320" y="6095880"/>
            <a:ext cx="1447560" cy="30492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Сальто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вперёд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152280" y="0"/>
            <a:ext cx="4191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Виды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рыжковая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Акробатические прыжки на дорожке длиной 30 метров не учитывая разбег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Фляк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Рондад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Сальто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арная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Силовая пара — двое юношей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Смешанная пара — юноша и девушка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Женская пара — две девушк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Групповая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Мужские группы — четверо юношей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Женские группы — три девушк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Специальная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5105520" y="2819520"/>
            <a:ext cx="4038480" cy="3593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7"/>
          <p:cNvSpPr/>
          <p:nvPr/>
        </p:nvSpPr>
        <p:spPr>
          <a:xfrm>
            <a:off x="5257800" y="6340320"/>
            <a:ext cx="373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Пожилой человек в прыжке курбет, Голливуд, СШ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5410080" y="0"/>
            <a:ext cx="3009960" cy="23241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0"/>
          <p:cNvSpPr/>
          <p:nvPr/>
        </p:nvSpPr>
        <p:spPr>
          <a:xfrm>
            <a:off x="5334120" y="2286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Пожилой человек в равновесии на предплечьях, Голливуд, СШ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11" descr=""/>
          <p:cNvPicPr/>
          <p:nvPr/>
        </p:nvPicPr>
        <p:blipFill>
          <a:blip r:embed="rId3"/>
          <a:stretch/>
        </p:blipFill>
        <p:spPr>
          <a:xfrm>
            <a:off x="152280" y="3276720"/>
            <a:ext cx="2363760" cy="33908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2"/>
          <p:cNvSpPr/>
          <p:nvPr/>
        </p:nvSpPr>
        <p:spPr>
          <a:xfrm>
            <a:off x="2514600" y="3352680"/>
            <a:ext cx="1295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Пожилой человек в стойке на одной руке, Голливуд, СШ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ff0000"/>
                </a:solidFill>
                <a:uFillTx/>
                <a:latin typeface="Garamond"/>
              </a:rPr>
              <a:t>История акробатики</a:t>
            </a:r>
            <a:endParaRPr b="1" lang="en-US" sz="1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380880"/>
            <a:ext cx="9144000" cy="10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Акробатика, как вид физических упражнений, возникла в глубокой древности. Изображения на сохранившихся памятниках, сосудах, фресках и других изделиях свидетельствуют о том, что этот вид спорта был известен в Древнем Египте за 2300 лет до н. э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Занимались акробатическими упражнениями и в Древней Греции. На Крите наряду с театрализованными процессиями, связанными с уборкой урожая и различными церемониями, проводились игры с быками, составной частью которых были акробатические упражнения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Акробатические упражнения с быками в XIX в. встречались также у африканского племени фульбе в северной Нигерии (западная Африка), у племени мораван в южной Индии. Такие игры с быками русский профессор Ефименко видел даже в 1913 г. у басков в Пиринейских горах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Подобные игры с быками, по-видимому, существовали в древности и у народов нашей страны: до сих пор в таджикской борьбе сохранилось название «бычий перекат»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В Древнем Риме акробатические упражнения демонстрировали странствующие артисты – «циркуляторы», которые наряду с этими упражнениями показывали и другие виды искусства: хождение по канату, дрессировку и т. п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В 420 г. до н. э. была распространена пляска на вертящемся гончарном круге, сочетаемая с акробатическими упражнениями. Некоторые богатые римляне содержали при себе «акробатов и разного рода фокусников». Имеются сведения об акробатах, выполнявших различные упражнения на шесте, который держался на лбу. Упоминается об акробатах, которые выполняли сложные упражнения на гибкость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В эпоху Возрождения в Италии Венецианская республика устраивала «конкурсы живой архитектуры», т. е. построения акробатических пирамид. Сенат присуждал приз той группе, которая построит наиболее высокую пирамиду. Известны случаи построения пирамид высотой около 9 метров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ffff"/>
                </a:solidFill>
                <a:latin typeface="Arial"/>
              </a:rPr>
              <a:t>Впервые технику акробатических упражнений попытался описать в специальном руководстве для акробатов-профессионалов Тюккаро. В конце XIX в. Стрели написал книгу «Акробатика и акробаты», в которой охарактеризовал различные жанры профессиональных артистов и описал технику ряда акробатических упражнений.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ffff"/>
                </a:solidFill>
                <a:latin typeface="Arial"/>
              </a:rPr>
              <a:t>На Руси акробатика развивалась самостоятельно. Она пользовалась большим успехом у широких масс населения и составляла обязательную часть увеселительных зрелищ. Древнерусские скоморохи были плясунами, фокусниками, жонглерами и акробатами. Вначале они выступали по одному, а затем объединялись по двое, по трое и группами.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ffff"/>
                </a:solidFill>
                <a:latin typeface="Arial"/>
              </a:rPr>
              <a:t>В первой половине XVII в. в России уже были свои мастера-акробаты различных специальностей, которые обучали акробатическим упражнениям.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ffff"/>
                </a:solidFill>
                <a:latin typeface="Arial"/>
              </a:rPr>
              <a:t>В конце XVIII в. в европейских стационарных столичных цирках появляются акробатические упражнения, которые быстро становятся неотъемлемой частью профессиональных цирковых представлений. А в XIX в. акробатические упражнения начинают включаться в буржуазные национальные системы гимнастики. Таким образом, наметились две линии в дальнейшем развитии акробатики: профессионально-цирковая и спортивно-любительская.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ffff"/>
                </a:solidFill>
                <a:latin typeface="Arial"/>
              </a:rPr>
              <a:t>Профессиональное направление развивалось по пути все более узкой специализации. Происходило это потому, что артисты могли длительное время выступать с одним номером, разъезжая по различным городам и странам. Вместо универсальных, разносторонних артистов прошлого, появляются виртуозы в одном жанре и даже в одном трюке.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ffff"/>
                </a:solidFill>
                <a:latin typeface="Arial"/>
              </a:rPr>
              <a:t>Выделяются относительно самостоятельные виды цирковой акробатики: акробатика на лошадях, силовая акробатика, вольтижная (плечевая) акробатика, «карийские игры» и прыжковая акробатика (со снарядами и без них). Эти основные виды культивируются в цирке и по сей день.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ffff"/>
                </a:solidFill>
                <a:latin typeface="Arial"/>
              </a:rPr>
              <a:t>Второе направление в развитии акробатики – спортивное – связано с включением акробатических элементов в гимнастику и с возникновением кружков любителей акробатики (в особенности в России). С пола акробатические упражнения переносятся на снаряды.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ffff"/>
                </a:solidFill>
                <a:latin typeface="Arial"/>
              </a:rPr>
              <a:t>В 1900 г. в Петербурге появились самодеятельные акробатические кружки, а в 1901 г. состоялось первое выступление акробатов-любителей. Вплоть до империалистической войны 1914 г. такими выступлениями акробатов-любителей сопровождается большинство крупных спортивных вечеров.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ffff"/>
                </a:solidFill>
                <a:latin typeface="Arial"/>
              </a:rPr>
              <a:t>Большую роль в популяризации этого вида спорта сыграли Всесоюзные физкультурные парады, которые проходили регулярно с 1936 года. Но лишь в 1938 году А.К. Бондарев, руководитель Всесоюзной секции, разработал первую классификационную программу и правила соревнований по акробатике. В 1939 году в Москве прошли первые Всесоюзные соревнования по акробатике, которые стали и первыми в мире.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ffff"/>
                </a:solidFill>
                <a:latin typeface="Arial"/>
              </a:rPr>
              <a:t>С 1940 в соревнованиях по акробатике участвуют женщины. С 1951 проводятся юношеские соревнования. С 1967 Федерация спортивной акробатики СССР организует международные матчи по телевидению, с 1972 - международные соревнования на приз памяти лётчика-космонавта СССР, почётного президента федерации В. Н. Волкова.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ffff"/>
                </a:solidFill>
                <a:latin typeface="Arial"/>
              </a:rPr>
              <a:t>В 1974 в Москве состоялся 1-й личный чемпионат мира (участвовали спортсмены Болгарии, Великобритании, Венгрии, Польши, СССР, США, ФРГ и Швейцарии). Чемпионами стали 13 советских спортсменов. В 1975 в Швейцарии проведены первые соревнования на Кубок мира по спортивной акробатике.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5"/>
          <p:cNvSpPr/>
          <p:nvPr/>
        </p:nvSpPr>
        <p:spPr>
          <a:xfrm>
            <a:off x="0" y="0"/>
            <a:ext cx="914400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Впервые технику акробатических упражнений попытался описать в специальном руководстве для акробатов-профессионалов Тюккаро. В конце XIX в. Стрели написал книгу «Акробатика и акробаты», в которой охарактеризовал различные жанры профессиональных артистов и описал технику ряда акробатических упражнений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На Руси акробатика развивалась самостоятельно. Она пользовалась большим успехом у широких масс населения и составляла обязательную часть увеселительных зрелищ. Древнерусские скоморохи были плясунами, фокусниками, жонглерами и акробатами. Вначале они выступали по одному, а затем объединялись по двое, по трое и группами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В первой половине XVII в. в России уже были свои мастера-акробаты различных специальностей, которые обучали акробатическим упражнениям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В конце XVIII в. в европейских стационарных столичных цирках появляются акробатические упражнения, которые быстро становятся неотъемлемой частью профессиональных цирковых представлений. А в XIX в. акробатические упражнения начинают включаться в буржуазные национальные системы гимнастики. Таким образом, наметились две линии в дальнейшем развитии акробатики: профессионально-цирковая и спортивно-любительская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Профессиональное направление развивалось по пути все более узкой специализации. Происходило это потому, что артисты могли длительное время выступать с одним номером, разъезжая по различным городам и странам. Вместо универсальных, разносторонних артистов прошлого, появляются виртуозы в одном жанре и даже в одном трюке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Выделяются относительно самостоятельные виды цирковой акробатики: акробатика на лошадях, силовая акробатика, вольтижная (плечевая) акробатика, «карийские игры» и прыжковая акробатика (со снарядами и без них). Эти основные виды культивируются в цирке и по сей день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Второе направление в развитии акробатики – спортивное – связано с включением акробатических элементов в гимнастику и с возникновением кружков любителей</a:t>
            </a:r>
            <a:r>
              <a:rPr b="1" i="1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акробатики (в особенности в России). С пола акробатические упражнения переносятся на снаряды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В 1900 г. в Петербурге появились самодеятельные акробатические кружки, а в 1901 г. состоялось первое выступление акробатов-любителей. Вплоть до империалистической войны 1914 г. такими выступлениями акробатов-любителей сопровождается большинство крупных спортивных вечеров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Большую роль в популяризации этого вида спорта сыграли Всесоюзные физкультурные парады, которые проходили регулярно с 1936 года. Но лишь в 1938 году А.К. Бондарев, руководитель Всесоюзной секции, разработал первую классификационную программу и правила соревнований по акробатике. В 1939 году в Москве прошли первые Всесоюзные соревнования по акробатике, которые стали и первыми в мире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С 1940 в соревнованиях по акробатике участвуют женщины. С 1951 проводятся юношеские соревнования. С 1967 Федерация спортивной акробатики СССР организует международные матчи по телевидению, с 1972 - международные соревнования на приз памяти лётчика-космонавта СССР, почётного президента федерации В. Н. Волкова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В 1974 в Москве состоялся 1-й личный чемпионат мира (участвовали спортсмены Болгарии, Великобритании, Венгрии, Польши, СССР, США, ФРГ и Швейцарии). Чемпионами стали 13 советских спортсменов. В 1975 в Швейцарии проведены первые соревнования на Кубок мира по спортивной акробатике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429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атериал взят с интернета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www.sport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-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echnics.blogspot.com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.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lina</cp:lastModifiedBy>
  <dcterms:modified xsi:type="dcterms:W3CDTF">2012-02-05T18:15:2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