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557-B697-4D0E-822B-FA5C6CB0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D3D-4292-450F-87F1-5578ED8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C49-C99D-4139-81D2-68329387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C81-DB42-4A2D-A509-A4D58DA6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B3C8-F506-41C3-AF2E-49877279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71F3-97D2-4C75-A647-484242D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847C-D934-4D45-A391-F121AB34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200A-346B-4DED-950D-16D831A6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85CD-1277-437D-96AA-602FE15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809A-6B76-476D-B17C-22AE984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DA52-67AC-4419-BB56-9095AE5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7F5-5078-4C33-B70D-9F410850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007-F8EB-4698-A0B3-1696CA9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1E9F-9BFE-45F1-81CA-6CE8551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22B-1497-43AF-BE6F-817A20CB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4ED-51F5-4F95-8954-A4CCD1A9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7956-0A43-4DFD-AC4D-3A48DF64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905-B5C0-42EA-9FEE-E83A0C27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AF3-C953-45DE-A39C-356D4AF8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DB8-CB3D-42A4-97E5-4BF1DD87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323-DC60-4A0C-8895-4D328B1F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FC5-8099-4E50-92AB-4B7C49EF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707-C832-463A-98AF-BABC293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72C-D53C-45A7-BAAF-FC4938C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C71-88C6-4EAD-A619-E37CAE9C391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D1BF-213F-42C0-AFB4-6D95DBD47CC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www.udarenie.info/" TargetMode="External"/><Relationship Id="rId5" Type="http://schemas.openxmlformats.org/officeDocument/2006/relationships/hyperlink" Target="http://www.udarenie.info/" TargetMode="External"/><Relationship Id="rId6" Type="http://schemas.openxmlformats.org/officeDocument/2006/relationships/hyperlink" Target="http://www.udarenie.info/" TargetMode="External"/><Relationship Id="rId7" Type="http://schemas.openxmlformats.org/officeDocument/2006/relationships/hyperlink" Target="http://www.udarenie.info/" TargetMode="External"/><Relationship Id="rId8" Type="http://schemas.openxmlformats.org/officeDocument/2006/relationships/hyperlink" Target="http://www.genon.ru/" TargetMode="External"/><Relationship Id="rId9" Type="http://schemas.openxmlformats.org/officeDocument/2006/relationships/hyperlink" Target="http://www.genon.ru/" TargetMode="External"/><Relationship Id="rId10" Type="http://schemas.openxmlformats.org/officeDocument/2006/relationships/hyperlink" Target="http://www.genon.ru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2920" y="3860640"/>
            <a:ext cx="525636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265"/>
                </a:solidFill>
                <a:latin typeface="Century Gothic"/>
              </a:rPr>
              <a:t>Проект выполнили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265"/>
                </a:solidFill>
                <a:latin typeface="Century Gothic"/>
              </a:rPr>
              <a:t>ученицы 6 «Б» класс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265"/>
                </a:solidFill>
                <a:latin typeface="Century Gothic"/>
              </a:rPr>
              <a:t>Галушкина Яна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265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b265"/>
                </a:solidFill>
                <a:latin typeface="Century Gothic"/>
              </a:rPr>
              <a:t>Каменская Ан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187280" y="907920"/>
            <a:ext cx="73058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6633"/>
                    </a:gs>
                    <a:gs pos="100000">
                      <a:srgbClr val="ffcc99"/>
                    </a:gs>
                  </a:gsLst>
                  <a:lin ang="2700000"/>
                </a:gradFill>
                <a:latin typeface="Times New Roman"/>
              </a:rPr>
              <a:t>Проект на тему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996633"/>
                  </a:gs>
                  <a:gs pos="100000">
                    <a:srgbClr val="ffcc99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6633"/>
                    </a:gs>
                    <a:gs pos="100000">
                      <a:srgbClr val="ffcc99"/>
                    </a:gs>
                  </a:gsLst>
                  <a:lin ang="2700000"/>
                </a:gradFill>
                <a:latin typeface="Times New Roman"/>
              </a:rPr>
              <a:t>"Как повысить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996633"/>
                  </a:gs>
                  <a:gs pos="100000">
                    <a:srgbClr val="ffcc99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6633"/>
                    </a:gs>
                    <a:gs pos="100000">
                      <a:srgbClr val="ffcc99"/>
                    </a:gs>
                  </a:gsLst>
                  <a:lin ang="2700000"/>
                </a:gradFill>
                <a:latin typeface="Times New Roman"/>
              </a:rPr>
              <a:t>свою грамотность."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996633"/>
                  </a:gs>
                  <a:gs pos="100000">
                    <a:srgbClr val="ffcc99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9720" y="571320"/>
            <a:ext cx="7643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Если прикоснёшься к иве, 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Станешь ты ещё крас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И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ве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У меня в ушах звенит, 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Телефон опять звон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И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т.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Вырвали за целый день весь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щав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Е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ль и весь рев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Е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ь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Если есть всё время т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О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рты, 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е малы ли будут шорт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99720" y="571320"/>
            <a:ext cx="7643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Звон</a:t>
            </a:r>
            <a:r>
              <a:rPr b="1" lang="ru-RU" sz="3200" spc="-1" strike="noStrike">
                <a:solidFill>
                  <a:srgbClr val="ff3300"/>
                </a:solidFill>
                <a:latin typeface="Century Gothic"/>
              </a:rPr>
              <a:t>И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т звонарь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Звон</a:t>
            </a:r>
            <a:r>
              <a:rPr b="1" lang="ru-RU" sz="3200" spc="-1" strike="noStrike">
                <a:solidFill>
                  <a:srgbClr val="ff3300"/>
                </a:solidFill>
                <a:latin typeface="Century Gothic"/>
              </a:rPr>
              <a:t>Я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т в звонок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Чтоб ты запомнить верно смог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В огороде баба Ф</a:t>
            </a:r>
            <a:r>
              <a:rPr b="1" lang="ru-RU" sz="3200" spc="-1" strike="noStrike">
                <a:solidFill>
                  <a:srgbClr val="ff3300"/>
                </a:solidFill>
                <a:latin typeface="Century Gothic"/>
              </a:rPr>
              <a:t>Ё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кла,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у неё на грядке св</a:t>
            </a:r>
            <a:r>
              <a:rPr b="1" lang="ru-RU" sz="3200" spc="-1" strike="noStrike">
                <a:solidFill>
                  <a:srgbClr val="ff3300"/>
                </a:solidFill>
                <a:latin typeface="Century Gothic"/>
              </a:rPr>
              <a:t>Ё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кла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Как у нашей М</a:t>
            </a:r>
            <a:r>
              <a:rPr b="1" lang="ru-RU" sz="32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рф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Есть в полоску ш</a:t>
            </a:r>
            <a:r>
              <a:rPr b="1" lang="ru-RU" sz="32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рфы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79080" y="571320"/>
            <a:ext cx="7293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Century Gothic"/>
              </a:rPr>
              <a:t>Используемые источники: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://ru.wikipedia.or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Толковый словарь С.И. Ожегов и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Н. Ю. Шведов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Орфоэпический словар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www.udarenie.info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/</a:t>
            </a: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8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9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entury Gothic"/>
                <a:hlinkClick r:id="rId10"/>
              </a:rPr>
              <a:t>www.genon.ru</a:t>
            </a: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2000160" y="157176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Повысить свою грамотность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Успешно сдать экзамен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Повысить грамотность по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теме «Орфоэпия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16360" y="692280"/>
            <a:ext cx="302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663300"/>
                    </a:gs>
                  </a:gsLst>
                  <a:lin ang="13500000"/>
                </a:gradFill>
                <a:latin typeface="Times New Roman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663300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71640" y="3500280"/>
            <a:ext cx="31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663300"/>
                    </a:gs>
                  </a:gsLst>
                  <a:lin ang="13500000"/>
                </a:gradFill>
                <a:latin typeface="Times New Roman"/>
              </a:rPr>
              <a:t>ЗАДАЧ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663300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58920" y="162864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Century Gothic"/>
              </a:rPr>
              <a:t>Нахождение материал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Century Gothic"/>
              </a:rPr>
              <a:t>Обработка найденного материал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Century Gothic"/>
              </a:rPr>
              <a:t>Составление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Century Gothic"/>
              </a:rPr>
              <a:t>презентации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35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79080" y="620280"/>
            <a:ext cx="73249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entury Gothic"/>
              </a:rPr>
              <a:t>Чтобы разобраться в проблеме мы, составили словарь неправильно произносимых         слов в нашем     классе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16000" y="2708280"/>
            <a:ext cx="5400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Зв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ит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расив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Ж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люз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орт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ат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лог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ушк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Щ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ель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Искр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2050920" y="620640"/>
            <a:ext cx="49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авильно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износимых слов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6 "Б" классе: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7" descr="Картинка 11 из 673"/>
          <p:cNvPicPr/>
          <p:nvPr/>
        </p:nvPicPr>
        <p:blipFill>
          <a:blip r:embed="rId11"/>
          <a:stretch/>
        </p:blipFill>
        <p:spPr>
          <a:xfrm>
            <a:off x="4067280" y="2781360"/>
            <a:ext cx="2786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4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2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40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36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76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58920" y="1052640"/>
            <a:ext cx="581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48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7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7572600" cy="5786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Documents and Settings\Дима.AFA5AFE2F28844B\Рабочий стол\ytpyfqrf.jpg"/>
          <p:cNvPicPr/>
          <p:nvPr/>
        </p:nvPicPr>
        <p:blipFill>
          <a:blip r:embed="rId3"/>
          <a:stretch/>
        </p:blipFill>
        <p:spPr>
          <a:xfrm>
            <a:off x="0" y="3571920"/>
            <a:ext cx="1643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03280" y="620280"/>
            <a:ext cx="7416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лушая каждый день слова с ошибками в ударении, мы задумались: а всё же почему мы ошибаемся? Может быть, стоит почаще заглядывать в словарь, поправлять других в постановке ударения? Так мы сможем сделать  свою речь чище и прекрасней. Знайка нам поможет разобраться в этой проблеме и предотвратить все ошибки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Картинка 2 из 13968"/>
          <p:cNvPicPr/>
          <p:nvPr/>
        </p:nvPicPr>
        <p:blipFill>
          <a:blip r:embed="rId2"/>
          <a:stretch/>
        </p:blipFill>
        <p:spPr>
          <a:xfrm>
            <a:off x="0" y="41148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1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1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490"/>
                            </p:stCondLst>
                            <p:childTnLst>
                              <p:par>
                                <p:cTn id="1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49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7490"/>
                            </p:stCondLst>
                            <p:childTnLst>
                              <p:par>
                                <p:cTn id="18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28760" y="285840"/>
            <a:ext cx="82864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В жизни мы довольно часто встречаемся с ситуацией, когда вполне образованные люди делают ошибки в произношении и ударении, поскольку в свое время не усвоили правильного варианта.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Это, естественно, портит впечатление о человеке, препятствует эффективной самопрезентации и деловому общению.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Поэтому, дорогие ребята, очень советуем вам воспользоваться нашими правилами и советами, чтобы в жизни произвести хорошее впечатление на людей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9720" y="500040"/>
            <a:ext cx="7572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Century Gothic"/>
              </a:rPr>
              <a:t>Вот некоторые стишки, которые стоит запомнить, чтобы правильно поставить ударение в словах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Брёл я долго и устал, 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Перешёл седьмой кв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ртал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Что за странный носорог 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Ел и тв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О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рог , и твор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О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Слышен в классе диалог: 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Обсуждают катал</a:t>
            </a:r>
            <a:r>
              <a:rPr b="1" lang="ru-RU" sz="2800" spc="-1" strike="noStrike">
                <a:solidFill>
                  <a:srgbClr val="ff3300"/>
                </a:solidFill>
                <a:latin typeface="Century Gothic"/>
              </a:rPr>
              <a:t>О</a:t>
            </a: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09:22:56Z</dcterms:created>
  <dc:creator>Натаха</dc:creator>
  <dc:description/>
  <dc:language>en-US</dc:language>
  <cp:lastModifiedBy>Натаха</cp:lastModifiedBy>
  <dcterms:modified xsi:type="dcterms:W3CDTF">2011-10-17T15:01:45Z</dcterms:modified>
  <cp:revision>24</cp:revision>
  <dc:subject/>
  <dc:title>Слайд 1</dc:title>
</cp:coreProperties>
</file>