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2EE-B5C1-45CC-9F87-0BAD7241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28D-DF4D-4DE0-B397-57ECF7A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A53-7DCC-46CD-8FB8-C4E1712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9BB-1D1D-4640-9421-80D85D29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5B35-C1E2-4A64-8D31-A692E03F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F39EB-C173-463E-B189-54E52E1D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A7537-6233-48F2-A8FF-2DAAB96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117F0-9EB8-4EEB-82F6-0C85A5B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5106B-7C64-4A24-AEEB-C15F619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FC68-58CF-4BF7-AB02-582E15E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0AD96-13E8-4CC4-9EB8-09EC2DD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664-0615-4627-81B8-1DED7156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009FD-A4CB-4014-9C59-962554F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FE34A-749D-4B74-9034-3B60669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D7A77-ADC7-424B-8335-99A4841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2E53A-1434-416E-80B2-74974861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2EF64-4DF4-432B-AA18-C39910D6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BD2-C56C-4855-8057-FE0AA48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A53-7757-456E-8A2A-579C035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BAF-96D7-4DB0-8942-96A7CA5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E45-04B4-4F1A-B07A-0F49474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AA2-B429-4113-9779-D1DBD66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BA6-6314-42A3-B157-1796628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EB5-3C75-41DD-8AAC-620F5E5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9EAA-9883-4979-994D-F31C217BE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43F-D78C-49B2-80CF-87A1697798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пана- черноморский вселене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итель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щийся 8-в класс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ы №20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зин Анто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 ДЭБЦ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ивненко Т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иомасса зообентоса в северо-восточной части Черного моря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1926-2003г.г.(данные АзНИИРХ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19440"/>
          <a:ext cx="8437680" cy="48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19440"/>
                    <a:ext cx="8437680" cy="48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Ухудшение состояния популяции рапан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чительное сокращение пищи моллюска привело к уменьшению средних и максимальных размеров рапаны, в популяции стали формироваться тугорослые особ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ое снижение среднего веса рапаны может привести к снижению коммерческой ценности сырц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0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яя масса рапаны в 1977-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002 г.г. (по Шевченко, Фроленко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01880"/>
          <a:ext cx="842004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1880"/>
                    <a:ext cx="8420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рном море у рапаны нет враг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00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рном море единственный регулятор роста популяции рапаны – это вылов ее в местах наибольшего  скоп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мера  в дальнейшем приведет  к укрупнению массы тела рап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671640" cy="30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им образом, популяционные изменения в структуре рапаны на Северо-Восточном шельфе Черного моря, требуют незамедлительных мер по улучшению ее состояния. В этих  условиях целесообразным является ее рациональный вылов, что может способствовать улучшению ее качества как пищевого объекта пит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ю данной работы является анализ литературных данных  состоянию популяции рапаны на Российском шельфе Черного моря, факторов его определяющих, промыслу и использованию в народном хозяй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пана- хищный брюхоногий моллюск из семейства Муриц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этого семейства характерна раковина, состоящая из многочисленных складок, ребер и шипов. В мантийной полости этих моллюсков находится гипобранхиальная железа, которая вырабатывает два ядовитых вещества-энтероамин и мурексин. Мурициды раскрывают створки раковин жертв и впрыскивают во внутрь яд, парализующий мышцу, замыкающую створки раковин.  Устрица, мидия или гребешок становится жертвой хищника – рап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урпур – краска древнего мир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5370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рпур мурицид широко известен был еще в древности. Пурпур применялся для окраски одежды в древней Греции,  Риме и Египте. В древнем Риме женское платье, окрашенное пурпуром, стоило более 12 тыс. долларов, в пересчете на современные день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тобы получить 1 гр. краски надо было переработать около 10 тысяч моллюсков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89880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пана- путешественн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63640" y="1915920"/>
            <a:ext cx="5329080" cy="45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пана- хищный брюхоногий моллюск. Естественный     ареал его обитания- моря Дальнего Вост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рном море моллюск был обнаружен в 1947г. в Новороссийской бухте. В 1950г. её нашли в Батуми, в 1952- у побережья Крыма ( Балаклава, Мисхор, Ялта), а 1956 проникла в Азовское и Средиземное мор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одной из версии рапана попала из Японского моря  в Черное благодаря переносу ее кладок прикрепляемых моллюсками к днищам кораб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166920" cy="27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рта – схема места распространения рапа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2550960"/>
            <a:ext cx="8351640" cy="36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пана – угроза моллюскам  Азово –Черноморского Бассей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рном море, моллюск захватил всю его акваторию, почти полностью истребив устриц. Однако рапана оказалась очень пластичной и вскоре переключилась на питание другими двустворчатыми моллюсками: мидиями и венерид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-за рапаны, в Черном море сейчас в 2 раза меньше моллюсков, чем 40 – 50 лет назад. Черноморский гребешок – вымер совс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стояние популяции рапаны в северо-восточной части Черного               мор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данным АзНИИРХа (1995-2005гг) максимальный возраст особей в уловах не привышает 9 лет. Увеличение численности поколения отмечается от 4 до 6 леток, численность 7леток снижается, а 8-9леток не превышает 10%. В популяции преобладают самц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89520" y="2378160"/>
            <a:ext cx="3930480" cy="28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стояние биомассы донных биоценозов Черного моря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в 1926- 2003 г.г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 вселения рапаны в Черное море биомасса донного биоценоза достигала 1700г/м2. С появлением моллюска биомасса зообентоса резко снизилась до 100г/м2, а биомасса мидий к 1999 году составляла не более – 7 г/м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22:00Z</dcterms:created>
  <dc:creator>Анжела</dc:creator>
  <dc:description/>
  <dc:language>en-US</dc:language>
  <cp:lastModifiedBy>Таня</cp:lastModifiedBy>
  <dcterms:modified xsi:type="dcterms:W3CDTF">2002-12-31T23:28:15Z</dcterms:modified>
  <cp:revision>16</cp:revision>
  <dc:subject/>
  <dc:title>Рапана- вселенец Черного моря</dc:title>
</cp:coreProperties>
</file>