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type.wav" ContentType="audio/x-wav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9E05-DFE8-44BA-B455-1BA8649A75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F7D-A581-43A0-A755-16502F5CB1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1FF-6289-42D4-B7A1-FB217B94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773-7123-4349-9C9F-2ADA2DF6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B6E-C430-489A-84CB-A2DB6E6A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1C9-0ABD-4CE9-8172-34FA6D9B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D0C-6B2F-4611-B2F9-6022ADC2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2D1-701F-43A7-9FFE-CD0EC709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E40-40DD-43B2-BA1F-6B398622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553-DDB2-495C-862F-90A7E947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A93-F858-43B5-B5B3-9645269A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9B2-5688-4A74-81AC-50F0BA2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069-2EDB-4C49-906B-220C3EF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FEC-3D3A-4D62-A0A4-12430102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E1AD-58DE-4FF2-B2EF-20A4B8E72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259,4,&#1057;&#1083;&#1072;&#1081;&#1076; 4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208080" y="2523960"/>
            <a:ext cx="7783560" cy="2140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5716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географии 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: Климашина Н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3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444600" y="66600"/>
            <a:ext cx="8364600" cy="193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адный вектор развития: страны Балтии (Эстония, Латвия, Литва), Украина и Молдавия – смена военно-стратегического союзника (стремление в НАТ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иление контактов с мусульманским миром (Казахстан, Киргизия, Узбекистан, Туркмения, Азербайдж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3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93560" y="-85680"/>
            <a:ext cx="8242560" cy="25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ны, стремящиеся к объединению в рамках единого государства (Россия и Белоруссия – 1999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траны, объединившиеся в СНГ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1 из 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ны, не вошедшие в СНГ (Эстония, Латвия, Литва) и Груз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4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5187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2286000" y="2643120"/>
            <a:ext cx="250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зербайдж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р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елору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ирги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лд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аджики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урк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збеки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кра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5" descr=""/>
          <p:cNvPicPr/>
          <p:nvPr/>
        </p:nvPicPr>
        <p:blipFill>
          <a:blip r:embed="rId3"/>
          <a:stretch/>
        </p:blipFill>
        <p:spPr>
          <a:xfrm>
            <a:off x="2073240" y="255600"/>
            <a:ext cx="554688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4"/>
          <a:stretch/>
        </p:blipFill>
        <p:spPr>
          <a:xfrm>
            <a:off x="4376880" y="1878120"/>
            <a:ext cx="31762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58" name="Штриховая стрелка вправо 6"/>
          <p:cNvGrpSpPr/>
          <p:nvPr/>
        </p:nvGrpSpPr>
        <p:grpSpPr>
          <a:xfrm>
            <a:off x="225360" y="5962680"/>
            <a:ext cx="1189080" cy="682560"/>
            <a:chOff x="225360" y="5962680"/>
            <a:chExt cx="1189080" cy="682560"/>
          </a:xfrm>
        </p:grpSpPr>
        <p:pic>
          <p:nvPicPr>
            <p:cNvPr id="59" name="Штриховая стрелка вправо 6" descr=""/>
            <p:cNvPicPr/>
            <p:nvPr/>
          </p:nvPicPr>
          <p:blipFill>
            <a:blip r:embed="rId5"/>
            <a:stretch/>
          </p:blipFill>
          <p:spPr>
            <a:xfrm>
              <a:off x="225360" y="5962680"/>
              <a:ext cx="11890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28760" y="6143760"/>
              <a:ext cx="839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6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20840" y="-291960"/>
            <a:ext cx="8242200" cy="126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14240" y="571680"/>
          <a:ext cx="7858440" cy="6126120"/>
        </p:xfrm>
        <a:graphic>
          <a:graphicData uri="http://schemas.openxmlformats.org/drawingml/2006/table">
            <a:tbl>
              <a:tblPr/>
              <a:tblGrid>
                <a:gridCol w="1965600"/>
                <a:gridCol w="1892160"/>
                <a:gridCol w="2036880"/>
                <a:gridCol w="1963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судар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л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рритори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еление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н.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с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то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лл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льню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да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шин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ре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ербайдж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бил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ах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беки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рк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шхаб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рги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шк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джики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шан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7:39:41Z</dcterms:created>
  <dc:creator>т</dc:creator>
  <dc:description/>
  <dc:language>en-US</dc:language>
  <cp:lastModifiedBy>т</cp:lastModifiedBy>
  <dcterms:modified xsi:type="dcterms:W3CDTF">2011-05-05T19:00:02Z</dcterms:modified>
  <cp:revision>11</cp:revision>
  <dc:subject/>
  <dc:title>Слайд 1</dc:title>
</cp:coreProperties>
</file>