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D805-6278-4534-B7B7-AF6DEE0D12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B4CB-D089-488B-BEE4-A7A6AB49C5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MS PGothic"/>
              </a:rPr>
              <a:t>Волхв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S PGothic"/>
              </a:rPr>
              <a:t> — особый класс людей, пользовавшийся большим влиянием в древности. Это были «мудрецы» или так называем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MS PGothic"/>
              </a:rPr>
              <a:t>маг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S PGothic"/>
              </a:rPr>
              <a:t>, мудрость и сила которых заключалась в знании ими тайн, недоступных обыкновенным люд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7544-A9D3-4F27-A74D-9902C65567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7823-7507-4506-86BD-1CA135B1A4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ит свет с небе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день особенны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чится чудо здес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 светлого Рождения Спасителя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в мире, без сомн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тая доброта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235F-4588-4817-85BA-C49D6CFD1C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9385-B423-4F03-8B11-D57D33E182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5D2-4131-4AFA-B6A7-BE9FDE26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545-01F9-4325-B0AA-4592ABA6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C91-5184-470A-8966-B6013921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A99-6A14-4BFA-AD64-8F6C5A13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40A4-2685-42B0-8EBB-7B8453A2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9E75-B381-48FB-8E82-687A74D3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A809-C71E-46CB-8E66-E2E4728C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B7C1-DE5C-42AB-AB2F-FC58CA55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C198-72AF-4D24-930E-C3723AB1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395B-6851-4EEA-BD57-98C1DB21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0C3B-2095-4060-81E6-5399BEC6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99D-A776-4CBA-B200-C8779D56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8C26-1840-4F49-882F-6AEBC00F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437C-84D3-4546-BCF2-02D81DE6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954E-CBB1-4E81-820A-EFE18D5B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0298-3501-47AE-BE99-902138E6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D24B-3D3A-4C70-9677-E17E41F5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4E0-A097-40A5-BCA7-A53076E0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A26-D44F-488B-B2F8-19C7B730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984-7D42-4408-ADA0-ED56D597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8FF-31A5-4643-92D2-1A1CEFF1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091-F5FE-4EFB-8D1A-11D133D0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0A7-2C09-4896-A497-67115268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9ED-E1DB-4138-87EC-4D90EE04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4E11-09A8-49D0-9216-4ED3B0551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EEC5-E7A8-46F9-B770-4C1DB7A92D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007.radikal.ru/i301/1101/ca/f800f05aa535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cursos.fotocajon.com/enchulatupagina/img003/NpHaem5u7z3h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rojdestvo.paskha.ru/content/images/gagarin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ntent.foto.mail.ru/mail/oblachko2005/_blogs/i-168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kirussia.ru/images/och/87e579713e18c3797dc88d457cc3fbb1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at16.privet.ru/lr/0b0107f58e97be199e342f379b1ade2b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s001.radikal.ru/i194/1004/bb/89b811472daa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5410080"/>
            <a:ext cx="8540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e"/>
                </a:solidFill>
                <a:latin typeface="Arial"/>
              </a:rPr>
              <a:t>Презентацию подготовил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e"/>
                </a:solidFill>
                <a:latin typeface="Arial"/>
              </a:rPr>
              <a:t>воспитатель </a:t>
            </a:r>
            <a:r>
              <a:rPr b="0" lang="en-US" sz="2000" spc="-1" strike="noStrike">
                <a:solidFill>
                  <a:srgbClr val="00003e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3e"/>
                </a:solidFill>
                <a:latin typeface="Arial"/>
              </a:rPr>
              <a:t>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e"/>
                </a:solidFill>
                <a:latin typeface="Arial"/>
              </a:rPr>
              <a:t>ГОУ детский сад комбинированного вида №24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e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3e"/>
                </a:solidFill>
                <a:latin typeface="Arial"/>
              </a:rPr>
              <a:t>Голубовская Елена Анатольев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Картинка 19 из 114085"/>
          <p:cNvPicPr/>
          <p:nvPr/>
        </p:nvPicPr>
        <p:blipFill>
          <a:blip r:embed="rId2"/>
          <a:stretch/>
        </p:blipFill>
        <p:spPr>
          <a:xfrm>
            <a:off x="1600200" y="1600200"/>
            <a:ext cx="50767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579132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 востока к младенцу на поклон шли волхвы (древние мудрецы). Они ждали, что вскоре должен на землю прийти великий Царь Мира, а чудесная звезда указала им путь в Иерусалим. Где правил царь Ирод, который просил указать место, где родился Иису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Картинка 14 из 583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28600"/>
            <a:ext cx="77724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Картинка 10 из 424"/>
          <p:cNvPicPr/>
          <p:nvPr/>
        </p:nvPicPr>
        <p:blipFill>
          <a:blip r:embed="rId2"/>
          <a:stretch/>
        </p:blipFill>
        <p:spPr>
          <a:xfrm>
            <a:off x="1828800" y="380880"/>
            <a:ext cx="5791320" cy="44722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502884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хвы принесли Младенцу дары: золото, ладан и смирну. Эти дары имели глубокий смыс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 было символом царской влас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дан символ признания Божественности Младенц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горькая смирна была символом Его крестных страд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мирной в те далекие времена помазывали умерших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486040" y="761760"/>
            <a:ext cx="3429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е радовались рождеству Хри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был на свете человек, желавший смерти Спасителю. Царь Ирод, который хотел убить младенц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Файл:Magi-rembrandt.jpg"/>
          <p:cNvPicPr/>
          <p:nvPr/>
        </p:nvPicPr>
        <p:blipFill>
          <a:blip r:embed="rId2"/>
          <a:stretch/>
        </p:blipFill>
        <p:spPr>
          <a:xfrm>
            <a:off x="304920" y="838080"/>
            <a:ext cx="518148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714640" y="990360"/>
            <a:ext cx="3429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прошло какое-то время, а волхвы все не возвращались, Ирод понял, что его обману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где именно родился Иисус царь не знал, поэтому велел убивать всех младенцев до двух лет, которые были рождены в Вифли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Картинка 14 из 302"/>
          <p:cNvPicPr/>
          <p:nvPr/>
        </p:nvPicPr>
        <p:blipFill>
          <a:blip r:embed="rId2"/>
          <a:stretch/>
        </p:blipFill>
        <p:spPr>
          <a:xfrm>
            <a:off x="457200" y="838080"/>
            <a:ext cx="544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638680" y="1600200"/>
            <a:ext cx="335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в о замысле царя Ирода Иосиф и Мария с младенцем отправились в Егип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Картинка 4 из 383"/>
          <p:cNvPicPr/>
          <p:nvPr/>
        </p:nvPicPr>
        <p:blipFill>
          <a:blip r:embed="rId2"/>
          <a:stretch/>
        </p:blipFill>
        <p:spPr>
          <a:xfrm>
            <a:off x="380880" y="990720"/>
            <a:ext cx="5166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192720" cy="49626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324000" y="18900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-324000" y="5084640"/>
            <a:ext cx="9792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ко, время летит быстро. Через некоторое время царь Ирод ум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тогда Бог через ангела передал Иосифу и Марии, что они могут вернуться в израильскую зем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сиф с Марией и Иисусом вернулись домой и поселились в городе Назар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ождество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24280" y="12189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ным-давно в городе Назарете (древний город Палестины) жила девушка по имени Мар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вот однажды Марии явился архангел Гавриил и возвестил ей: «Радуйся! Из всех женщин Бог избрал тебя. Он благословил тебя родить Сына, Которого ты назовешь Иисусом, Он будет вечно царствовать над Израилем, и называть Его будут Сыном Божьи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рия ответила: « Я послушна Богу и пусть со мной будет так как ты сказал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2" descr="Картинка 16 из 33434"/>
          <p:cNvPicPr/>
          <p:nvPr/>
        </p:nvPicPr>
        <p:blipFill>
          <a:blip r:embed="rId2"/>
          <a:stretch/>
        </p:blipFill>
        <p:spPr>
          <a:xfrm>
            <a:off x="609480" y="1143000"/>
            <a:ext cx="3718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14560" y="228600"/>
            <a:ext cx="4097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Обручение девы Марии и Иосифа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8160" y="1676520"/>
            <a:ext cx="4033800" cy="35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ия всё рассказала своему мужу Иосифу и он принял эту благую ве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D:\_TAYA\Bible\obruchenie.jpg"/>
          <p:cNvPicPr/>
          <p:nvPr/>
        </p:nvPicPr>
        <p:blipFill>
          <a:blip r:embed="rId2"/>
          <a:stretch/>
        </p:blipFill>
        <p:spPr>
          <a:xfrm>
            <a:off x="285840" y="0"/>
            <a:ext cx="438768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Мария и Иосиф отправились в Вифлием.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5520" y="167652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осиф был родом из Вифлиема.             В то время по приказу императора проводилась перепись населения и Иосифу с Марией пришлось собираться в дорогу, в город Вифле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D:\_TAYA\Bible\vifleem.jpg"/>
          <p:cNvPicPr/>
          <p:nvPr/>
        </p:nvPicPr>
        <p:blipFill>
          <a:blip r:embed="rId2"/>
          <a:stretch/>
        </p:blipFill>
        <p:spPr>
          <a:xfrm>
            <a:off x="380880" y="1600200"/>
            <a:ext cx="58676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49525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уть Марии и Иосифа был долгим, а торопиться они не могли т.к. Мария ожидала ребёнка и когда они добрались до Вифлиема все гостиницы в городе были уже переполнены и им пришлось ночевать в хле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16census"/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4876560"/>
            <a:ext cx="419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вот холодной зимней ночью в хлеву родился Божественный Младенец Иису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Картинка 23 из 107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066680"/>
            <a:ext cx="4952880" cy="3756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Картинка 6 из 20009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762120"/>
            <a:ext cx="3684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Картинка 29 из 3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2860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-360" y="5366880"/>
            <a:ext cx="838188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  Младенца Иисуса не было ни кроватки, ни  самых необходимых вещей. Мария спеленала его и положила в ясли (кормушка), где обычно лежала солома для  скот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Картинка 2 из 125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304920"/>
            <a:ext cx="6934320" cy="5626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685800" y="60199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6129360"/>
            <a:ext cx="91440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ядом с яслями были привязаны  ослик  вол и овцы, которые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гревали  Младенца своим  дых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520" y="5181120"/>
            <a:ext cx="80773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ми гостями Божественного Младенца были не цари и вельможи, а простые пастухи. В ту ночь по окрестным полям ходили пастухи, охраняя свои стада. Вдруг перед ними явился блистающий Ангел. Пастухи, конечно, испугались, но Ангел сказал им: «Не бойтесь! Я возвещаю о великой радости. Родился Господь-Спаситель! Он лежит спеленатый в яслях». И пастухи поспешили пойти и поклониться царю ми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Картинка 1 из 10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1066680"/>
            <a:ext cx="3152520" cy="3800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Картинка 6 из 105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990720"/>
            <a:ext cx="3076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0:34:43Z</dcterms:created>
  <dc:creator>Елена</dc:creator>
  <dc:description/>
  <dc:language>en-US</dc:language>
  <cp:lastModifiedBy>Елена</cp:lastModifiedBy>
  <dcterms:modified xsi:type="dcterms:W3CDTF">2012-02-05T15:39:3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