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065-5177-4933-8044-32B97A18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668E-CE2A-4973-B8B6-DDF7F269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79C-3BFA-466C-B9CF-2B953EA4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BAC-222F-49F1-86CF-F05EBD4A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1E82-8C71-46A4-B9F9-B8FD0588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24BF-523F-4773-9FF6-97692B1D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4CEF-B9FF-4086-BE31-134DB616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06EB-40E7-435D-B1B1-4FC95A1D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7705-83C2-4F24-AC45-4CCA7192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48AB-08E7-4E67-8544-26E98B34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8D58-CB12-4418-A37A-AC6BF0C2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EBE-D3ED-4896-9AD1-949DC321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0EEE-E217-4EFB-860D-5843E4A9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E38F-BD4C-4BD7-842B-E1BB4083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A39C-3ACE-4024-AD37-0015AD99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9ECD-2236-49B4-8070-20B60F7F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AA64-7CED-4811-A6B8-A39B5CB7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1A7E-8F7C-498D-AED0-6850601B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FFF-3E04-4737-8DF2-D6643EE5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8F35-954E-49BD-98D7-297B84EA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505-D41B-4DAD-B0AA-6D8385BE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91DD-A51C-4405-850A-DE967015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747-EBEA-474C-93D8-86E5FD75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152-74E8-43CE-99B9-A101C608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615E-C973-46AF-B5D2-218BBC81C7B6}" type="datetime">
              <a:rPr b="0" lang="ru-RU" sz="1400" spc="-1" strike="noStrike">
                <a:solidFill>
                  <a:srgbClr val="ffffcc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4B58-A6A5-4C6C-92AF-69EC33DA082B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6291-B214-47ED-9A45-32F0B6859336}" type="datetime">
              <a:rPr b="0" lang="ru-RU" sz="1400" spc="-1" strike="noStrike">
                <a:solidFill>
                  <a:srgbClr val="ffffcc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787F-D5A1-473E-94B3-F75CF4C6A15E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432560" y="1066680"/>
            <a:ext cx="1955880" cy="1900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 rot="21593400">
            <a:off x="902880" y="1020600"/>
            <a:ext cx="52056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Сечения многогранников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9200" y="0"/>
            <a:ext cx="0" cy="5008680"/>
          </a:xfrm>
          <a:prstGeom prst="line">
            <a:avLst/>
          </a:prstGeom>
          <a:ln w="57240">
            <a:solidFill>
              <a:srgbClr val="f503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7840" y="5765760"/>
            <a:ext cx="34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Microsoft Sans Serif"/>
              </a:rPr>
              <a:t>Автор: учитель математики шк.№ 538 Хробостова И.В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9DF-9CDA-4B49-A9C6-3D126D269093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89B26-1FA6-4F81-8EA7-8874D8FD6E76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66880" y="184140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98640" y="482616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46160" y="38656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59000" y="4835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27520" y="4097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11400" y="249696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97440" y="2843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84320" y="2003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064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38760" y="2959200"/>
            <a:ext cx="8856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27040" y="368604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32560" y="463680"/>
            <a:ext cx="309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ить сечение, проходящее через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точки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,N,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К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479600" y="2365200"/>
            <a:ext cx="1859040" cy="2554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4040" y="215424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43200" y="1295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40200" y="1295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86000" y="22813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7960" y="203040"/>
            <a:ext cx="1575000" cy="642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Задание № 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5E5-9974-41D5-9C7D-1D6F66A6AD75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23721-F383-446B-9B41-6891D3156140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65200" y="2525760"/>
            <a:ext cx="2525760" cy="1828800"/>
          </a:xfrm>
          <a:custGeom>
            <a:avLst/>
            <a:gdLst/>
            <a:ahLst/>
            <a:rect l="l" t="t" r="r" b="b"/>
            <a:pathLst>
              <a:path w="1591" h="1152">
                <a:moveTo>
                  <a:pt x="0" y="750"/>
                </a:moveTo>
                <a:lnTo>
                  <a:pt x="439" y="0"/>
                </a:lnTo>
                <a:lnTo>
                  <a:pt x="1591" y="302"/>
                </a:lnTo>
                <a:lnTo>
                  <a:pt x="1171" y="1152"/>
                </a:lnTo>
                <a:lnTo>
                  <a:pt x="0" y="75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6880" y="184140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8640" y="482616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46160" y="38656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59000" y="4835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27520" y="4097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11400" y="249696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97440" y="2843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4320" y="2003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38760" y="2959200"/>
            <a:ext cx="8856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27040" y="368604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79600" y="2365200"/>
            <a:ext cx="1859040" cy="2554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4040" y="215424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43200" y="1295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40200" y="1295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86000" y="22813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481040" y="2496600"/>
            <a:ext cx="681120" cy="12193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47760" y="2511360"/>
            <a:ext cx="1873440" cy="49392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3759120"/>
            <a:ext cx="1930680" cy="581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352320" y="3033720"/>
            <a:ext cx="638280" cy="1320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32080" y="421488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Р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84640" y="430848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7960" y="203040"/>
            <a:ext cx="1575000" cy="642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Задание № 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A73-0E66-4216-81C1-4BD8DEDD95F9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F26B5-E099-4323-8B1C-B9A4BBD96E04}" type="datetime1">
              <a:rPr lang="en-US"/>
              <a:t>07/30/26</a:t>
            </a:fld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570720" y="205884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98640" y="482616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46160" y="38656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59000" y="4835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00600" y="3908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43240" y="230832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66760" y="166212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91000" y="447192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32560" y="463680"/>
            <a:ext cx="30906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ить сечение, проходящее через точки В1,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1 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и середину ребра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Доказать, что построенное сечение трапеция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36760" y="2335320"/>
            <a:ext cx="1859040" cy="25542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4040" y="215424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43200" y="1295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40200" y="1295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86000" y="22813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7960" y="20304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Задание № 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65360" y="45054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Р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A04-08AB-48F8-9F5C-CF8DA4E6FB36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5F026-E04F-4058-8776-39F547542B27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04920" y="1698480"/>
            <a:ext cx="1538280" cy="2830680"/>
          </a:xfrm>
          <a:custGeom>
            <a:avLst/>
            <a:gdLst/>
            <a:ahLst/>
            <a:rect l="l" t="t" r="r" b="b"/>
            <a:pathLst>
              <a:path w="969" h="1783">
                <a:moveTo>
                  <a:pt x="0" y="0"/>
                </a:moveTo>
                <a:lnTo>
                  <a:pt x="768" y="411"/>
                </a:lnTo>
                <a:lnTo>
                  <a:pt x="969" y="1783"/>
                </a:lnTo>
                <a:lnTo>
                  <a:pt x="484" y="1581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570720" y="205884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98640" y="482616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52600" y="39369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59000" y="4835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00600" y="3908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43240" y="230832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01760" y="387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66760" y="166212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91000" y="447192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36760" y="2335320"/>
            <a:ext cx="1859040" cy="25542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65360" y="45054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Р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4040" y="215424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43200" y="1295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40200" y="1295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86000" y="22813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90880" y="1662120"/>
            <a:ext cx="1218960" cy="689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324240" y="2379600"/>
            <a:ext cx="304920" cy="2133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2887560" y="4223880"/>
            <a:ext cx="741600" cy="28908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04920" y="1662120"/>
            <a:ext cx="768600" cy="256212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417816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32560" y="463680"/>
            <a:ext cx="30906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ить сечение, проходящее через точки В1,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1 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и середину ребра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 точку Р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Доказать, что построенное сечение трапеция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7960" y="20304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Задание № 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D0BC-67D0-4BC1-A690-34E9B208C6D7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E7036-D474-4D1F-94B4-062430F2303D}" type="datetime1">
              <a:rPr lang="en-US"/>
              <a:t>07/30/26</a:t>
            </a:fld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68600" y="1654200"/>
            <a:ext cx="1204920" cy="1625400"/>
          </a:xfrm>
          <a:custGeom>
            <a:avLst/>
            <a:gdLst/>
            <a:ahLst/>
            <a:rect l="l" t="t" r="r" b="b"/>
            <a:pathLst>
              <a:path w="759" h="1024">
                <a:moveTo>
                  <a:pt x="0" y="247"/>
                </a:moveTo>
                <a:lnTo>
                  <a:pt x="759" y="0"/>
                </a:lnTo>
                <a:lnTo>
                  <a:pt x="521" y="1024"/>
                </a:lnTo>
                <a:lnTo>
                  <a:pt x="0" y="24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570720" y="205884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58840" y="47401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11360" y="366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6480" y="4705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14640" y="3618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17840" y="200988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13080" y="322272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32560" y="463680"/>
            <a:ext cx="309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ить сечение, проходящее через точк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, N, K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538280" y="2043000"/>
            <a:ext cx="1859040" cy="255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24040" y="215424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95520" y="104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40200" y="1295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73560" y="20210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37960" y="20304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Задание № 7</a:t>
            </a: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 (1 </a:t>
            </a: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случай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08360" y="161136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68640" y="13906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84320" y="2003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81280" y="31100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68600" y="2075040"/>
            <a:ext cx="798480" cy="12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525400" y="1662120"/>
            <a:ext cx="1204920" cy="398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395520" y="1662120"/>
            <a:ext cx="378000" cy="1603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7C0-6DD4-47B6-BFD6-14FC71B23E41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65136-AEE1-45C1-A741-0160ECA3E248}" type="datetime1">
              <a:rPr lang="en-US"/>
              <a:t>07/30/26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38280" y="2540160"/>
            <a:ext cx="2482920" cy="1698480"/>
          </a:xfrm>
          <a:custGeom>
            <a:avLst/>
            <a:gdLst/>
            <a:ahLst/>
            <a:rect l="l" t="t" r="r" b="b"/>
            <a:pathLst>
              <a:path w="1564" h="1070">
                <a:moveTo>
                  <a:pt x="0" y="859"/>
                </a:moveTo>
                <a:lnTo>
                  <a:pt x="1152" y="0"/>
                </a:lnTo>
                <a:lnTo>
                  <a:pt x="1564" y="320"/>
                </a:lnTo>
                <a:lnTo>
                  <a:pt x="677" y="942"/>
                </a:lnTo>
                <a:lnTo>
                  <a:pt x="238" y="1070"/>
                </a:lnTo>
                <a:lnTo>
                  <a:pt x="0" y="85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70720" y="205884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158840" y="47401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596960" y="36036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46480" y="4705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14640" y="3618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301920" y="253044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32560" y="463680"/>
            <a:ext cx="309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ить сечение, проходящее через точк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, N, K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09840" y="2128680"/>
            <a:ext cx="1858680" cy="255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24040" y="215424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95520" y="104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40200" y="1295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73560" y="20210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37960" y="20304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Задание № 7</a:t>
            </a: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случай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8640" y="300348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64000" y="22622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1200" y="373068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02040" y="276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86080" y="3862440"/>
            <a:ext cx="8856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2554200"/>
            <a:ext cx="668520" cy="507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1509480" y="2568600"/>
            <a:ext cx="1842840" cy="1365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2612880" y="3048120"/>
            <a:ext cx="1392480" cy="98748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38280" y="3903840"/>
            <a:ext cx="420840" cy="320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973160" y="4021200"/>
            <a:ext cx="639720" cy="20304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35120" y="4211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46480" y="402120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Р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D6D-B774-4456-A19F-289114E3C70F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E8706-97C9-4486-A97B-C29B5640CCCE}" type="datetime1">
              <a:rPr lang="en-US"/>
              <a:t>07/30/26</a:t>
            </a:fld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509840" y="1465200"/>
            <a:ext cx="2511360" cy="3222720"/>
          </a:xfrm>
          <a:custGeom>
            <a:avLst/>
            <a:gdLst/>
            <a:ahLst/>
            <a:rect l="l" t="t" r="r" b="b"/>
            <a:pathLst>
              <a:path w="1582" h="2030">
                <a:moveTo>
                  <a:pt x="0" y="942"/>
                </a:moveTo>
                <a:lnTo>
                  <a:pt x="210" y="211"/>
                </a:lnTo>
                <a:lnTo>
                  <a:pt x="996" y="0"/>
                </a:lnTo>
                <a:lnTo>
                  <a:pt x="1582" y="714"/>
                </a:lnTo>
                <a:lnTo>
                  <a:pt x="1408" y="1802"/>
                </a:lnTo>
                <a:lnTo>
                  <a:pt x="850" y="2030"/>
                </a:lnTo>
                <a:lnTo>
                  <a:pt x="0" y="942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570720" y="205884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58840" y="47401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96960" y="36036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46480" y="4705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14640" y="3618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792440" y="174780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2560" y="463680"/>
            <a:ext cx="309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ить сечение, проходящее через точк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, N, K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525680" y="2128680"/>
            <a:ext cx="1859040" cy="255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24040" y="215424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95520" y="104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40200" y="1295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14800" y="2035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37960" y="20304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Задание № 7</a:t>
            </a: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 (3 </a:t>
            </a: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случай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69880" y="291636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49240" y="2800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85760" y="15541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16360" y="1108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36960" y="143820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2108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51973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Р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801800" y="1438200"/>
            <a:ext cx="1319400" cy="370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495440" y="1843200"/>
            <a:ext cx="347760" cy="113184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581040" y="2975040"/>
            <a:ext cx="914400" cy="301932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62080" y="4687920"/>
            <a:ext cx="1247760" cy="132084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739800" y="4165560"/>
            <a:ext cx="3411360" cy="134928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20960" y="464184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91080" y="4264200"/>
            <a:ext cx="88920" cy="8856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51360" y="254952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795840" y="4237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509840" y="2946240"/>
            <a:ext cx="1349280" cy="172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06800" y="1465200"/>
            <a:ext cx="928800" cy="114768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97360" y="2495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730320" y="2598840"/>
            <a:ext cx="274680" cy="1726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894-E247-4468-BE9C-C817B89E8B44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01C06-68AF-41E7-B754-9199D030F0AC}" type="datetime1">
              <a:rPr lang="en-US"/>
              <a:t>07/30/26</a:t>
            </a:fld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570720" y="205884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58840" y="47401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11360" y="366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46480" y="4705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14640" y="3618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587920" y="479520"/>
            <a:ext cx="30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ить сечение, проходящее через точки М,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, K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27200" y="2158920"/>
            <a:ext cx="1859040" cy="25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24040" y="215424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595520" y="104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940200" y="1295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73560" y="20210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37960" y="20304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Задача № 87 а)</a:t>
            </a: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63560" y="2303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39920" y="248112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403056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051000" y="463860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33480" y="391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32040" y="4824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0E1D-5790-4087-A1C0-0568ECFAC238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EE256-0E95-4C3C-BFA9-43835060976C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25760" y="2511360"/>
            <a:ext cx="2511360" cy="2176560"/>
          </a:xfrm>
          <a:custGeom>
            <a:avLst/>
            <a:gdLst/>
            <a:ahLst/>
            <a:rect l="l" t="t" r="r" b="b"/>
            <a:pathLst>
              <a:path w="1582" h="1371">
                <a:moveTo>
                  <a:pt x="0" y="978"/>
                </a:moveTo>
                <a:lnTo>
                  <a:pt x="402" y="0"/>
                </a:lnTo>
                <a:lnTo>
                  <a:pt x="1582" y="512"/>
                </a:lnTo>
                <a:lnTo>
                  <a:pt x="1335" y="1234"/>
                </a:lnTo>
                <a:lnTo>
                  <a:pt x="923" y="1371"/>
                </a:lnTo>
                <a:lnTo>
                  <a:pt x="0" y="97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570720" y="205884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158840" y="47401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11360" y="366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46480" y="4705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14640" y="3618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587920" y="479520"/>
            <a:ext cx="30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ить сечение, проходящее через точки М,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, K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27200" y="2158920"/>
            <a:ext cx="1859040" cy="25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24040" y="215424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95520" y="104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40200" y="1295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73560" y="20210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7960" y="20304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Задача № 87 а)</a:t>
            </a: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63560" y="2303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39920" y="248112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403056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51000" y="463860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33480" y="391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32040" y="4824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39440" y="2556000"/>
            <a:ext cx="638280" cy="150804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25760" y="4078440"/>
            <a:ext cx="146520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36760" y="2554200"/>
            <a:ext cx="1771560" cy="76860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3759120" y="3338640"/>
            <a:ext cx="347760" cy="1131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3090960" y="4456080"/>
            <a:ext cx="682560" cy="23184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81320" y="31003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559320" y="43927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F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702F-5C20-4E5B-B978-51DA2DEB974F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667D3-D596-48E0-BA73-5B1B4797BF1A}" type="datetime1">
              <a:rPr lang="en-US"/>
              <a:t>07/30/26</a:t>
            </a:fld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570720" y="205884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158840" y="47401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11360" y="366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46480" y="4705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14640" y="3618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87920" y="479520"/>
            <a:ext cx="30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ить сечение, проходящее через точки М,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, K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627200" y="2158920"/>
            <a:ext cx="1859040" cy="25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24040" y="215424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95520" y="104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40200" y="1295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73560" y="20210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37960" y="20304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Задача № 87 б)</a:t>
            </a: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014720" y="2144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86360" y="230832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22640" y="336384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222640" y="468324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22480" y="4842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30440" y="2879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0C4-F4E1-4C62-806B-50F05F8613A1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8C4DE-B626-4F4D-9D92-67229A5D3B30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184140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82960" y="43488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바탕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바탕"/>
              </a:rPr>
              <a:t>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95560" y="1278000"/>
            <a:ext cx="1549440" cy="149868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49600" y="444600"/>
            <a:ext cx="9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바탕"/>
              </a:rPr>
              <a:t>б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7680" y="3543480"/>
            <a:ext cx="9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바탕"/>
              </a:rPr>
              <a:t>г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3160" y="1104840"/>
            <a:ext cx="9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바탕"/>
              </a:rPr>
              <a:t>в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61040" y="341640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바탕"/>
              </a:rPr>
              <a:t>д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25480" y="4648320"/>
            <a:ext cx="1549440" cy="14983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18160" y="2081160"/>
            <a:ext cx="1549440" cy="149868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12880" y="1219320"/>
            <a:ext cx="1549440" cy="14983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70480" y="4572000"/>
            <a:ext cx="1549440" cy="149868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11320" y="234000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36760" y="1219320"/>
            <a:ext cx="14400" cy="1495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206960" y="941400"/>
            <a:ext cx="1582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468760" y="985680"/>
            <a:ext cx="276480" cy="177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190160" y="4844880"/>
            <a:ext cx="1492200" cy="144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793800" y="6135840"/>
            <a:ext cx="1596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450072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6480" y="531180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32480" y="435132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13480" y="3247920"/>
            <a:ext cx="1855800" cy="347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15280" y="2087640"/>
            <a:ext cx="14040" cy="1495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7960" y="203040"/>
            <a:ext cx="1575000" cy="642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Задание № 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FFE-652A-4121-8DBF-1A2413962D63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C2929-C79F-4456-A727-32D6C9BE9565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857240" y="2336760"/>
            <a:ext cx="2293920" cy="2395440"/>
          </a:xfrm>
          <a:custGeom>
            <a:avLst/>
            <a:gdLst/>
            <a:ahLst/>
            <a:rect l="l" t="t" r="r" b="b"/>
            <a:pathLst>
              <a:path w="1445" h="1509">
                <a:moveTo>
                  <a:pt x="0" y="1326"/>
                </a:moveTo>
                <a:lnTo>
                  <a:pt x="247" y="640"/>
                </a:lnTo>
                <a:lnTo>
                  <a:pt x="1445" y="0"/>
                </a:lnTo>
                <a:lnTo>
                  <a:pt x="1024" y="1234"/>
                </a:lnTo>
                <a:lnTo>
                  <a:pt x="247" y="1509"/>
                </a:lnTo>
                <a:lnTo>
                  <a:pt x="0" y="132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570720" y="205884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158840" y="47401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611360" y="366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46480" y="4705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14640" y="3618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587920" y="479520"/>
            <a:ext cx="30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ить сечение, проходящее через точки М,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, K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27200" y="2158920"/>
            <a:ext cx="1859040" cy="25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24040" y="215424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595520" y="104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940200" y="1295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373560" y="20210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37960" y="20304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Задача № 87 б)</a:t>
            </a: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014720" y="2144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086360" y="230832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09680" y="331956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22640" y="468324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22480" y="4842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30440" y="2879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249640" y="2336760"/>
            <a:ext cx="1901520" cy="103176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235240" y="4309560"/>
            <a:ext cx="1233360" cy="435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483000" y="2365200"/>
            <a:ext cx="668160" cy="1960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1888920" y="3352680"/>
            <a:ext cx="360360" cy="108900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30320" y="4498920"/>
            <a:ext cx="347760" cy="217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98680" y="4133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F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79440" y="4116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59240" y="425124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833480" y="438300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C73E-01A8-46EE-B7ED-ECCB014C2F9E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D1333-D133-44E2-8679-5D5003726954}" type="datetime1">
              <a:rPr lang="en-US"/>
              <a:t>07/30/26</a:t>
            </a:fld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70720" y="205884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942840" y="49878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625760" y="351648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624120" y="50976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264200" y="424188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587920" y="479520"/>
            <a:ext cx="3090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ить сечение, проходящее через точки А1, М и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.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 Найдите линию пересечения секущей плоскости с плоскостью нижнего основания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598760" y="3146400"/>
            <a:ext cx="2104920" cy="19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027080" y="290988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611360" y="2189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317840" y="2359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562200" y="308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37960" y="20304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Задание № 8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16080" y="2100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76680" y="3903840"/>
            <a:ext cx="88920" cy="8856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516480" y="2444760"/>
            <a:ext cx="8856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479760" y="40006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516480" y="2444760"/>
            <a:ext cx="8856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42960" y="311004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46F8-A51F-4FEA-B301-602E4787517D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A2885-B213-4115-9C07-61080AB78847}" type="datetime1">
              <a:rPr lang="en-US"/>
              <a:t>07/30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596960" y="2481120"/>
            <a:ext cx="2800440" cy="1467000"/>
          </a:xfrm>
          <a:custGeom>
            <a:avLst/>
            <a:gdLst/>
            <a:ahLst/>
            <a:rect l="l" t="t" r="r" b="b"/>
            <a:pathLst>
              <a:path w="1764" h="924">
                <a:moveTo>
                  <a:pt x="0" y="412"/>
                </a:moveTo>
                <a:lnTo>
                  <a:pt x="1234" y="0"/>
                </a:lnTo>
                <a:lnTo>
                  <a:pt x="1764" y="220"/>
                </a:lnTo>
                <a:lnTo>
                  <a:pt x="1344" y="924"/>
                </a:lnTo>
                <a:lnTo>
                  <a:pt x="0" y="412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70720" y="205884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42840" y="49878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25760" y="351648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421080" y="50976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105440" y="431316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587920" y="479520"/>
            <a:ext cx="3090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ить сечение, проходящее через точки А1, М и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.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 Найдите линию пересечения секущей плоскости с плоскостью нижнего основания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98760" y="3146400"/>
            <a:ext cx="2104920" cy="19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27080" y="290988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11360" y="2189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317840" y="2359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62200" y="308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37960" y="20304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Задание № 8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16080" y="2100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676680" y="3903840"/>
            <a:ext cx="88920" cy="8856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300560" y="277020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516480" y="2444760"/>
            <a:ext cx="8856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79760" y="40006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321080" y="27795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674400" y="52545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1611360" y="2467080"/>
            <a:ext cx="2003400" cy="682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11360" y="3164040"/>
            <a:ext cx="2104920" cy="784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556080" y="2496960"/>
            <a:ext cx="826920" cy="31932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3716280" y="2816280"/>
            <a:ext cx="666720" cy="1131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700440" y="3933720"/>
            <a:ext cx="3930840" cy="152424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716280" y="5122800"/>
            <a:ext cx="3915000" cy="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10400" y="504972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25760" y="2801880"/>
            <a:ext cx="4470480" cy="182880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354560" y="4498920"/>
            <a:ext cx="4383000" cy="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350200" y="444024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819760" y="4325760"/>
            <a:ext cx="2975040" cy="1146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123760" y="399096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0840" y="3251160"/>
            <a:ext cx="9010800" cy="3483000"/>
          </a:xfrm>
          <a:custGeom>
            <a:avLst/>
            <a:gdLst/>
            <a:ahLst/>
            <a:rect l="l" t="t" r="r" b="b"/>
            <a:pathLst>
              <a:path w="5676" h="2194">
                <a:moveTo>
                  <a:pt x="892" y="448"/>
                </a:moveTo>
                <a:cubicBezTo>
                  <a:pt x="739" y="455"/>
                  <a:pt x="587" y="462"/>
                  <a:pt x="454" y="503"/>
                </a:cubicBezTo>
                <a:cubicBezTo>
                  <a:pt x="321" y="544"/>
                  <a:pt x="169" y="573"/>
                  <a:pt x="97" y="695"/>
                </a:cubicBezTo>
                <a:cubicBezTo>
                  <a:pt x="25" y="817"/>
                  <a:pt x="0" y="1044"/>
                  <a:pt x="24" y="1234"/>
                </a:cubicBezTo>
                <a:cubicBezTo>
                  <a:pt x="48" y="1424"/>
                  <a:pt x="126" y="1696"/>
                  <a:pt x="243" y="1838"/>
                </a:cubicBezTo>
                <a:cubicBezTo>
                  <a:pt x="360" y="1980"/>
                  <a:pt x="550" y="2085"/>
                  <a:pt x="728" y="2085"/>
                </a:cubicBezTo>
                <a:cubicBezTo>
                  <a:pt x="906" y="2085"/>
                  <a:pt x="1019" y="1826"/>
                  <a:pt x="1313" y="1838"/>
                </a:cubicBezTo>
                <a:cubicBezTo>
                  <a:pt x="1607" y="1850"/>
                  <a:pt x="2120" y="2122"/>
                  <a:pt x="2492" y="2158"/>
                </a:cubicBezTo>
                <a:cubicBezTo>
                  <a:pt x="2864" y="2194"/>
                  <a:pt x="3182" y="2112"/>
                  <a:pt x="3544" y="2057"/>
                </a:cubicBezTo>
                <a:cubicBezTo>
                  <a:pt x="3906" y="2002"/>
                  <a:pt x="4357" y="1965"/>
                  <a:pt x="4668" y="1829"/>
                </a:cubicBezTo>
                <a:cubicBezTo>
                  <a:pt x="4979" y="1693"/>
                  <a:pt x="5264" y="1475"/>
                  <a:pt x="5409" y="1243"/>
                </a:cubicBezTo>
                <a:cubicBezTo>
                  <a:pt x="5554" y="1011"/>
                  <a:pt x="5676" y="640"/>
                  <a:pt x="5537" y="439"/>
                </a:cubicBezTo>
                <a:cubicBezTo>
                  <a:pt x="5398" y="238"/>
                  <a:pt x="4857" y="74"/>
                  <a:pt x="4577" y="37"/>
                </a:cubicBezTo>
                <a:cubicBezTo>
                  <a:pt x="4297" y="0"/>
                  <a:pt x="4067" y="187"/>
                  <a:pt x="3855" y="219"/>
                </a:cubicBezTo>
                <a:cubicBezTo>
                  <a:pt x="3643" y="251"/>
                  <a:pt x="3451" y="223"/>
                  <a:pt x="3306" y="229"/>
                </a:cubicBezTo>
                <a:cubicBezTo>
                  <a:pt x="3161" y="235"/>
                  <a:pt x="3097" y="230"/>
                  <a:pt x="2986" y="256"/>
                </a:cubicBezTo>
                <a:cubicBezTo>
                  <a:pt x="2875" y="282"/>
                  <a:pt x="2697" y="363"/>
                  <a:pt x="2639" y="38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11360" y="3798720"/>
            <a:ext cx="2757600" cy="297000"/>
          </a:xfrm>
          <a:custGeom>
            <a:avLst/>
            <a:gdLst/>
            <a:ahLst/>
            <a:rect l="l" t="t" r="r" b="b"/>
            <a:pathLst>
              <a:path w="1737" h="187">
                <a:moveTo>
                  <a:pt x="0" y="103"/>
                </a:moveTo>
                <a:cubicBezTo>
                  <a:pt x="183" y="63"/>
                  <a:pt x="367" y="24"/>
                  <a:pt x="521" y="12"/>
                </a:cubicBezTo>
                <a:cubicBezTo>
                  <a:pt x="675" y="0"/>
                  <a:pt x="775" y="1"/>
                  <a:pt x="923" y="30"/>
                </a:cubicBezTo>
                <a:cubicBezTo>
                  <a:pt x="1071" y="59"/>
                  <a:pt x="1272" y="183"/>
                  <a:pt x="1408" y="185"/>
                </a:cubicBezTo>
                <a:cubicBezTo>
                  <a:pt x="1544" y="187"/>
                  <a:pt x="1682" y="63"/>
                  <a:pt x="1737" y="39"/>
                </a:cubicBezTo>
              </a:path>
            </a:pathLst>
          </a:custGeom>
          <a:noFill/>
          <a:ln w="93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55920" y="3124080"/>
            <a:ext cx="8856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E9A5-B1F2-4CE4-853C-6D47BB47CBBB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D6E8A-6346-4AC3-BD52-16046891C609}" type="datetime1">
              <a:rPr lang="en-US"/>
              <a:t>07/30/26</a:t>
            </a:fld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570720" y="205884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8840" y="47401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11360" y="366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246480" y="4705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14640" y="3618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587920" y="479520"/>
            <a:ext cx="30909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ить сечение, проходящее через точк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М – середину А1В1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и прямую АС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Боковые грани являются прямоугольниками, боковые ребра равны 3 см. Основание – квадрат со стороной 8см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Найти периметр сечения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200" y="2158920"/>
            <a:ext cx="1859040" cy="25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24040" y="215424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595520" y="104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940200" y="1295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73560" y="20210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37960" y="20304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Задание №9 </a:t>
            </a: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самостоятельное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328760" y="1477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906560" y="177012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1611360" y="4064040"/>
            <a:ext cx="2525760" cy="65232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ABB-6C95-4504-BAD6-938FADD9F457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4CDBF-0A22-4909-B02D-5C293915A332}" type="datetime1">
              <a:rPr lang="en-US"/>
              <a:t>07/30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570720" y="205884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158840" y="47401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1360" y="366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46480" y="4705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14640" y="3618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587920" y="479520"/>
            <a:ext cx="309096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ить сечение, проходящее через точку М – середину ребра А1В1 параллельное плоскости ВВ1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1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Боковые грани являются прямоугольниками, боковые ребра равны 3 см. Основание – квадрат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о стороной 8см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Найти периметр сечения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627200" y="2158920"/>
            <a:ext cx="1859040" cy="25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24040" y="215424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595520" y="104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940200" y="1295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73560" y="20210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37960" y="203040"/>
            <a:ext cx="26067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Задание № 10</a:t>
            </a: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самостоятельное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906560" y="177012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328760" y="1477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31D-9AFA-41AF-80BA-E5BB3D2464F8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77396-2690-4015-B498-6D507C2F40C0}" type="datetime1">
              <a:rPr lang="en-US"/>
              <a:t>07/30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11360" y="1509840"/>
            <a:ext cx="2525760" cy="3222360"/>
          </a:xfrm>
          <a:custGeom>
            <a:avLst/>
            <a:gdLst/>
            <a:ahLst/>
            <a:rect l="l" t="t" r="r" b="b"/>
            <a:pathLst>
              <a:path w="1591" h="2030">
                <a:moveTo>
                  <a:pt x="0" y="2030"/>
                </a:moveTo>
                <a:lnTo>
                  <a:pt x="219" y="183"/>
                </a:lnTo>
                <a:lnTo>
                  <a:pt x="978" y="0"/>
                </a:lnTo>
                <a:lnTo>
                  <a:pt x="1591" y="1609"/>
                </a:lnTo>
                <a:lnTo>
                  <a:pt x="0" y="203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70720" y="205884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58840" y="47401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611360" y="366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246480" y="4705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14640" y="3618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587920" y="479520"/>
            <a:ext cx="30909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ить сечение, проходящее через точк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М – середину А1В1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и прямую АС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Боковые грани являются прямоугольниками, боковые ребра равны 3 см. Основание – квадрат со стороной 8см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Найти периметр сечения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627200" y="2158920"/>
            <a:ext cx="1859040" cy="25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4040" y="215424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95520" y="104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940200" y="1295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373560" y="20210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37960" y="20304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Задание №9  </a:t>
            </a: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ответ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328760" y="1477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608200" y="110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906560" y="177012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611360" y="4064040"/>
            <a:ext cx="2525760" cy="65232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1625400" y="1843200"/>
            <a:ext cx="347400" cy="290340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3162240" y="1464840"/>
            <a:ext cx="960480" cy="259884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1987560" y="1506240"/>
            <a:ext cx="1162080" cy="290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10040" y="146376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6B3-CEF3-4A61-8502-085F6E354CDC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6C334-4EDB-4DD0-987E-7570AFB2CA5E}" type="datetime1">
              <a:rPr lang="en-US"/>
              <a:t>07/30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7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63680" y="1509840"/>
            <a:ext cx="1233720" cy="3206520"/>
          </a:xfrm>
          <a:custGeom>
            <a:avLst/>
            <a:gdLst/>
            <a:ahLst/>
            <a:rect l="l" t="t" r="r" b="b"/>
            <a:pathLst>
              <a:path w="777" h="2020">
                <a:moveTo>
                  <a:pt x="9" y="0"/>
                </a:moveTo>
                <a:lnTo>
                  <a:pt x="777" y="402"/>
                </a:lnTo>
                <a:lnTo>
                  <a:pt x="768" y="2020"/>
                </a:lnTo>
                <a:lnTo>
                  <a:pt x="0" y="1609"/>
                </a:lnTo>
                <a:lnTo>
                  <a:pt x="9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887480" y="1857240"/>
            <a:ext cx="593640" cy="2859120"/>
          </a:xfrm>
          <a:custGeom>
            <a:avLst/>
            <a:gdLst/>
            <a:ahLst/>
            <a:rect l="l" t="t" r="r" b="b"/>
            <a:pathLst>
              <a:path w="374" h="1801">
                <a:moveTo>
                  <a:pt x="9" y="0"/>
                </a:moveTo>
                <a:lnTo>
                  <a:pt x="374" y="183"/>
                </a:lnTo>
                <a:lnTo>
                  <a:pt x="365" y="1801"/>
                </a:lnTo>
                <a:lnTo>
                  <a:pt x="0" y="1619"/>
                </a:lnTo>
                <a:lnTo>
                  <a:pt x="9" y="0"/>
                </a:lnTo>
                <a:close/>
              </a:path>
            </a:pathLst>
          </a:custGeom>
          <a:gradFill rotWithShape="0">
            <a:gsLst>
              <a:gs pos="0">
                <a:srgbClr val="7c85f6"/>
              </a:gs>
              <a:gs pos="100000">
                <a:srgbClr val="5964f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570720" y="205884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158840" y="47401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960560" y="3692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246480" y="4705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14640" y="3618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587920" y="479520"/>
            <a:ext cx="309096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ить сечение, проходящее через точку М – середину ребра А1В1 параллельное плоскости ВВ1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1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Боковые грани являются прямоугольниками, боковые ребра равны 8 см. Основание – квадрат со стороной 6 см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Найти периметр сечения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627200" y="2158920"/>
            <a:ext cx="1859040" cy="25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24040" y="215424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95520" y="104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40200" y="1295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373560" y="20210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37960" y="20304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Задание № 10</a:t>
            </a: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(ответ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11320" y="16621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43000" y="4808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862280" y="183672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01880" y="1887480"/>
            <a:ext cx="0" cy="255420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16280" y="1857240"/>
            <a:ext cx="564840" cy="290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481120" y="2147760"/>
            <a:ext cx="0" cy="255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84240" y="4410000"/>
            <a:ext cx="565200" cy="29052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317680" y="2165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F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317600" y="4021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6E6-77C7-48F0-BFA8-3E5F2F6E6038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3228E-3961-482A-9B02-70ADA7737B6B}" type="datetime1">
              <a:rPr lang="en-US"/>
              <a:t>07/30/26</a:t>
            </a:fld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570720" y="205884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58840" y="47401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611360" y="366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246480" y="4705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14640" y="3618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587920" y="479520"/>
            <a:ext cx="30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ить сечение, проходящее через точки М,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, K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627200" y="2158920"/>
            <a:ext cx="1859040" cy="25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24040" y="215424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595520" y="104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40200" y="1295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373560" y="20210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7960" y="203040"/>
            <a:ext cx="32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</a:rPr>
              <a:t>Домашнее задание 1 вариан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009800" y="35672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573200" y="370044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53692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95720" y="333360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286080" y="240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052880" y="3200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D56-D2FC-4BD0-968E-E1D350B15ACB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F49D4-5AEE-4519-84FF-95EB97C7A344}" type="datetime1">
              <a:rPr lang="en-US"/>
              <a:t>07/30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570720" y="205884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158840" y="47401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1360" y="366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46480" y="4705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14640" y="3618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587920" y="479520"/>
            <a:ext cx="30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ить сечение, проходящее через точки М,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, K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627200" y="2158920"/>
            <a:ext cx="1859040" cy="25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24040" y="215424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595520" y="104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40200" y="1295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373560" y="20210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37960" y="203040"/>
            <a:ext cx="318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</a:rPr>
              <a:t>Домашнее задание 2 вариан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009800" y="35672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573200" y="370044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4040" y="2144880"/>
            <a:ext cx="88920" cy="8856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095720" y="333360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532240" y="16207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052880" y="3200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1550-F215-4949-9EC9-9630A8BE698A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AD8B4-A418-4061-A9D2-BF8B1232FF79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570720" y="205884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158840" y="47401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11360" y="366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4705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914640" y="3618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587920" y="479520"/>
            <a:ext cx="30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ить сечение, проходящее через точки М,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, K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627200" y="2158920"/>
            <a:ext cx="1859040" cy="25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24040" y="215424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95520" y="104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940200" y="1295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373560" y="20210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37960" y="203040"/>
            <a:ext cx="323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</a:rPr>
              <a:t>Домашнее задание 3 вариан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009800" y="35672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573200" y="370044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876320" y="180972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095720" y="333360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195560" y="14749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052880" y="3200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A15A-5D69-4E87-8AEF-50ED880BE211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DEACB-6468-47CB-B65C-30234E5F2598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rot="847800">
            <a:off x="947520" y="1108080"/>
            <a:ext cx="1611000" cy="1407600"/>
          </a:xfrm>
          <a:prstGeom prst="parallelogram">
            <a:avLst>
              <a:gd name="adj" fmla="val 25513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 rot="799800">
            <a:off x="4590720" y="4442400"/>
            <a:ext cx="939600" cy="1108080"/>
          </a:xfrm>
          <a:prstGeom prst="triangle">
            <a:avLst>
              <a:gd name="adj" fmla="val 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4844880"/>
            <a:ext cx="1859040" cy="1292400"/>
          </a:xfrm>
          <a:prstGeom prst="parallelogram">
            <a:avLst>
              <a:gd name="adj" fmla="val 24693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1086400">
            <a:off x="6391080" y="1941480"/>
            <a:ext cx="2111040" cy="1459080"/>
          </a:xfrm>
          <a:prstGeom prst="parallelogram">
            <a:avLst>
              <a:gd name="adj" fmla="val 15312"/>
            </a:avLst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05280" y="958680"/>
            <a:ext cx="1859040" cy="1800360"/>
          </a:xfrm>
          <a:prstGeom prst="parallelogram">
            <a:avLst>
              <a:gd name="adj" fmla="val 17726"/>
            </a:avLst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000" y="4064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바탕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바탕"/>
              </a:rPr>
              <a:t>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95560" y="1278000"/>
            <a:ext cx="1549440" cy="149868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49600" y="444600"/>
            <a:ext cx="9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바탕"/>
              </a:rPr>
              <a:t>б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7680" y="3543480"/>
            <a:ext cx="9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바탕"/>
              </a:rPr>
              <a:t>г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53160" y="1104840"/>
            <a:ext cx="9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바탕"/>
              </a:rPr>
              <a:t>в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61040" y="341640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바탕"/>
              </a:rPr>
              <a:t>д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5480" y="4648320"/>
            <a:ext cx="1549440" cy="14983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18160" y="2081160"/>
            <a:ext cx="1549440" cy="149868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2880" y="1219320"/>
            <a:ext cx="1549440" cy="14983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70480" y="4572000"/>
            <a:ext cx="1549440" cy="149868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399-A68B-4CBD-8A6A-EEA1BB0ECDAD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31B5A-1BD6-4CB0-9949-2E69A2EACEA5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184140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639800" y="812880"/>
            <a:ext cx="1959120" cy="39621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798480"/>
            <a:ext cx="3047760" cy="39765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39800" y="4789440"/>
            <a:ext cx="5037120" cy="0"/>
          </a:xfrm>
          <a:prstGeom prst="line">
            <a:avLst/>
          </a:prstGeom>
          <a:ln w="936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25760" y="4789440"/>
            <a:ext cx="1465200" cy="11905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21200" y="4789080"/>
            <a:ext cx="3555720" cy="11905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120840" y="798480"/>
            <a:ext cx="493560" cy="51958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2160" y="46213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67640" y="4575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67240" y="452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11320" y="6040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75000" y="290340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75000" y="2554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54560" y="33336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ить сечение, проходящее через точку М, параллельно грани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D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7960" y="203040"/>
            <a:ext cx="1575000" cy="642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Задание № 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5AA-BDF7-48BC-A9BD-B4C69B555F96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1E3EE-E6D4-4971-8D3D-992CBA87BB9A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51160" y="2903400"/>
            <a:ext cx="2598840" cy="2467080"/>
          </a:xfrm>
          <a:custGeom>
            <a:avLst/>
            <a:gdLst/>
            <a:ahLst/>
            <a:rect l="l" t="t" r="r" b="b"/>
            <a:pathLst>
              <a:path w="1619" h="1563">
                <a:moveTo>
                  <a:pt x="0" y="1563"/>
                </a:moveTo>
                <a:lnTo>
                  <a:pt x="659" y="0"/>
                </a:lnTo>
                <a:lnTo>
                  <a:pt x="1619" y="1545"/>
                </a:lnTo>
                <a:lnTo>
                  <a:pt x="0" y="1563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184140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639800" y="812880"/>
            <a:ext cx="1959120" cy="39621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29160" y="798480"/>
            <a:ext cx="3047760" cy="39765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39800" y="4789440"/>
            <a:ext cx="5037120" cy="0"/>
          </a:xfrm>
          <a:prstGeom prst="line">
            <a:avLst/>
          </a:prstGeom>
          <a:ln w="936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25760" y="4789440"/>
            <a:ext cx="1465200" cy="11905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121200" y="4789080"/>
            <a:ext cx="3555720" cy="11905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120840" y="798480"/>
            <a:ext cx="493560" cy="51958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2160" y="46213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67640" y="4575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67240" y="452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11320" y="6040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75000" y="290340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75000" y="2554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0160" y="2946240"/>
            <a:ext cx="1523880" cy="24084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350800" y="2946240"/>
            <a:ext cx="1060200" cy="24242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79600" y="5370480"/>
            <a:ext cx="2554200" cy="15840"/>
          </a:xfrm>
          <a:prstGeom prst="line">
            <a:avLst/>
          </a:prstGeom>
          <a:ln w="1908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57840" y="5429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08200" y="5313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ACB3-6B00-4514-A041-7CB13439A798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B117C-F927-4C36-AE89-5D336F11512C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184140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639800" y="812880"/>
            <a:ext cx="1959120" cy="39621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29160" y="798480"/>
            <a:ext cx="3047760" cy="39765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39800" y="4789440"/>
            <a:ext cx="5037120" cy="0"/>
          </a:xfrm>
          <a:prstGeom prst="line">
            <a:avLst/>
          </a:prstGeom>
          <a:ln w="936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25760" y="4789440"/>
            <a:ext cx="1465200" cy="11905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21200" y="4789080"/>
            <a:ext cx="3555720" cy="11905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120840" y="798480"/>
            <a:ext cx="493560" cy="51958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2160" y="46213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67640" y="4575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7240" y="452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1320" y="6040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4000" y="2554200"/>
            <a:ext cx="8856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73120" y="21906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57840" y="5429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08200" y="5313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9960" y="533880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54320" y="532440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2560" y="463680"/>
            <a:ext cx="30906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Точки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,N,K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 – середины ребер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C 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= 10 см,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 = 12 см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Доказать, что плоскость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NK 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роходит через  точку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 - середину ребра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Найти периметр сечения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7960" y="203040"/>
            <a:ext cx="1575000" cy="642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Задание № 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320-332C-4713-A273-7A6789D4F89F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F8521-3351-47D7-8C1F-DBDEA2CA580E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3920" y="2598840"/>
            <a:ext cx="2727360" cy="2786040"/>
          </a:xfrm>
          <a:custGeom>
            <a:avLst/>
            <a:gdLst/>
            <a:ahLst/>
            <a:rect l="l" t="t" r="r" b="b"/>
            <a:pathLst>
              <a:path w="1718" h="1755">
                <a:moveTo>
                  <a:pt x="256" y="0"/>
                </a:moveTo>
                <a:lnTo>
                  <a:pt x="1718" y="18"/>
                </a:lnTo>
                <a:lnTo>
                  <a:pt x="1600" y="1755"/>
                </a:lnTo>
                <a:lnTo>
                  <a:pt x="0" y="1737"/>
                </a:lnTo>
                <a:lnTo>
                  <a:pt x="256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184140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639800" y="812880"/>
            <a:ext cx="1959120" cy="39621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29160" y="798480"/>
            <a:ext cx="3047760" cy="39765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39800" y="4789440"/>
            <a:ext cx="5037120" cy="0"/>
          </a:xfrm>
          <a:prstGeom prst="line">
            <a:avLst/>
          </a:prstGeom>
          <a:ln w="936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25760" y="4789440"/>
            <a:ext cx="1465200" cy="11905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121200" y="4789080"/>
            <a:ext cx="3555720" cy="11905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120840" y="798480"/>
            <a:ext cx="493560" cy="51958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2160" y="46213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67640" y="4575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67240" y="452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11320" y="6040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4000" y="2554200"/>
            <a:ext cx="8856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73120" y="21906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57840" y="5429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08200" y="5313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09960" y="533880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54320" y="532440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78080" y="5342040"/>
            <a:ext cx="2554200" cy="428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00360" y="2612880"/>
            <a:ext cx="235116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293560" y="2612880"/>
            <a:ext cx="392040" cy="27576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819320" y="2627280"/>
            <a:ext cx="158760" cy="27432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35360" y="21304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81680" y="257976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2560" y="463680"/>
            <a:ext cx="30906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Точки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,N,K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 – середины ребер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C 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= 10 см,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 = 12 см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Доказать, что плоскость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NK 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роходит через  точку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 - середину ребра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Найти периметр сечения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099-2FC6-4890-AB39-10FFCBEB743B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6E5F4-554A-4819-95D4-32C19DA9452D}" type="datetime1">
              <a:rPr lang="en-US"/>
              <a:t>07/30/26</a:t>
            </a:fld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184140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206880" y="1393920"/>
            <a:ext cx="4238280" cy="4541760"/>
            <a:chOff x="3206880" y="1393920"/>
            <a:chExt cx="4238280" cy="4541760"/>
          </a:xfrm>
        </p:grpSpPr>
        <p:sp>
          <p:nvSpPr>
            <p:cNvPr id="239" name=""/>
            <p:cNvSpPr/>
            <p:nvPr/>
          </p:nvSpPr>
          <p:spPr>
            <a:xfrm flipH="1">
              <a:off x="3218400" y="1406160"/>
              <a:ext cx="1643760" cy="34632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87720" y="1393920"/>
              <a:ext cx="2557440" cy="34758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18400" y="4882320"/>
              <a:ext cx="42267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06880" y="4882320"/>
              <a:ext cx="1229400" cy="10404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4461480" y="4882320"/>
              <a:ext cx="2983680" cy="10404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461480" y="1393920"/>
              <a:ext cx="414000" cy="45417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725560" y="47671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99280" y="49100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83160" y="10335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32160" y="59529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95840" y="352728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73560" y="310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24480" y="20480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22600" y="56768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51640" y="242244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7200" y="552780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32560" y="463680"/>
            <a:ext cx="309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ить сечение через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точки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,N,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К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7960" y="203040"/>
            <a:ext cx="1575000" cy="642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Задание № 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5BC-1761-4506-B773-2955B3AC2363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E0A48-80C8-4B97-AE3F-12085A495401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cdf4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46600" y="2452680"/>
            <a:ext cx="1871640" cy="3338640"/>
          </a:xfrm>
          <a:custGeom>
            <a:avLst/>
            <a:gdLst/>
            <a:ahLst/>
            <a:rect l="l" t="t" r="r" b="b"/>
            <a:pathLst>
              <a:path w="1179" h="2103">
                <a:moveTo>
                  <a:pt x="0" y="695"/>
                </a:moveTo>
                <a:lnTo>
                  <a:pt x="1179" y="0"/>
                </a:lnTo>
                <a:lnTo>
                  <a:pt x="640" y="2103"/>
                </a:lnTo>
                <a:lnTo>
                  <a:pt x="100" y="1957"/>
                </a:lnTo>
                <a:lnTo>
                  <a:pt x="0" y="69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184140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41400" y="4165560"/>
            <a:ext cx="9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1447920"/>
            <a:ext cx="132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80200" y="-179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206880" y="1393920"/>
            <a:ext cx="4238280" cy="4541760"/>
            <a:chOff x="3206880" y="1393920"/>
            <a:chExt cx="4238280" cy="4541760"/>
          </a:xfrm>
        </p:grpSpPr>
        <p:sp>
          <p:nvSpPr>
            <p:cNvPr id="264" name=""/>
            <p:cNvSpPr/>
            <p:nvPr/>
          </p:nvSpPr>
          <p:spPr>
            <a:xfrm flipH="1">
              <a:off x="3218400" y="1406160"/>
              <a:ext cx="1643760" cy="34632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87720" y="1393920"/>
              <a:ext cx="2557440" cy="34758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18400" y="4882320"/>
              <a:ext cx="42267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06880" y="4882320"/>
              <a:ext cx="1229400" cy="10404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461480" y="4882320"/>
              <a:ext cx="2983680" cy="10404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461480" y="1393920"/>
              <a:ext cx="414000" cy="45417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2725560" y="47671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99280" y="49100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83160" y="10335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32160" y="59529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95840" y="352728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73560" y="310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24480" y="20480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65360" y="5707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51640" y="242244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67200" y="552780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2560" y="463680"/>
            <a:ext cx="309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ить сечение через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точки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,N,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К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817440" y="2467080"/>
            <a:ext cx="1900440" cy="1103040"/>
          </a:xfrm>
          <a:prstGeom prst="line">
            <a:avLst/>
          </a:prstGeom>
          <a:ln w="936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46600" y="3598920"/>
            <a:ext cx="174600" cy="19749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404720" y="3554280"/>
            <a:ext cx="2423880" cy="1393920"/>
          </a:xfrm>
          <a:prstGeom prst="line">
            <a:avLst/>
          </a:prstGeom>
          <a:ln w="936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335240" y="4862520"/>
            <a:ext cx="2003400" cy="14400"/>
          </a:xfrm>
          <a:prstGeom prst="line">
            <a:avLst/>
          </a:prstGeom>
          <a:ln w="936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22920" y="574524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25600" y="4843440"/>
            <a:ext cx="88920" cy="88920"/>
          </a:xfrm>
          <a:prstGeom prst="flowChartConnector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99160" y="582120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43084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Р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81040" y="4890960"/>
            <a:ext cx="3468960" cy="914400"/>
          </a:xfrm>
          <a:prstGeom prst="line">
            <a:avLst/>
          </a:prstGeom>
          <a:ln w="936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862160" y="2481120"/>
            <a:ext cx="841320" cy="3295800"/>
          </a:xfrm>
          <a:prstGeom prst="line">
            <a:avLst/>
          </a:prstGeom>
          <a:ln w="936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E19-DABB-4536-8CB7-E25AB7562D83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3A317-0F45-4AD0-8075-5D22F8856921}" type="datetime1">
              <a:rPr lang="en-US"/>
              <a:t>07/30/26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6T18:59:00Z</dcterms:created>
  <dc:creator>ирина</dc:creator>
  <dc:description/>
  <dc:language>en-US</dc:language>
  <cp:lastModifiedBy>User</cp:lastModifiedBy>
  <dcterms:modified xsi:type="dcterms:W3CDTF">2012-02-04T15:05:13Z</dcterms:modified>
  <cp:revision>63</cp:revision>
  <dc:subject/>
  <dc:title>Слайд 1</dc:title>
</cp:coreProperties>
</file>